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Placeholder 70"/>
          <p:cNvSpPr/>
          <p:nvPr/>
        </p:nvSpPr>
        <p:spPr>
          <a:xfrm>
            <a:off x="785880" y="61563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Verdana"/>
              </a:rPr>
              <a:t>Political | Social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3480" cy="12841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Textfeld 4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feld 8"/>
          <p:cNvSpPr/>
          <p:nvPr/>
        </p:nvSpPr>
        <p:spPr>
          <a:xfrm>
            <a:off x="1249200" y="6427800"/>
            <a:ext cx="66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© TNS 2013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1284120" y="6427800"/>
            <a:ext cx="163224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Januar 2013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feld 25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Footer Placeholder 70"/>
          <p:cNvSpPr/>
          <p:nvPr/>
        </p:nvSpPr>
        <p:spPr>
          <a:xfrm>
            <a:off x="784080" y="61707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Umfrage zum Thema Akzeptanz der Kosten der Energiewend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7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70"/>
          <p:cNvSpPr/>
          <p:nvPr/>
        </p:nvSpPr>
        <p:spPr>
          <a:xfrm>
            <a:off x="785880" y="61563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Verdana"/>
              </a:rPr>
              <a:t>Political | Social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Textfeld 4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Textfeld 8"/>
          <p:cNvSpPr/>
          <p:nvPr/>
        </p:nvSpPr>
        <p:spPr>
          <a:xfrm>
            <a:off x="1249200" y="6427800"/>
            <a:ext cx="66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© TNS 2013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6" descr="\\PSTUDIOTERM\Clients\TNS Global\TNS_002 Templates\4. Design\4. Active\PPT Files\19 Jan Redesign\Reference\Property Images\RGB_MASTER_A0_landscape_01_lefttoright.jpg"/>
          <p:cNvPicPr/>
          <p:nvPr/>
        </p:nvPicPr>
        <p:blipFill>
          <a:blip r:embed="rId3"/>
          <a:srcRect l="3" t="28750" r="43661" b="2570"/>
          <a:stretch/>
        </p:blipFill>
        <p:spPr>
          <a:xfrm>
            <a:off x="2390760" y="0"/>
            <a:ext cx="6753240" cy="582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3480" cy="12841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44520"/>
            <a:ext cx="5364000" cy="2400480"/>
          </a:xfrm>
          <a:prstGeom prst="rect">
            <a:avLst/>
          </a:prstGeom>
          <a:noFill/>
          <a:ln w="0">
            <a:noFill/>
          </a:ln>
        </p:spPr>
        <p:txBody>
          <a:bodyPr lIns="252000" rIns="277200" tIns="180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mfrage zum Thema</a:t>
            </a:r>
            <a:br>
              <a:rPr sz="3800"/>
            </a:br>
            <a:r>
              <a:rPr b="0" lang="de-DE" sz="3200" spc="-1" strike="noStrike">
                <a:solidFill>
                  <a:srgbClr val="737373"/>
                </a:solidFill>
                <a:latin typeface="Verdana"/>
              </a:rPr>
              <a:t>Akzeptanz der Kosten der Energiewend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Januar 2013</a:t>
            </a:r>
            <a:br>
              <a:rPr sz="1200"/>
            </a:b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Studiensteckbrief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Umfrage zum Thema Akzeptanz der Kosten der Energiewende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5200" y="1557360"/>
          <a:ext cx="8572680" cy="3510000"/>
        </p:xfrm>
        <a:graphic>
          <a:graphicData uri="http://schemas.openxmlformats.org/drawingml/2006/table">
            <a:tbl>
              <a:tblPr/>
              <a:tblGrid>
                <a:gridCol w="2424240"/>
                <a:gridCol w="6148440"/>
              </a:tblGrid>
              <a:tr h="70956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tut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c50017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NS Emnid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dien- und Sozialforschung GmbH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9360">
                      <a:solidFill>
                        <a:srgbClr val="c50017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Methode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elefonbefragung (CATI Mehrthemenumfrage)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68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Grundgesamtheit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Bundesdeutsche Wohnbevölkerung ab 14 Jahren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Stichprobe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 = 1.00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Erhebungszeitraum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c50017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9. bis 20. Dezember 201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9360">
                      <a:solidFill>
                        <a:srgbClr val="c5001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hart Placeholder 7" descr=""/>
          <p:cNvPicPr/>
          <p:nvPr/>
        </p:nvPicPr>
        <p:blipFill>
          <a:blip r:embed="rId1"/>
          <a:stretch/>
        </p:blipFill>
        <p:spPr>
          <a:xfrm>
            <a:off x="1008000" y="1446120"/>
            <a:ext cx="7265880" cy="3846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Energiewende als Investitionsprogramm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2040" y="5083200"/>
            <a:ext cx="75625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Inwiefern stimmen Sie mit der folgenden Aussage überein?                                                                                                                                                 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„Die Energiewende ist ein Investitionsprogramm, welches das Leben zukünftiger Generationen verbessert. Es ist darum richtig, dass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eutschland vorangeht und massiv in die Energiewende investiert, auch wenn damit vorübergehend höhere Kosten für die Bürger und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Unternehmen verbunden sind.“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-3600" y="542880"/>
            <a:ext cx="925524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Über zwei Drittel sehen Energiewende als lohnenswerte Pionierleistung – auch wenn vorübergehend mit erhöhten Kosten zu rechnen ist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6" name="Textfeld 6"/>
          <p:cNvSpPr/>
          <p:nvPr/>
        </p:nvSpPr>
        <p:spPr>
          <a:xfrm>
            <a:off x="3323880" y="184644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feld 7"/>
          <p:cNvSpPr/>
          <p:nvPr/>
        </p:nvSpPr>
        <p:spPr>
          <a:xfrm>
            <a:off x="22680" y="5092560"/>
            <a:ext cx="962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0800" rIns="108000" tIns="360000" bIns="1224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Rundungs-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differenzen 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möglich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-60480" y="487440"/>
            <a:ext cx="9245880" cy="5008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Energiewende als Investitionsprogramm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Unabhängig von politischen Präferenzen überwiegt Zustimmung – am stärksten jedoch bei den Anhängern der Grünen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1" name="Textfeld 10"/>
          <p:cNvSpPr/>
          <p:nvPr/>
        </p:nvSpPr>
        <p:spPr>
          <a:xfrm>
            <a:off x="1410840" y="170028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feil nach oben 11"/>
          <p:cNvSpPr/>
          <p:nvPr/>
        </p:nvSpPr>
        <p:spPr>
          <a:xfrm rot="10800000">
            <a:off x="899640" y="3504960"/>
            <a:ext cx="244440" cy="874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feil nach oben 12"/>
          <p:cNvSpPr/>
          <p:nvPr/>
        </p:nvSpPr>
        <p:spPr>
          <a:xfrm>
            <a:off x="900000" y="2476440"/>
            <a:ext cx="244440" cy="8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feld 13"/>
          <p:cNvSpPr/>
          <p:nvPr/>
        </p:nvSpPr>
        <p:spPr>
          <a:xfrm rot="16200000">
            <a:off x="270720" y="2765160"/>
            <a:ext cx="91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timme voll/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eher zu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feld 14"/>
          <p:cNvSpPr/>
          <p:nvPr/>
        </p:nvSpPr>
        <p:spPr>
          <a:xfrm rot="16200000">
            <a:off x="100800" y="3890520"/>
            <a:ext cx="123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timme gar nicht/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eher nicht zu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92040" y="5083200"/>
            <a:ext cx="75625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Inwiefern stimmen Sie mit der folgenden Aussage überein?                                                                                                                                                 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„Die Energiewende ist ein Investitionsprogramm, welches das Leben zukünftiger Generationen verbessert. Es ist darum richtig, dass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eutschland vorangeht und massiv in die Energiewende investiert, auch wenn damit vorübergehend höhere Kosten für die Bürger und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Unternehmen verbunden sind.“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7" name="Textfeld 16"/>
          <p:cNvSpPr/>
          <p:nvPr/>
        </p:nvSpPr>
        <p:spPr>
          <a:xfrm>
            <a:off x="179280" y="120816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f7f7f"/>
                </a:solidFill>
                <a:latin typeface="Verdana"/>
              </a:rPr>
              <a:t>(Auswertung nach Parteipräferenz*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feld 17"/>
          <p:cNvSpPr/>
          <p:nvPr/>
        </p:nvSpPr>
        <p:spPr>
          <a:xfrm>
            <a:off x="1195560" y="4869000"/>
            <a:ext cx="69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* Auswertung nur für Parteipräferenzen mit einer Basis von mindestens 40 Befragten, kleinere  Parteien sind unter „Sonstige“ zusammengefasst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6" descr=""/>
          <p:cNvPicPr/>
          <p:nvPr/>
        </p:nvPicPr>
        <p:blipFill>
          <a:blip r:embed="rId1"/>
          <a:stretch/>
        </p:blipFill>
        <p:spPr>
          <a:xfrm>
            <a:off x="-60480" y="655560"/>
            <a:ext cx="9245880" cy="5008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Energiewende als Investitionsprogramm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Zweifel werden am ehesten von Befragten mittlerer Einkommens-schichten geäußert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Textfeld 10"/>
          <p:cNvSpPr/>
          <p:nvPr/>
        </p:nvSpPr>
        <p:spPr>
          <a:xfrm>
            <a:off x="1410840" y="160344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feil nach oben 11"/>
          <p:cNvSpPr/>
          <p:nvPr/>
        </p:nvSpPr>
        <p:spPr>
          <a:xfrm rot="10800000">
            <a:off x="899640" y="3544920"/>
            <a:ext cx="244440" cy="8762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feil nach oben 12"/>
          <p:cNvSpPr/>
          <p:nvPr/>
        </p:nvSpPr>
        <p:spPr>
          <a:xfrm>
            <a:off x="900000" y="2516040"/>
            <a:ext cx="244440" cy="87660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feld 13"/>
          <p:cNvSpPr/>
          <p:nvPr/>
        </p:nvSpPr>
        <p:spPr>
          <a:xfrm rot="16200000">
            <a:off x="270720" y="2806200"/>
            <a:ext cx="91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timme voll/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eher zu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feld 16"/>
          <p:cNvSpPr/>
          <p:nvPr/>
        </p:nvSpPr>
        <p:spPr>
          <a:xfrm rot="16200000">
            <a:off x="100800" y="3937320"/>
            <a:ext cx="123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timme gar nicht/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eher nicht zu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92040" y="5083200"/>
            <a:ext cx="75625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Inwiefern stimmen Sie mit der folgenden Aussage überein?                                                                                                                                                 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„Die Energiewende ist ein Investitionsprogramm, welches das Leben zukünftiger Generationen verbessert. Es ist darum richtig, dass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eutschland vorangeht und massiv in die Energiewende investiert, auch wenn damit vorübergehend höhere Kosten für die Bürger und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Unternehmen verbunden sind.“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8" name="Textfeld 2"/>
          <p:cNvSpPr/>
          <p:nvPr/>
        </p:nvSpPr>
        <p:spPr>
          <a:xfrm>
            <a:off x="179280" y="128736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f7f7f"/>
                </a:solidFill>
                <a:latin typeface="Verdana"/>
              </a:rPr>
              <a:t>(Auswertung nach Haushaltsnettoeinkommen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03:35Z</dcterms:created>
  <dc:creator>Schneider-Haase, Torsten (TSBIE)</dc:creator>
  <dc:description/>
  <dc:language>en-US</dc:language>
  <cp:lastModifiedBy>Schneider-Haase, Torsten (TSBIE)</cp:lastModifiedBy>
  <cp:lastPrinted>2012-06-28T08:32:37Z</cp:lastPrinted>
  <dcterms:modified xsi:type="dcterms:W3CDTF">2013-01-15T09:45:08Z</dcterms:modified>
  <cp:revision>47</cp:revision>
  <dc:subject/>
  <dc:title>Umfrage zu den Themen Emissionsreduktion und Energiewende  Dezember 2012</dc:title>
</cp:coreProperties>
</file>