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13992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648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204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408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204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408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544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648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13992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648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204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408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204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408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544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648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0" y="313992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648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9204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84080" y="103176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9204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84080" y="3139920"/>
            <a:ext cx="2944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544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6480" y="313992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6480" y="1031760"/>
            <a:ext cx="446292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139920"/>
            <a:ext cx="9145440" cy="19249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Placeholder 70"/>
          <p:cNvSpPr/>
          <p:nvPr/>
        </p:nvSpPr>
        <p:spPr>
          <a:xfrm>
            <a:off x="785880" y="6156360"/>
            <a:ext cx="7554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0" rIns="90000" tIns="9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33"/>
                </a:solidFill>
                <a:latin typeface="Verdana"/>
              </a:rPr>
              <a:t>Political | Social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73480" cy="12841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" name="Straight Connector 69"/>
          <p:cNvSpPr/>
          <p:nvPr/>
        </p:nvSpPr>
        <p:spPr>
          <a:xfrm>
            <a:off x="282600" y="5946840"/>
            <a:ext cx="8572320" cy="0"/>
          </a:xfrm>
          <a:prstGeom prst="line">
            <a:avLst/>
          </a:prstGeom>
          <a:ln w="9360">
            <a:solidFill>
              <a:srgbClr val="52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Picture 2" descr="\\PSTUDIOTERM\Clients\TNS Global\TNS_002 Templates\4. Design\1. Assets\Logos\TNS_LOGOS\final brand jpgs\TNS_logo_rgb.jpg"/>
          <p:cNvPicPr/>
          <p:nvPr/>
        </p:nvPicPr>
        <p:blipFill>
          <a:blip r:embed="rId2"/>
          <a:stretch/>
        </p:blipFill>
        <p:spPr>
          <a:xfrm>
            <a:off x="282600" y="607212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Textfeld 4"/>
          <p:cNvSpPr/>
          <p:nvPr/>
        </p:nvSpPr>
        <p:spPr>
          <a:xfrm>
            <a:off x="785880" y="5946840"/>
            <a:ext cx="7554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0" rIns="90000" tIns="900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d10074"/>
                </a:solidFill>
                <a:latin typeface="Verdana"/>
              </a:rPr>
              <a:t>TNS Emni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feld 8"/>
          <p:cNvSpPr/>
          <p:nvPr/>
        </p:nvSpPr>
        <p:spPr>
          <a:xfrm>
            <a:off x="1249200" y="6427800"/>
            <a:ext cx="665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Verdana"/>
              </a:rPr>
              <a:t>© TNS 2013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3"/>
          <p:cNvSpPr/>
          <p:nvPr/>
        </p:nvSpPr>
        <p:spPr>
          <a:xfrm>
            <a:off x="1284120" y="6427800"/>
            <a:ext cx="163224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Verdana"/>
              </a:rPr>
              <a:t>Januar 2013    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Textfeld 25"/>
          <p:cNvSpPr/>
          <p:nvPr/>
        </p:nvSpPr>
        <p:spPr>
          <a:xfrm>
            <a:off x="785880" y="5946840"/>
            <a:ext cx="7554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0" rIns="90000" tIns="900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d10074"/>
                </a:solidFill>
                <a:latin typeface="Verdana"/>
              </a:rPr>
              <a:t>TNS Emni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Footer Placeholder 70"/>
          <p:cNvSpPr/>
          <p:nvPr/>
        </p:nvSpPr>
        <p:spPr>
          <a:xfrm>
            <a:off x="784080" y="6170760"/>
            <a:ext cx="7554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0" rIns="90000" tIns="900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Umfrage zum Thema EU-Emissionsreduktio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031760"/>
            <a:ext cx="9145440" cy="403560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12400" bIns="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7" name="Straight Connector 69"/>
          <p:cNvSpPr/>
          <p:nvPr/>
        </p:nvSpPr>
        <p:spPr>
          <a:xfrm>
            <a:off x="282600" y="5946840"/>
            <a:ext cx="8572320" cy="0"/>
          </a:xfrm>
          <a:prstGeom prst="line">
            <a:avLst/>
          </a:prstGeom>
          <a:ln w="9360">
            <a:solidFill>
              <a:srgbClr val="52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Picture 2" descr="\\PSTUDIOTERM\Clients\TNS Global\TNS_002 Templates\4. Design\1. Assets\Logos\TNS_LOGOS\final brand jpgs\TNS_logo_rgb.jpg"/>
          <p:cNvPicPr/>
          <p:nvPr/>
        </p:nvPicPr>
        <p:blipFill>
          <a:blip r:embed="rId2"/>
          <a:stretch/>
        </p:blipFill>
        <p:spPr>
          <a:xfrm>
            <a:off x="282600" y="607212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70"/>
          <p:cNvSpPr/>
          <p:nvPr/>
        </p:nvSpPr>
        <p:spPr>
          <a:xfrm>
            <a:off x="785880" y="6156360"/>
            <a:ext cx="7554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0" rIns="90000" tIns="9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33"/>
                </a:solidFill>
                <a:latin typeface="Verdana"/>
              </a:rPr>
              <a:t>Political | Social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Straight Connector 69"/>
          <p:cNvSpPr/>
          <p:nvPr/>
        </p:nvSpPr>
        <p:spPr>
          <a:xfrm>
            <a:off x="282600" y="5946840"/>
            <a:ext cx="8572320" cy="0"/>
          </a:xfrm>
          <a:prstGeom prst="line">
            <a:avLst/>
          </a:prstGeom>
          <a:ln w="9360">
            <a:solidFill>
              <a:srgbClr val="52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2" descr="\\PSTUDIOTERM\Clients\TNS Global\TNS_002 Templates\4. Design\1. Assets\Logos\TNS_LOGOS\final brand jpgs\TNS_logo_rgb.jpg"/>
          <p:cNvPicPr/>
          <p:nvPr/>
        </p:nvPicPr>
        <p:blipFill>
          <a:blip r:embed="rId2"/>
          <a:stretch/>
        </p:blipFill>
        <p:spPr>
          <a:xfrm>
            <a:off x="282600" y="607212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88" name="Textfeld 4"/>
          <p:cNvSpPr/>
          <p:nvPr/>
        </p:nvSpPr>
        <p:spPr>
          <a:xfrm>
            <a:off x="785880" y="5946840"/>
            <a:ext cx="7554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0" rIns="90000" tIns="900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d10074"/>
                </a:solidFill>
                <a:latin typeface="Verdana"/>
              </a:rPr>
              <a:t>TNS Emni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Textfeld 8"/>
          <p:cNvSpPr/>
          <p:nvPr/>
        </p:nvSpPr>
        <p:spPr>
          <a:xfrm>
            <a:off x="1249200" y="6427800"/>
            <a:ext cx="665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Verdana"/>
              </a:rPr>
              <a:t>© TNS 2013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0" name="Picture 6" descr="\\PSTUDIOTERM\Clients\TNS Global\TNS_002 Templates\4. Design\4. Active\PPT Files\19 Jan Redesign\Reference\Property Images\RGB_MASTER_A0_landscape_01_lefttoright.jpg"/>
          <p:cNvPicPr/>
          <p:nvPr/>
        </p:nvPicPr>
        <p:blipFill>
          <a:blip r:embed="rId3"/>
          <a:srcRect l="3" t="28750" r="43661" b="2570"/>
          <a:stretch/>
        </p:blipFill>
        <p:spPr>
          <a:xfrm>
            <a:off x="2390760" y="0"/>
            <a:ext cx="6753240" cy="582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73480" cy="128412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244520"/>
            <a:ext cx="5364000" cy="2400480"/>
          </a:xfrm>
          <a:prstGeom prst="rect">
            <a:avLst/>
          </a:prstGeom>
          <a:noFill/>
          <a:ln w="0">
            <a:noFill/>
          </a:ln>
        </p:spPr>
        <p:txBody>
          <a:bodyPr lIns="252000" rIns="277200" tIns="180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Umfrage zum Thema</a:t>
            </a:r>
            <a:br>
              <a:rPr sz="3800"/>
            </a:br>
            <a:r>
              <a:rPr b="0" lang="de-DE" sz="3200" spc="-1" strike="noStrike">
                <a:solidFill>
                  <a:srgbClr val="737373"/>
                </a:solidFill>
                <a:latin typeface="Verdana"/>
              </a:rPr>
              <a:t>EU-Emissionsreduktion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Januar 2013</a:t>
            </a:r>
            <a:br>
              <a:rPr sz="1200"/>
            </a:b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Studiensteckbrief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0" y="542880"/>
            <a:ext cx="9145800" cy="74448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3600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7f7f7f"/>
                </a:solidFill>
                <a:latin typeface="Verdana"/>
              </a:rPr>
              <a:t>Umfrage zum Thema EU-Emissionsreduktion</a:t>
            </a:r>
            <a:endParaRPr b="1" lang="en-US" sz="1900" spc="-1" strike="noStrike">
              <a:solidFill>
                <a:srgbClr val="333333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5200" y="1557360"/>
          <a:ext cx="8572680" cy="3510000"/>
        </p:xfrm>
        <a:graphic>
          <a:graphicData uri="http://schemas.openxmlformats.org/drawingml/2006/table">
            <a:tbl>
              <a:tblPr/>
              <a:tblGrid>
                <a:gridCol w="2424240"/>
                <a:gridCol w="6148440"/>
              </a:tblGrid>
              <a:tr h="709560">
                <a:tc>
                  <a:txBody>
                    <a:bodyPr lIns="180000" rIns="32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itut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180000" marR="324000">
                    <a:lnL w="9360">
                      <a:solidFill>
                        <a:srgbClr val="c50017"/>
                      </a:solidFill>
                    </a:lnL>
                    <a:lnR>
                      <a:noFill/>
                    </a:lnR>
                    <a:lnT w="9360">
                      <a:solidFill>
                        <a:srgbClr val="c50017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50017"/>
                    </a:solidFill>
                  </a:tcPr>
                </a:tc>
                <a:tc>
                  <a:txBody>
                    <a:bodyPr lIns="360000" rIns="6552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TNS Emnid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Medien- und Sozialforschung GmbH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60000" marR="65520">
                    <a:lnL>
                      <a:noFill/>
                    </a:lnL>
                    <a:lnR w="9360">
                      <a:solidFill>
                        <a:srgbClr val="c50017"/>
                      </a:solidFill>
                    </a:lnR>
                    <a:lnT w="9360">
                      <a:solidFill>
                        <a:srgbClr val="c50017"/>
                      </a:solidFill>
                    </a:lnT>
                    <a:lnB w="5760">
                      <a:solidFill>
                        <a:srgbClr val="d6d6d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180000" rIns="32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r" pos="1077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Methode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180000" marR="324000">
                    <a:lnL w="9360">
                      <a:solidFill>
                        <a:srgbClr val="c50017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50017"/>
                    </a:solidFill>
                  </a:tcPr>
                </a:tc>
                <a:tc>
                  <a:txBody>
                    <a:bodyPr lIns="360000" rIns="6552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Telefonbefragung (CATI Mehrthemenumfrage)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60000" marR="65520">
                    <a:lnL>
                      <a:noFill/>
                    </a:lnL>
                    <a:lnR w="9360">
                      <a:solidFill>
                        <a:srgbClr val="c50017"/>
                      </a:solidFill>
                    </a:lnR>
                    <a:lnT w="5760">
                      <a:solidFill>
                        <a:srgbClr val="d6d6d6"/>
                      </a:solidFill>
                    </a:lnT>
                    <a:lnB w="5760">
                      <a:solidFill>
                        <a:srgbClr val="d6d6d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6680">
                <a:tc>
                  <a:txBody>
                    <a:bodyPr lIns="180000" rIns="32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r" pos="1077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Grundgesamtheit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180000" marR="324000">
                    <a:lnL w="9360">
                      <a:solidFill>
                        <a:srgbClr val="c50017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50017"/>
                    </a:solidFill>
                  </a:tcPr>
                </a:tc>
                <a:tc>
                  <a:txBody>
                    <a:bodyPr lIns="360000" rIns="6552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Bundesdeutsche Wohnbevölkerung ab 14 Jahren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60000" marR="65520">
                    <a:lnL>
                      <a:noFill/>
                    </a:lnL>
                    <a:lnR w="9360">
                      <a:solidFill>
                        <a:srgbClr val="c50017"/>
                      </a:solidFill>
                    </a:lnR>
                    <a:lnT w="5760">
                      <a:solidFill>
                        <a:srgbClr val="d6d6d6"/>
                      </a:solidFill>
                    </a:lnT>
                    <a:lnB w="5760">
                      <a:solidFill>
                        <a:srgbClr val="d6d6d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180000" rIns="32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r" pos="1077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Stichprobe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180000" marR="324000">
                    <a:lnL w="9360">
                      <a:solidFill>
                        <a:srgbClr val="c50017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50017"/>
                    </a:solidFill>
                  </a:tcPr>
                </a:tc>
                <a:tc>
                  <a:txBody>
                    <a:bodyPr lIns="360000" rIns="6552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n = 1.00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60000" marR="65520">
                    <a:lnL>
                      <a:noFill/>
                    </a:lnL>
                    <a:lnR w="9360">
                      <a:solidFill>
                        <a:srgbClr val="c50017"/>
                      </a:solidFill>
                    </a:lnR>
                    <a:lnT w="5760">
                      <a:solidFill>
                        <a:srgbClr val="d6d6d6"/>
                      </a:solidFill>
                    </a:lnT>
                    <a:lnB w="5760">
                      <a:solidFill>
                        <a:srgbClr val="d6d6d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6960">
                <a:tc>
                  <a:txBody>
                    <a:bodyPr lIns="180000" rIns="32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r" pos="1077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Erhebungszeitraum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180000" marR="324000">
                    <a:lnL w="9360">
                      <a:solidFill>
                        <a:srgbClr val="c50017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c50017"/>
                      </a:solidFill>
                    </a:lnB>
                    <a:solidFill>
                      <a:srgbClr val="c50017"/>
                    </a:solidFill>
                  </a:tcPr>
                </a:tc>
                <a:tc>
                  <a:txBody>
                    <a:bodyPr lIns="360000" rIns="6552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9. bis 20. Dezember 2012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60000" marR="65520">
                    <a:lnL>
                      <a:noFill/>
                    </a:lnL>
                    <a:lnR w="9360">
                      <a:solidFill>
                        <a:srgbClr val="c50017"/>
                      </a:solidFill>
                    </a:lnR>
                    <a:lnT w="5760">
                      <a:solidFill>
                        <a:srgbClr val="d6d6d6"/>
                      </a:solidFill>
                    </a:lnT>
                    <a:lnB w="9360">
                      <a:solidFill>
                        <a:srgbClr val="c5001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hart Placeholder 7" descr=""/>
          <p:cNvPicPr/>
          <p:nvPr/>
        </p:nvPicPr>
        <p:blipFill>
          <a:blip r:embed="rId1"/>
          <a:stretch/>
        </p:blipFill>
        <p:spPr>
          <a:xfrm>
            <a:off x="1001880" y="1371600"/>
            <a:ext cx="7265880" cy="3846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EU-Ziel für die Senkung des Treibhausgas-Ausstoßes 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2040" y="5425920"/>
            <a:ext cx="75625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90000" anchor="b">
            <a:normAutofit fontScale="72000"/>
          </a:bodyPr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Frage: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Die EU hat ihr Ziel einer Senkung des Treibhausgas-Ausstoßes um 20 Prozent bis zum Jahre 2020 schon jetzt fast erreicht.</a:t>
            </a:r>
            <a:br>
              <a:rPr sz="800"/>
            </a:b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Sollte die EU deswegen ein ehrgeizigeres Ziel bei der Senkung des Treibhausgas-Ausstoßes verfolgen und diesen bis zum Jahr 2020 </a:t>
            </a:r>
            <a:br>
              <a:rPr sz="800"/>
            </a:b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um 30 anstatt um 20 Prozent senken?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Basis: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1.001 Befragte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-3600" y="542880"/>
            <a:ext cx="9145800" cy="74448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3600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7f7f7f"/>
                </a:solidFill>
                <a:latin typeface="Verdana"/>
              </a:rPr>
              <a:t>Knapp drei Viertel sind für ehrgeizigere EU-Zielmarke</a:t>
            </a:r>
            <a:endParaRPr b="1" lang="en-US" sz="19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6" name="Textfeld 7"/>
          <p:cNvSpPr/>
          <p:nvPr/>
        </p:nvSpPr>
        <p:spPr>
          <a:xfrm>
            <a:off x="3323880" y="1771560"/>
            <a:ext cx="1958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%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Textfeld 6"/>
          <p:cNvSpPr/>
          <p:nvPr/>
        </p:nvSpPr>
        <p:spPr>
          <a:xfrm>
            <a:off x="22680" y="5092560"/>
            <a:ext cx="962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0800" rIns="108000" tIns="360000" bIns="1224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7f7f7f"/>
                </a:solidFill>
                <a:latin typeface="Verdana"/>
              </a:rPr>
              <a:t>Rundungs-</a:t>
            </a:r>
            <a:br>
              <a:rPr sz="800"/>
            </a:br>
            <a:r>
              <a:rPr b="0" lang="de-DE" sz="800" spc="-1" strike="noStrike">
                <a:solidFill>
                  <a:srgbClr val="7f7f7f"/>
                </a:solidFill>
                <a:latin typeface="Verdana"/>
              </a:rPr>
              <a:t>differenzen </a:t>
            </a:r>
            <a:br>
              <a:rPr sz="800"/>
            </a:br>
            <a:r>
              <a:rPr b="0" lang="de-DE" sz="800" spc="-1" strike="noStrike">
                <a:solidFill>
                  <a:srgbClr val="7f7f7f"/>
                </a:solidFill>
                <a:latin typeface="Verdana"/>
              </a:rPr>
              <a:t>möglich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ntent Placeholder 6" descr=""/>
          <p:cNvPicPr/>
          <p:nvPr/>
        </p:nvPicPr>
        <p:blipFill>
          <a:blip r:embed="rId1"/>
          <a:stretch/>
        </p:blipFill>
        <p:spPr>
          <a:xfrm>
            <a:off x="-60480" y="498600"/>
            <a:ext cx="9245880" cy="5008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EU-Ziel für die Senkung des Treibhausgas-Ausstoßes 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2040" y="5425920"/>
            <a:ext cx="75625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90000" anchor="b">
            <a:normAutofit fontScale="72000"/>
          </a:bodyPr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Frage: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Die EU hat ihr Ziel einer Senkung des Treibhausgas-Ausstoßes um 20 Prozent bis zum Jahre 2020 schon jetzt fast erreicht.</a:t>
            </a:r>
            <a:br>
              <a:rPr sz="800"/>
            </a:b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Sollte die EU deswegen ein ehrgeizigeres Ziel bei der Senkung des Treibhausgas-Ausstoßes verfolgen und diesen bis zum Jahr 2020 </a:t>
            </a:r>
            <a:br>
              <a:rPr sz="800"/>
            </a:b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um 30 anstatt um 20 Prozent senken?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Basis: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1.001 Befragte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-3600" y="542880"/>
            <a:ext cx="9145800" cy="74448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3600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7f7f7f"/>
                </a:solidFill>
                <a:latin typeface="Verdana"/>
              </a:rPr>
              <a:t>73 Prozent aller Befragten sprechen sich für ambitionierteres Reduktionsziel aus</a:t>
            </a:r>
            <a:endParaRPr b="1" lang="en-US" sz="19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2" name="Textfeld 11"/>
          <p:cNvSpPr/>
          <p:nvPr/>
        </p:nvSpPr>
        <p:spPr>
          <a:xfrm>
            <a:off x="1410840" y="1644480"/>
            <a:ext cx="1958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%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feil nach oben 7"/>
          <p:cNvSpPr/>
          <p:nvPr/>
        </p:nvSpPr>
        <p:spPr>
          <a:xfrm rot="10800000">
            <a:off x="899640" y="3476520"/>
            <a:ext cx="244440" cy="87624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feil nach oben 9"/>
          <p:cNvSpPr/>
          <p:nvPr/>
        </p:nvSpPr>
        <p:spPr>
          <a:xfrm>
            <a:off x="900000" y="2449440"/>
            <a:ext cx="244440" cy="87480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feld 2"/>
          <p:cNvSpPr/>
          <p:nvPr/>
        </p:nvSpPr>
        <p:spPr>
          <a:xfrm rot="16200000">
            <a:off x="363960" y="2805480"/>
            <a:ext cx="76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sehr/eher</a:t>
            </a:r>
            <a:br>
              <a:rPr sz="1000"/>
            </a:b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dafür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feld 10"/>
          <p:cNvSpPr/>
          <p:nvPr/>
        </p:nvSpPr>
        <p:spPr>
          <a:xfrm rot="16200000">
            <a:off x="357480" y="3587040"/>
            <a:ext cx="76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sehr/eher</a:t>
            </a:r>
            <a:br>
              <a:rPr sz="1000"/>
            </a:b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dageg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Textfeld 12"/>
          <p:cNvSpPr/>
          <p:nvPr/>
        </p:nvSpPr>
        <p:spPr>
          <a:xfrm>
            <a:off x="179280" y="1208160"/>
            <a:ext cx="43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f7f7f"/>
                </a:solidFill>
                <a:latin typeface="Verdana"/>
              </a:rPr>
              <a:t>(Auswertung nach Parteipräferenz*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Textfeld 13"/>
          <p:cNvSpPr/>
          <p:nvPr/>
        </p:nvSpPr>
        <p:spPr>
          <a:xfrm>
            <a:off x="1211400" y="4906800"/>
            <a:ext cx="69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Verdana"/>
              </a:rPr>
              <a:t>* Auswertung nur für Parteipräferenzen mit einer Basis von mindestens 40 Befragten, kleinere  Parteien sind unter „Sonstige“ zusammengefasst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hart Placeholder 7" descr=""/>
          <p:cNvPicPr/>
          <p:nvPr/>
        </p:nvPicPr>
        <p:blipFill>
          <a:blip r:embed="rId1"/>
          <a:stretch/>
        </p:blipFill>
        <p:spPr>
          <a:xfrm>
            <a:off x="1008000" y="1370160"/>
            <a:ext cx="7265880" cy="38462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Forderung nach intensiven Verhandlungen mit Polen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2040" y="5425920"/>
            <a:ext cx="75625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90000" anchor="b">
            <a:normAutofit fontScale="75000"/>
          </a:bodyPr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Frage: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In der EU verhindert insbesondere Polen die ehrgeizigeren Ziele bei der Senkung des CO2-Ausstoßes. Viele EU-Regierungen hoffen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darauf, dass Deutschland hier zusammen mit Polen eine Lösung findet. Sollte sich Bundeskanzlerin Angela Merkel Zeit für intensive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Verhandlungen mit Polen nehmen, um das ehrgeizigere Ziel bei der Senkung des CO2-Ausstoßes in der EU erreichen zu können?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Basis: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1.001 Befragte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-3600" y="542880"/>
            <a:ext cx="9471240" cy="74448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3600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7f7f7f"/>
                </a:solidFill>
                <a:latin typeface="Verdana"/>
              </a:rPr>
              <a:t>Gut drei von vier Bundesbürgern würden verstärkte Verhandlungen mit Polen über ehrgeizigere Emissionsreduktionsziele begrüßen</a:t>
            </a:r>
            <a:endParaRPr b="1" lang="en-US" sz="19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3" name="Textfeld 6"/>
          <p:cNvSpPr/>
          <p:nvPr/>
        </p:nvSpPr>
        <p:spPr>
          <a:xfrm>
            <a:off x="3323880" y="1771560"/>
            <a:ext cx="1958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%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Textfeld 7"/>
          <p:cNvSpPr/>
          <p:nvPr/>
        </p:nvSpPr>
        <p:spPr>
          <a:xfrm>
            <a:off x="22680" y="5092560"/>
            <a:ext cx="962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0800" rIns="108000" tIns="360000" bIns="1224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7f7f7f"/>
                </a:solidFill>
                <a:latin typeface="Verdana"/>
              </a:rPr>
              <a:t>Rundungs-</a:t>
            </a:r>
            <a:br>
              <a:rPr sz="800"/>
            </a:br>
            <a:r>
              <a:rPr b="0" lang="de-DE" sz="800" spc="-1" strike="noStrike">
                <a:solidFill>
                  <a:srgbClr val="7f7f7f"/>
                </a:solidFill>
                <a:latin typeface="Verdana"/>
              </a:rPr>
              <a:t>differenzen </a:t>
            </a:r>
            <a:br>
              <a:rPr sz="800"/>
            </a:br>
            <a:r>
              <a:rPr b="0" lang="de-DE" sz="800" spc="-1" strike="noStrike">
                <a:solidFill>
                  <a:srgbClr val="7f7f7f"/>
                </a:solidFill>
                <a:latin typeface="Verdana"/>
              </a:rPr>
              <a:t>möglich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103176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208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Forderung nach intensiven Verhandlungen mit Polen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2040" y="5425920"/>
            <a:ext cx="75625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90000" anchor="b">
            <a:normAutofit fontScale="75000"/>
          </a:bodyPr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Frage: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In der EU verhindert insbesondere Polen die ehrgeizigeren Ziele bei der Senkung des CO2-Ausstoßes. Viele EU-Regierungen hoffen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darauf, dass Deutschland hier zusammen mit Polen eine Lösung findet. Sollte sich Bundeskanzlerin Angela Merkel Zeit für intensive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Verhandlungen mit Polen nehmen, um das ehrgeizigere Ziel bei der Senkung des CO2-Ausstoßes in der EU erreichen zu können?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Basis: 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de-DE" sz="800" spc="-1" strike="noStrike">
                <a:solidFill>
                  <a:srgbClr val="333333"/>
                </a:solidFill>
                <a:latin typeface="Verdana"/>
              </a:rPr>
              <a:t>1.001 Befragte</a:t>
            </a:r>
            <a:endParaRPr b="1" lang="en-US" sz="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-3240" y="542880"/>
            <a:ext cx="9904320" cy="744480"/>
          </a:xfrm>
          <a:prstGeom prst="rect">
            <a:avLst/>
          </a:prstGeom>
          <a:noFill/>
          <a:ln w="0">
            <a:noFill/>
          </a:ln>
        </p:spPr>
        <p:txBody>
          <a:bodyPr lIns="277200" rIns="277200" tIns="3600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7f7f7f"/>
                </a:solidFill>
                <a:latin typeface="Verdana"/>
              </a:rPr>
              <a:t>Über die Parteigrenzen hinweg fordern 77 Prozent eine Verhandlungsoffensive</a:t>
            </a:r>
            <a:endParaRPr b="1" lang="en-US" sz="1900" spc="-1" strike="noStrike">
              <a:solidFill>
                <a:srgbClr val="333333"/>
              </a:solidFill>
              <a:latin typeface="Verdana"/>
            </a:endParaRPr>
          </a:p>
        </p:txBody>
      </p:sp>
      <p:graphicFrame>
        <p:nvGraphicFramePr>
          <p:cNvPr id="158" name="Content Placeholder 6"/>
          <p:cNvGraphicFramePr/>
          <p:nvPr/>
        </p:nvGraphicFramePr>
        <p:xfrm>
          <a:off x="-60480" y="476280"/>
          <a:ext cx="924588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480" y="476280"/>
                    <a:ext cx="924588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feld 7"/>
          <p:cNvSpPr/>
          <p:nvPr/>
        </p:nvSpPr>
        <p:spPr>
          <a:xfrm>
            <a:off x="1410840" y="1700280"/>
            <a:ext cx="1958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%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feil nach oben 11"/>
          <p:cNvSpPr/>
          <p:nvPr/>
        </p:nvSpPr>
        <p:spPr>
          <a:xfrm rot="10800000">
            <a:off x="899640" y="3476520"/>
            <a:ext cx="244440" cy="87624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feil nach oben 12"/>
          <p:cNvSpPr/>
          <p:nvPr/>
        </p:nvSpPr>
        <p:spPr>
          <a:xfrm>
            <a:off x="900000" y="2449440"/>
            <a:ext cx="244440" cy="87480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Textfeld 13"/>
          <p:cNvSpPr/>
          <p:nvPr/>
        </p:nvSpPr>
        <p:spPr>
          <a:xfrm rot="16200000">
            <a:off x="363960" y="2805480"/>
            <a:ext cx="76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sehr/eher</a:t>
            </a:r>
            <a:br>
              <a:rPr sz="1000"/>
            </a:b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dafür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Textfeld 14"/>
          <p:cNvSpPr/>
          <p:nvPr/>
        </p:nvSpPr>
        <p:spPr>
          <a:xfrm rot="16200000">
            <a:off x="357480" y="3587040"/>
            <a:ext cx="76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sehr/eher</a:t>
            </a:r>
            <a:br>
              <a:rPr sz="1000"/>
            </a:br>
            <a:r>
              <a:rPr b="0" lang="de-DE" sz="1000" spc="-1" strike="noStrike">
                <a:solidFill>
                  <a:srgbClr val="333333"/>
                </a:solidFill>
                <a:latin typeface="Verdana"/>
              </a:rPr>
              <a:t>dageg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feld 10"/>
          <p:cNvSpPr/>
          <p:nvPr/>
        </p:nvSpPr>
        <p:spPr>
          <a:xfrm>
            <a:off x="179280" y="1208160"/>
            <a:ext cx="43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f7f7f"/>
                </a:solidFill>
                <a:latin typeface="Verdana"/>
              </a:rPr>
              <a:t>(Auswertung nach Parteipräferenz*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Textfeld 1"/>
          <p:cNvSpPr/>
          <p:nvPr/>
        </p:nvSpPr>
        <p:spPr>
          <a:xfrm>
            <a:off x="1211400" y="4906800"/>
            <a:ext cx="69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Verdana"/>
              </a:rPr>
              <a:t>* Auswertung nur für Parteipräferenzen mit einer Basis von mindestens 40 Befragten, kleinere  Parteien sind unter „Sonstige“ zusammengefasst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5:03:35Z</dcterms:created>
  <dc:creator>Schneider-Haase, Torsten (TSBIE)</dc:creator>
  <dc:description/>
  <dc:language>en-US</dc:language>
  <cp:lastModifiedBy>Schneider-Haase, Torsten (TSBIE)</cp:lastModifiedBy>
  <cp:lastPrinted>2012-06-28T08:32:37Z</cp:lastPrinted>
  <dcterms:modified xsi:type="dcterms:W3CDTF">2013-01-15T09:41:00Z</dcterms:modified>
  <cp:revision>49</cp:revision>
  <dc:subject/>
  <dc:title>Umfrage zu den Themen Emissionsreduktion und Energiewende  Dezember 2012</dc:title>
</cp:coreProperties>
</file>