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3.wmf" ContentType="image/x-wmf"/>
  <Override PartName="/ppt/media/image8.jpeg" ContentType="image/jpeg"/>
  <Override PartName="/ppt/media/image16.png" ContentType="image/png"/>
  <Override PartName="/ppt/media/image1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7.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4022640" y="0"/>
            <a:ext cx="3076560" cy="51264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721800"/>
            <a:ext cx="3076560" cy="51264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4022640" y="9721800"/>
            <a:ext cx="3076560" cy="51264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de-DE"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DEB91CC-5D90-44B9-80C9-4F79A23315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68240"/>
            <a:ext cx="5118120" cy="3837240"/>
          </a:xfrm>
          <a:prstGeom prst="rect">
            <a:avLst/>
          </a:prstGeom>
          <a:ln w="0">
            <a:noFill/>
          </a:ln>
        </p:spPr>
      </p:sp>
      <p:sp>
        <p:nvSpPr>
          <p:cNvPr id="15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ier vorliegende Zusammenfassung von Ergebnissen ist ein knapper Überblick, der sich in der Darstellung auf wesentliche Trends konzentriert hat. Die umfangreichere Hauptstudie wird voraussichtlich Mitte 2008 vorliegen. Sie wird durch Ergebnisse von Forschern aus den drei Kontinenten Afrika, Asien und Lateinamerika ergänzt werde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7240"/>
          </a:xfrm>
          <a:prstGeom prst="rect">
            <a:avLst/>
          </a:prstGeom>
          <a:ln w="0">
            <a:noFill/>
          </a:ln>
        </p:spPr>
      </p:sp>
      <p:sp>
        <p:nvSpPr>
          <p:cNvPr id="16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Quelle der Grafik: </a:t>
            </a:r>
            <a:r>
              <a:rPr b="0" i="1" lang="de-DE" sz="1200" spc="-1" strike="noStrike">
                <a:solidFill>
                  <a:srgbClr val="000000"/>
                </a:solidFill>
                <a:latin typeface="HelveticaNeue-Roman"/>
              </a:rPr>
              <a:t>Boko, M., I. Niang, A. Nyong, C. Vogel, A. Githeko, M. Medany, B. Osman-Elasha, R. Tabo and P. Yanda, 2007: Africa. </a:t>
            </a:r>
            <a:r>
              <a:rPr b="0" i="1" lang="de-DE" sz="1200" spc="-1" strike="noStrike">
                <a:solidFill>
                  <a:srgbClr val="000000"/>
                </a:solidFill>
                <a:latin typeface="HelveticaNeue-Italic"/>
              </a:rPr>
              <a:t>Climate Change´2007: Impacts, Adaptation and Vulnerability. Contribution of Working Group II to the Fourth Assessment Report of the Intergovernmental Panel on Climate Change</a:t>
            </a:r>
            <a:r>
              <a:rPr b="0" i="1" lang="de-DE" sz="1200" spc="-1" strike="noStrike">
                <a:solidFill>
                  <a:srgbClr val="000000"/>
                </a:solidFill>
                <a:latin typeface="HelveticaNeue-Roman"/>
              </a:rPr>
              <a:t>, M.L. Parry, O.F. Canziani, J.P. Palutikof, P.J. van der Linden and C.E. Hanson, Eds., Cambridge University Press, Cambridge UK, 433-467.</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Neue-Roman"/>
              </a:rPr>
              <a:t>Der Klimawandel kann sich in unterschiedlicher Weise direkt und indirekt auf die verschiedenen Ebenen der Ernährungssicherheit auswirken, wie die Grafik zeig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0720" y="768240"/>
            <a:ext cx="5118120" cy="3837240"/>
          </a:xfrm>
          <a:prstGeom prst="rect">
            <a:avLst/>
          </a:prstGeom>
          <a:ln w="0">
            <a:noFill/>
          </a:ln>
        </p:spPr>
      </p:sp>
      <p:sp>
        <p:nvSpPr>
          <p:cNvPr id="17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neuesten verfügbaren Studien bestätigen, dass Afrika einer der am meisten vom Klimawandel betroffenen Kontinente sein wird. Hierbei treffen deutliche Veränderungen der Klimabedingungen auf eine Vielzahl von zusammenkommenden Stressfaktoren (Armut, mangelhaftes Infrastruktur- und Gesundheitssystem etc.). Insgesamt resultiert daraus eine geringe Anpassungskapazitä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0720" y="768240"/>
            <a:ext cx="5118120" cy="3837240"/>
          </a:xfrm>
          <a:prstGeom prst="rect">
            <a:avLst/>
          </a:prstGeom>
          <a:ln w="0">
            <a:noFill/>
          </a:ln>
        </p:spPr>
      </p:sp>
      <p:sp>
        <p:nvSpPr>
          <p:cNvPr id="17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grarproduktion wird in vielen Ländern und Regionen Afrikas zurückgehen. Durch eine höhere Variabilität der Klimabedingungen wird Landwirtschaft schwieriger werden. Afrika ist der Kontinent mit dem geringsten Anteil von Bewässerungslandwirtschaft. Der vorherrschende Regenfeldbau ist besonders verletzlich für eine erhöhte Klimavariabilität. Die Flächen, die für landwirtschaftliche Produktion genutzt werden können, werden zurückgehen, die Anbauzeiten sich verkürzen und die Erträge zurückgehen. Dies wird vor allem in den von Trockenheit geprägten Regionen der Fall sein. Für manche Länder erwartet der IPCC-Bericht bereits bis 2020 Ertragsrückgänge im Regenfeldbau von bis zu 50 Proz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in bis 2020 wird erwartet, dass durch den Klimawandel zwischen 75 und 250 Millionen Menschen in Afrika gravierende Probleme beim Zugang zu Wasser haben werden. Dieser Prozess wird zusätzlich gefördert durch eine zu erwartende steigende Nachfrage nach Wasser aufgrund des Bevölkerungswachst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eigende Wassertemperaturen werden mit dazu beitragen, dass die lokale Ernährungssituation rund um die großen Süßwasserseen in Afrika angespannter werden wird, da die Fischereierträge aufgrund des Temperaturanstiegs abnehmen werden. Dieser Prozess wird verstärkt werden durch die ohnehin stattfindende Überfischung der Binnengewässer in Afri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0720" y="768240"/>
            <a:ext cx="5118120" cy="3837240"/>
          </a:xfrm>
          <a:prstGeom prst="rect">
            <a:avLst/>
          </a:prstGeom>
          <a:ln w="0">
            <a:noFill/>
          </a:ln>
        </p:spPr>
      </p:sp>
      <p:sp>
        <p:nvSpPr>
          <p:cNvPr id="17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Himalaja werden die Gletscher aufgrund der Erwärmung schmelzen. Dies wird zu Überflutungen, Bergstürzen und Muren führen, aber auch die Verfügbarkeit von Wasser verändern. Das Schmelzwasser der Gletscher ist für viele Flüsse der Region insbesondre im vielerorts trockenen Sommer wichtigster Wasserlieferant. Veränderungen werden sowohl die Trinkwasserverfügbarkeit wie auch die Bewässerungslandwirtschaft stark beeinträchtig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dicht besiedelten Küsten- und Flussdeltaregionen werden besonders vom Meeresspiegelanstieg betroffen sein. Tropische Wirbelstürme werden zu häufigen Überschwemmungen führ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ährend für Ostasien und für Südostasien sogar mit einer Steigerung der Ernteerträge für die kommenden Jahrzehnte um bis zu 20 Prozent gerechnet wird, wird für Zentral- und für Südasien ein Rückgang um bis zu 30 Prozent prognostizie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wird erwartet, dass besonders in Zentral-, in Süd- und Südostasien die Frischwasserverfügbarkeit deutlich zurückgehen wird. Die derzeit schnelle Urbanisierung und ein steigender Wasserbedarf durch die Industrialisierung werden möglicherweise für mehr als 1 Mrd. Menschen zu Zugangsproblemen bei Frischwasser führen.</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zu erwartenden häufigen Überflutungen in den Küsten und Deltagebieten sowie die höheren Wassertemperaturen in Süd- und Südostasien werden vermutlich zu einer Erhöhung von Durchfall- und Choleraerkrankungen führen.</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0720" y="768240"/>
            <a:ext cx="5118120" cy="3837240"/>
          </a:xfrm>
          <a:prstGeom prst="rect">
            <a:avLst/>
          </a:prstGeom>
          <a:ln w="0">
            <a:noFill/>
          </a:ln>
        </p:spPr>
      </p:sp>
      <p:sp>
        <p:nvSpPr>
          <p:cNvPr id="17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as Ende des 21. Jahrhunderts wird eine durchschnittliche Erwärmung in Lateinamerika zwischen 1 und 4°C oder 2 und 6°C projiziert, abhängig davon, welches Szenario angenommen wird. Sehr wahrscheinlich wird sich die Häufigkeit von Wetter- und Klimaextremen sehr wahrscheinlich erhöhen. </a:t>
            </a: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orhergesagten Veränderungen werden sehr wahrscheinlich eine Vielzahl an Sektoren und Ökosystemen beeinträchtigen, wie in der Grafik zu erkennen ist.</a:t>
            </a:r>
            <a:endParaRPr b="0" lang="en-US" sz="1200" spc="-1" strike="noStrike">
              <a:solidFill>
                <a:srgbClr val="000000"/>
              </a:solidFill>
              <a:latin typeface="Times New Roman"/>
            </a:endParaRPr>
          </a:p>
          <a:p>
            <a:pPr indent="0">
              <a:lnSpc>
                <a:spcPct val="100000"/>
              </a:lnSpc>
              <a:spcBef>
                <a:spcPts val="451"/>
              </a:spcBef>
              <a:buNone/>
              <a:tabLst>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Quelle: Magrin, G., C. Gay García, D. Cruz Choque, J.C. Giménez, A.R. Moreno, G.J. Nagy, C. Nobre and A. Villamizar, 2007: Latin America. Climate Change 2007: Impacts, Adaptation and Vulnerability. Contribution of Working Group II to the Fourth Assessment Report of the Intergovernmental Panel on Climate Change, M.L. Parry, O.F. Canziani, J.P. Palutikof, P.J. van der Linden and C.E. Hanson, Eds., Cambridge University Press, Cambridge, UK, 581-615.</a:t>
            </a:r>
            <a:endParaRPr b="0" lang="en-US" sz="1200" spc="-1" strike="noStrike">
              <a:solidFill>
                <a:srgbClr val="000000"/>
              </a:solidFill>
              <a:latin typeface="Times New Roman"/>
            </a:endParaRPr>
          </a:p>
          <a:p>
            <a:pPr indent="0">
              <a:lnSpc>
                <a:spcPct val="100000"/>
              </a:lnSpc>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69960"/>
                <a:tab algn="dec" pos="1241280"/>
                <a:tab algn="dec" pos="1432080"/>
                <a:tab algn="dec" pos="1523880"/>
                <a:tab algn="dec" pos="1714680"/>
                <a:tab algn="dec" pos="1905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0720" y="768240"/>
            <a:ext cx="5118120" cy="3837240"/>
          </a:xfrm>
          <a:prstGeom prst="rect">
            <a:avLst/>
          </a:prstGeom>
          <a:ln w="0">
            <a:noFill/>
          </a:ln>
        </p:spPr>
      </p:sp>
      <p:sp>
        <p:nvSpPr>
          <p:cNvPr id="17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auch auf anderen Kontinenten ist in Lateinamerika davon auszugehen, dass die landwirtschaftlichen Erträge beispielsweise der Sojabohne in den gemäßigten Zonen steigen werden. In den trockeneren Regionen ist davon auszugehen, dass der Klimawandel zur Bodenversalzung beitragen wird und landwirtschaftliche Nutzflächen für einige besonders wichtige Nutzpflanzen wie die Sojabohne, aber auch Graslandflächen für die Tierproduktion zurückgehen werd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fährdet ist auch die Amazonasregion. Der Temperaturanstieg und der damit einhergehende Verlust von Bodenfeuchtigkeit, im Zusammenspiel mit der anthropogenen Waldzerstörung, könnten schon in einigen Jahrzehnten dazu beitragen, dass der tropische Regenwald durch eine Savannenlandschaft ersetzt wird. Dies würde mit einem dramatischen Verlust an Artenvielfalt und Bodenqualität einhergehen. Die Amazonasregion würde zudem von einer der wichtigsten globalen CO2-Senken zu einem Emittent großer Mengen an CO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Meeresspiegelanstieg wird tiefer gelegene Flächen durch Überflutung bedrohen. Dies trifft besonders Zentralamerika, Mexiko und die Karibischen Staaten, in denen der Anteil der Hungernden im kontinentalen Vergleich am größten 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im Himalaja wird die Veränderung der Niederschlagsmengen und der Rückgang der Gletscher vor allem in den Regionen, die durch Flüsse aus den Anden mit Wasser versorgt werden, zu einer Reduktion des Frischwassers füh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0720" y="768240"/>
            <a:ext cx="5118120" cy="3837240"/>
          </a:xfrm>
          <a:prstGeom prst="rect">
            <a:avLst/>
          </a:prstGeom>
          <a:ln w="0">
            <a:noFill/>
          </a:ln>
        </p:spPr>
      </p:sp>
      <p:sp>
        <p:nvSpPr>
          <p:cNvPr id="180" name="PlaceHolder 2"/>
          <p:cNvSpPr>
            <a:spLocks noGrp="1"/>
          </p:cNvSpPr>
          <p:nvPr>
            <p:ph type="body"/>
          </p:nvPr>
        </p:nvSpPr>
        <p:spPr>
          <a:xfrm>
            <a:off x="563400" y="4861080"/>
            <a:ext cx="603432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IPCC versteht unter Anpassungsfähigkeit ("adaptive capacity") die "Gesamtheit der Fähigkeiten, Ressourcen und Institutionen eines Landes oder einer Region, um wirksame Anpassungsmaßnahmen umzusetzen." Sie ist von unterschiedlichsten Faktoren abhängig, wie dem Wohlstand, der verfügbaren Technologie, der Bildungsqualität, der Infrastruktur, Managementfähigkeiten oder dem Zugang zu Wiss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Kontext der Ernährungssicherheit besonders verletzlicher Bevölkerungsgruppen gilt es natürlich, gerade die Fähigkeiten dieser Menschen zu erweitern, mit Klimarisiken umzugehen. Dabei ist der erste Ansatzpunkt aber der direkte, kurzfristige Nutzen für die häufig sehr armen Menschen. Die in vielen Ländern anzutreffende politische Marginalisierung ist dabei insgesamt ein Hindernis für die Menschen, ihre Widerstandsfähigkeit gegen Risiken ökonomischer, aber auch ökologischer Art, zu erhöh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946080" y="4861080"/>
            <a:ext cx="5207040" cy="4605120"/>
          </a:xfrm>
          <a:prstGeom prst="rect">
            <a:avLst/>
          </a:prstGeom>
          <a:noFill/>
          <a:ln w="0">
            <a:noFill/>
          </a:ln>
        </p:spPr>
        <p:style>
          <a:lnRef idx="0"/>
          <a:fillRef idx="0"/>
          <a:effectRef idx="0"/>
          <a:fontRef idx="minor"/>
        </p:style>
        <p:txBody>
          <a:bodyPr lIns="94680" rIns="94680" tIns="47520" bIns="47520" anchor="t">
            <a:noAutofit/>
          </a:bodyPr>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m eine angemessene Reaktion von allen Betroffenen auf den Klimawandel zu ermöglichen, wäre es nötig, diese rechtzeitig auf die zu erwartenden Veränderungen hinzuweisen. Die Reaktionsmöglichkeiten vieler Familien im ländlichen Raum werden unterschiedlich sein. Familien mit Ersparnissen und ausreichender Arbeits-kraft werden leichter auf Veränderungen reagieren können. Gerade marginalisierte Produzenten werden besondere Probleme haben, angemessen zu reagieren. Regierungen müssen somit die gravierenden Formen der bisherigen Marginalisie-rung und strukturellen Benachteiligung überwinden, damit ländliche Familien Zugang zu finanziellen Mitteln bekommen können, die sie für Anpassungsmaß-nahmen dringend benötigen. Für manche Regionen wird es wichtig sein, ein gänzlich neues Konzept ländlicher Entwicklung zu erarbeiten, wenn die Produktion bestimmter dominanter Agrarprodukte aufgrund veränderter Klimaparameter nicht mehr möglich sein wird. Die größte Herausforderung wird es allerdings sein, den nötigen politischen Willen bei den Regierungen zu mobilisieren, sich dem Thema Klimawandel und Anpassung anzunehmen. </a:t>
            </a:r>
            <a:endParaRPr b="0" lang="en-US" sz="1100" spc="-1" strike="noStrike">
              <a:solidFill>
                <a:srgbClr val="000000"/>
              </a:solidFill>
              <a:latin typeface="Times New Roman"/>
            </a:endParaRPr>
          </a:p>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 Afrika fehlt es vielen Ländern an guten Forschungseinrichtungen und einer genügenden Zahl Experten. Zusätzlich fehlen gerade den ärmeren Entwicklungs-ländern die finanziellen Ressourcen, um entsprechende Anpassungsprogramme durchführen zu können. In Asien sind die Anpassungskapazitäten insgesamt deutlich größer als in Afrika. Allerdings wird es auch in einigen Ländern Südasiens so gravierende ökologische Veränderungen geben, dass es sehr schwierig werden wird, die zu erwartenden Anpassungsleistungen überhaupt erbringen zu können. Einige Länder in den verschiedenen Regionen haben bereits mit Anpassungsmaßnahmen begonnen und entsprechende Forschungsarbeiten initiiert. Diesen Maßnahmen mangelt es bislang oft noch an Effektivität, da ausreichende finanzielle und wissenschaftliche Ressourcen, aber auch der politische Wille und die administrative Zuverlässigkeit fehlen.</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68240"/>
            <a:ext cx="5118120" cy="3837240"/>
          </a:xfrm>
          <a:prstGeom prst="rect">
            <a:avLst/>
          </a:prstGeom>
          <a:ln w="0">
            <a:noFill/>
          </a:ln>
        </p:spPr>
      </p:sp>
      <p:sp>
        <p:nvSpPr>
          <p:cNvPr id="183" name="PlaceHolder 2"/>
          <p:cNvSpPr>
            <a:spLocks noGrp="1"/>
          </p:cNvSpPr>
          <p:nvPr>
            <p:ph type="body"/>
          </p:nvPr>
        </p:nvSpPr>
        <p:spPr>
          <a:xfrm>
            <a:off x="563400" y="4861080"/>
            <a:ext cx="6034320" cy="460512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946080" y="4861080"/>
            <a:ext cx="5207040" cy="4605120"/>
          </a:xfrm>
          <a:prstGeom prst="rect">
            <a:avLst/>
          </a:prstGeom>
          <a:noFill/>
          <a:ln w="0">
            <a:noFill/>
          </a:ln>
        </p:spPr>
        <p:style>
          <a:lnRef idx="0"/>
          <a:fillRef idx="0"/>
          <a:effectRef idx="0"/>
          <a:fontRef idx="minor"/>
        </p:style>
        <p:txBody>
          <a:bodyPr lIns="94680" rIns="94680" tIns="47520" bIns="47520" anchor="t">
            <a:noAutofit/>
          </a:bodyPr>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m eine angemessene Reaktion von allen Betroffenen auf den Klimawandel zu ermöglichen, wäre es nötig, diese rechtzeitig auf die zu erwartenden Veränderungen hinzuweisen. Die Reaktionsmöglichkeiten vieler Familien im ländlichen Raum werden unterschiedlich sein. Familien mit Ersparnissen und ausreichender Arbeits-kraft werden leichter auf Veränderungen reagieren können. Gerade marginalisierte Produzenten werden besondere Probleme haben, angemessen zu reagieren. Regierungen müssen somit die gravierenden Formen der bisherigen Marginalisie-rung und strukturellen Benachteiligung überwinden, damit ländliche Familien Zugang zu finanziellen Mitteln bekommen können, die sie für Anpassungsmaß-nahmen dringend benötigen. Für manche Regionen wird es wichtig sein, ein gänzlich neues Konzept ländlicher Entwicklung zu erarbeiten, wenn die Produktion bestimmter dominanter Agrarprodukte aufgrund veränderter Klimaparameter nicht mehr möglich sein wird. Die größte Herausforderung wird es allerdings sein, den nötigen politischen Willen bei den Regierungen zu mobilisieren, sich dem Thema Klimawandel und Anpassung anzunehmen. </a:t>
            </a:r>
            <a:endParaRPr b="0" lang="en-US" sz="1100" spc="-1" strike="noStrike">
              <a:solidFill>
                <a:srgbClr val="000000"/>
              </a:solidFill>
              <a:latin typeface="Times New Roman"/>
            </a:endParaRPr>
          </a:p>
          <a:p>
            <a:pPr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 Afrika fehlt es vielen Ländern an guten Forschungseinrichtungen und einer genügenden Zahl Experten. Zusätzlich fehlen gerade den ärmeren Entwicklungs-ländern die finanziellen Ressourcen, um entsprechende Anpassungsprogramme durchführen zu können. In Asien sind die Anpassungskapazitäten insgesamt deutlich größer als in Afrika. Allerdings wird es auch in einigen Ländern Südasiens so gravierende ökologische Veränderungen geben, dass es sehr schwierig werden wird, die zu erwartenden Anpassungsleistungen überhaupt erbringen zu können. Einige Länder in den verschiedenen Regionen haben bereits mit Anpassungsmaßnahmen begonnen und entsprechende Forschungsarbeiten initiiert. Diesen Maßnahmen mangelt es bislang oft noch an Effektivität, da ausreichende finanzielle und wissenschaftliche Ressourcen, aber auch der politische Wille und die administrative Zuverlässigkeit fehlen.</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3600" y="768240"/>
            <a:ext cx="5113440" cy="3835440"/>
          </a:xfrm>
          <a:prstGeom prst="rect">
            <a:avLst/>
          </a:prstGeom>
          <a:ln w="0">
            <a:noFill/>
          </a:ln>
        </p:spPr>
      </p:sp>
      <p:sp>
        <p:nvSpPr>
          <p:cNvPr id="186" name="PlaceHolder 2"/>
          <p:cNvSpPr>
            <a:spLocks noGrp="1"/>
          </p:cNvSpPr>
          <p:nvPr>
            <p:ph type="body"/>
          </p:nvPr>
        </p:nvSpPr>
        <p:spPr>
          <a:xfrm>
            <a:off x="946080" y="4861080"/>
            <a:ext cx="5207040" cy="4605120"/>
          </a:xfrm>
          <a:prstGeom prst="rect">
            <a:avLst/>
          </a:prstGeom>
          <a:solidFill>
            <a:srgbClr val="ffffff"/>
          </a:solidFill>
          <a:ln w="9360">
            <a:solidFill>
              <a:srgbClr val="000000"/>
            </a:solidFill>
            <a:miter/>
          </a:ln>
        </p:spPr>
        <p:txBody>
          <a:bodyPr lIns="96120" rIns="96120" tIns="47880" bIns="478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eispiele für Anpassungsmaßnahmen auf verschiedenen Ebenen</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ea typeface="Times New Roman"/>
              </a:rPr>
              <a:t>Anpassung an den Klimawandel hat unterschiedliche Dimensionen. So können z.B. Einzelpersonen, Unternehmen oder andere Organisationen für sich selbst Maßnahmen ergreifen, ohne politische Steuerung oder gegenseitige Koordination. Die Fähigkeit, sich selbständig anzupassen, hängt von vielen Faktoren ab, insbesondere der individuellen Vulnerabilität. Zudem können Akteure auch gemeinsam und auf verschiedenen Ebenen aktiv werden, z.B. mit dem Ziel, die Kosten von Anpassungsmaßnahmen gleichmäßiger zu verteilen. Dies gilt vor allem dort, wo es um große Investitionen geht, z.B. bei der Verbesserung von Infrastruktur wie der Erhöhung von Deichen. Hier kommt auch der Politik eine wichtige Rolle zu, da sie Anreize setzen oder direkte gesetzliche Vorgaben machen kann und mus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ea typeface="Times New Roman"/>
              </a:rPr>
              <a:t>Auch hinsichtlich der zeitlichen Dimension gibt es Unterschiede. </a:t>
            </a:r>
            <a:r>
              <a:rPr b="0" i="1" lang="de-DE" sz="1100" spc="-1" strike="noStrike">
                <a:solidFill>
                  <a:srgbClr val="000000"/>
                </a:solidFill>
                <a:latin typeface="Times New Roman"/>
                <a:ea typeface="Times New Roman"/>
              </a:rPr>
              <a:t>Proaktive</a:t>
            </a:r>
            <a:r>
              <a:rPr b="0" lang="de-DE" sz="1100" spc="-1" strike="noStrike">
                <a:solidFill>
                  <a:srgbClr val="000000"/>
                </a:solidFill>
                <a:latin typeface="Times New Roman"/>
                <a:ea typeface="Times New Roman"/>
              </a:rPr>
              <a:t> Maßnahmen basieren auf vorsorgendem Planen, um sich an die erwarteten Konsequenzen des Klimawandels anzupassen, bevor diese eintreten. Ein Beispiel hierfür ist frühzeitiger und langfristig geplanter Küstenschutz, denn es geht um eine im Prinzip absehbare Gefahr. Unter </a:t>
            </a:r>
            <a:r>
              <a:rPr b="0" i="1" lang="de-DE" sz="1100" spc="-1" strike="noStrike">
                <a:solidFill>
                  <a:srgbClr val="000000"/>
                </a:solidFill>
                <a:latin typeface="Times New Roman"/>
                <a:ea typeface="Times New Roman"/>
              </a:rPr>
              <a:t>reaktivem</a:t>
            </a:r>
            <a:r>
              <a:rPr b="0" lang="de-DE" sz="1100" spc="-1" strike="noStrike">
                <a:solidFill>
                  <a:srgbClr val="000000"/>
                </a:solidFill>
                <a:latin typeface="Times New Roman"/>
                <a:ea typeface="Times New Roman"/>
              </a:rPr>
              <a:t> Handeln kann beispielsweise verstanden werden, wie und durch wen nach Überschwemmungen die finanziellen Schäden oder der Wiederaufbau von zerstörter Infrastruktur bewältigt werden. Im Verhältnis von proaktivem und reaktivem Verhalten gilt die Regel, dass frühzeitiges, also proaktives, Handeln die Wahrscheinlichkeit von Schäden und damit die Notwendigkeit von reaktiven Maßnahmen tendenziell verringert. Auch Nichthandeln stellt natürlich eine Option dar, für die sich Politik und Wirtschaft entscheiden können. </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7240"/>
          </a:xfrm>
          <a:prstGeom prst="rect">
            <a:avLst/>
          </a:prstGeom>
          <a:ln w="0">
            <a:noFill/>
          </a:ln>
        </p:spPr>
      </p:sp>
      <p:sp>
        <p:nvSpPr>
          <p:cNvPr id="15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Überblick über die weltweit derzeit verfügbaren Studien, die der Weltklimarat IPCC zuletzt 2007 präsentiert hat, ist sehr eindeutig: Es gibt einen signifikanten Trend der Erwärmung rund um den Globus mit regionalen Veränderungen. Dieser ist vor allem durch menschgemachte Treibhausgase verursacht. Der Prozess des Klimawandels hat bereits begonnen und erste Veränderungen sind schon jetzt spürbar. Zwölf der letzten dreizehn Jahre (1995-2007) gehörten zu den wärmsten Jahren seit der systematischen Messung der globalen Oberflächentemperatu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emperaturzunahme stellt sich allerdings regional differenziert dar. In den gemäßigten Klimaten auf der Nord- und der Südhalbkugel steigt die Durchschnittstemperatur kräftiger als in den Tropen. Der Klimawandel wird sich nicht mehr vermeiden lassen. Selbst wenn es möglich wäre, ab sofort keine Treibhausgase mehr auszustoßen, würde es für einige Jahrzehnte weiterhin zu einer Erwärmung kommen, da die Atmosphäre zeitverzögert reagier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USA als größter Emittent weltweit, weitere Industrieländer und die wirtschaftlich schnell wachsenden Schwellenländer wie China und Indien haben ihren CO2-Ausstoß in den letzten Jahren weiter erhöht. Ein schnelles und wirkungsvolles Umsteuern wird benötigt, um zu verhindern, dass die durchschnittliche globale Erwärmung 2°C überschreitet, da die Auswirkungen jenseits der 2°-Grenze gravierend sein werden. Zum Zweiten müssen sich die Menschen überall auf die Folgewirkungen des Klimawandels einstellen, sich an sie anpasse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0720" y="768240"/>
            <a:ext cx="5118120" cy="3837240"/>
          </a:xfrm>
          <a:prstGeom prst="rect">
            <a:avLst/>
          </a:prstGeom>
          <a:ln w="0">
            <a:noFill/>
          </a:ln>
        </p:spPr>
      </p:sp>
      <p:sp>
        <p:nvSpPr>
          <p:cNvPr id="18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Thema Klimawandel und Ernährungssicherheit macht angemessene Reaktionen von vielen beteiligten Akteuren nötig und möglich. Alle Akteure zusammen müssen sicherstellen, dass das Thema sowohl auf der nationalen wie auf der internationalen politischen Agenda einen höheren Stellenwert erhält. Dies ist besonders eine Aufgabe für zivilgesellschaftliche Akteure. Klimawandel und Ernährungssicherheit sollten ein zentrales Thema der Entwicklungszusammenarbeit werden. Die vorhandene Expertise für Themen wie ländliche Entwicklung sollte zur Verfügung stehen, um Länder des Südens auch im Hinblick auf die Auswirkungen des Klimawandels zu beraten und die nötigen Anpassungsmaßnahmen mitzuentwickeln. Gerade bei diesem Thema wird es allerdings darauf ankommen, die bisherige Konzentration der Agrarforschung auf Gunstgebiete und gute Standorte zu überwinden und die besonders betroffenen Bevölkerungsgruppen in den Blick zu nehmen. Effektiver Klimaschutz erfordert den Einsatz energieeffizienter Technologien. Technologietransfer ist deshalb ein weiteres zentrales Stichwort für die Entwicklungszusammenarbeit bei der Unterstützung von Bemühungen von Ländern des Südens beim Klimaschutz. Dieser darf aber nicht durch falsche Investitionsschutzbestimmungen oder Regeln des geistigen Eigentumsschutzes über Gebühr erschwert werden. Zentrale Aufgabe wird es sein, effektiven Klimaschutz in möglichst allen Ländern voranzutreiben und parallel sicherzustellen, dass es ein funktionierendes internationales Klimaregime gib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22240" y="512640"/>
            <a:ext cx="5456160" cy="4092840"/>
          </a:xfrm>
          <a:prstGeom prst="rect">
            <a:avLst/>
          </a:prstGeom>
          <a:ln w="0">
            <a:noFill/>
          </a:ln>
        </p:spPr>
      </p:sp>
      <p:sp>
        <p:nvSpPr>
          <p:cNvPr id="190" name="PlaceHolder 2"/>
          <p:cNvSpPr>
            <a:spLocks noGrp="1"/>
          </p:cNvSpPr>
          <p:nvPr>
            <p:ph type="body"/>
          </p:nvPr>
        </p:nvSpPr>
        <p:spPr>
          <a:xfrm>
            <a:off x="1211400" y="5051520"/>
            <a:ext cx="4551120" cy="3970080"/>
          </a:xfrm>
          <a:prstGeom prst="rect">
            <a:avLst/>
          </a:prstGeom>
          <a:noFill/>
          <a:ln w="0">
            <a:noFill/>
          </a:ln>
        </p:spPr>
        <p:txBody>
          <a:bodyPr lIns="94680" rIns="94680" tIns="47520" bIns="4752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Sie diesen - kostenlos angebotenen - Foliensatz hilfreich und interessant gefunden haben, möchten wir Sie noch um Ihre Unterstützung bitten. Wir würden uns freuen, wenn Sie sich mit einer Spende in freiwilliger Höhe an den Kosten beteiligen und auch zukünftige Projekte ermöglichen würden (Spendenkonto 32 123 00, Bank für Sozialwirtschaft AG, BLZ 100 205 00). Ihre Spende ist steuerabzugsfähig. Sie erhalten am Jahresende automatisch eine Spendenquittung zugeschickt, wenn Sie Ihre Adresse bei der Überweisung angeben.</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besondere Förderung unserer Arbeit können Sie mit Ihrer Mitgliedschaft oder Fördermitgliedschaft bei Germanwatch bewirk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68240"/>
            <a:ext cx="5118120" cy="3837240"/>
          </a:xfrm>
          <a:prstGeom prst="rect">
            <a:avLst/>
          </a:prstGeom>
          <a:ln w="0">
            <a:noFill/>
          </a:ln>
        </p:spPr>
      </p:sp>
      <p:sp>
        <p:nvSpPr>
          <p:cNvPr id="15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limawandel wirkt sich in mehrfacher Hinsicht auf die Produktion von Nahrungsmitteln aus. Die steigenden Temperaturen beeinflussen die Wachstumsbedingungen von Pflanzen. Der so genannte CO2-Düngeeffekt befördert für sich genommen zwar das Pflanzenwachstum. Viele Pflanzen werden den Anstieg der Temperaturen in ihren bisherigen Wuchsregionen jedoch nicht mitmachen können, und in ihrer Verbreitung entweder nach Norden oder in die Höhe (in den Gebirgen) „wandern“ müss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limawandel wird in vielen Teilen der Welt die Niederschlagsmuster verändern. Kommt beim Regenfeldbau der Regen nur wenige Wochen zu spät, oder ist die Verteilung auf wenige Starkregenereignisse konzentriert, kann dies gravierende Auswirkungen auf die Ernteergebnisse haben. Zudem wird es in ganzen Regionen trockener werden. Die verfügbaren Wasserressourcen werden erheblich knapper werden, sowohl für den persönlichen Bedarf wie auch für die Landwirtschaft. In zahlreichen Regionen wird zudem die Zunahme von Wetterextremen erwartet. Starkregenereignisse, Hitzewellen, Überflutungen, Dürren, sowie die Heftigkeit von Hurrikanen, Taifunen und anderen starken Stürmen werden vermutlich zunehmen. Der erwartete Anstieg des Meeresspiegels droht eine ganze Reihe der fruchtbarsten Ländereien weltweit in Küstenebenen und Flussdeltagebieten zu überfluten oder zu Versalzungen im Boden und im Grundwasser beizutr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7240"/>
          </a:xfrm>
          <a:prstGeom prst="rect">
            <a:avLst/>
          </a:prstGeom>
          <a:ln w="0">
            <a:noFill/>
          </a:ln>
        </p:spPr>
      </p:sp>
      <p:sp>
        <p:nvSpPr>
          <p:cNvPr id="15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 Folie fasst die wichtigsten Konsequenzen des Klimawandels auf die Nahrungsproduktion zusamm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68240"/>
            <a:ext cx="5118120" cy="3837240"/>
          </a:xfrm>
          <a:prstGeom prst="rect">
            <a:avLst/>
          </a:prstGeom>
          <a:ln w="0">
            <a:noFill/>
          </a:ln>
        </p:spPr>
      </p:sp>
      <p:sp>
        <p:nvSpPr>
          <p:cNvPr id="158"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dieser Folie werden Trends zusammengefasst, welche sich bislang aus der Literatur und den neuesten wissenschaftlichen Studien ableiten lassen. Die möglichen Auswirkungen fallen entsprechend des angenommenen Szenarios unterschiedlich aus, wobei die Szenarien bezüglich Temperaturanstieg, Niederschlagsmenge und Niederschlagsverteilung variieren. Etwa die Hälfte des Temperaturunterschieds zwischen den Szenarien hängt davon ab, ob und wie stark die Emissionen weiter steigen oder sinken werden. Die andere Hälfte ist Ausdruck wissenschaftlicher Ungewisshe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Die Zahlen beruhen auf den aktuellen IPCC-Bericht von 2007. Dieser lädt zur Vertiefung zum Weiterlesen ei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PCC (2007): Klimaänderung 2007. Zusammenfassungen für politische Entscheidungsträger, Bern/Wien/Berlin. http://www.de-ipcc.de/download/IPCC2007-FullDocument.pd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7240"/>
          </a:xfrm>
          <a:prstGeom prst="rect">
            <a:avLst/>
          </a:prstGeom>
          <a:ln w="0">
            <a:noFill/>
          </a:ln>
        </p:spPr>
      </p:sp>
      <p:sp>
        <p:nvSpPr>
          <p:cNvPr id="160"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 drei Ebenen der Ernährungssicherheit sind für die Debatte der Auswirkungen des Klimawandels auf die Ernährungssicherheit von Relevanz. Bislang sind die meisten Studien zu den Auswirkungen des Klimawandels auf die Ernährungssicherheit auf die globale und nationale Ebene orientiert. Die globalen Verfügbarkeitstrends sind wichtig, da sie sich langfristig auf die Preisentwicklung der Grund-nahrungsmittel auswirken. Die nationalen Daten lassen deutlich werden, ob Länder in der Lage sind, ihren Importbedarf zu finanzieren. Die nationalen verfügbaren Ressourcen und die handelspolitischen Spielräume von Regierungen sind entscheidende Rahmen-bedingungen, um die Anpassungsmöglichkeiten von Ländern an den Klimawandel abschätzen zu können. Zur genauen Analyse der möglichen Anpassungskapazitäten eines Landes sind aber vor allem nationale Trends im Zugang zu Nahrung und Produktions-möglichkeiten von Bedeutung. Regierungen müssen dabei kleinräumig die besondere Situation und Benachteiligung einzelner Dörfer und Haushalte in den Blick nehmen, da ansonsten Anpassungspolitiken die besonders Betroffenen zu vernachlässigen dro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68240"/>
            <a:ext cx="5118120" cy="3837240"/>
          </a:xfrm>
          <a:prstGeom prst="rect">
            <a:avLst/>
          </a:prstGeom>
          <a:ln w="0">
            <a:noFill/>
          </a:ln>
        </p:spPr>
      </p:sp>
      <p:sp>
        <p:nvSpPr>
          <p:cNvPr id="162"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globalen Daten zur Welternährungssituation werden jährlich von der Welternährungsorganisation FAO veröffentlicht. Die Zahl der Unterernährten ist seit 1996 von 840 auf derzeit 854 Millionen Menschen gestiegen, davon leben 820 Millionen in Entwicklungsländ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tschritte in einigen schnell wachsenden Schwellenländern wie China werden durch den Anstieg der Zahlen Hungernder beispielsweise in Afrika südlich der Sahara konterkariert. In Subsahara-Afrika stieg die Zahl der Unterernährten seit Beginn der 90er Jahre von 169 auf 206 Millionen Menschen an. Die beiden Regionen mit den höchsten Hungerzahlen sind Südasien und Subsahara-Afrik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Die Zahlen sind entnommen au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FAO (2007): Assessment of the World Food Situation. CFS:2007/2. ftp://ftp.fao.org/docrep/fao/meeting/011/J9455e.pdf</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7240"/>
          </a:xfrm>
          <a:prstGeom prst="rect">
            <a:avLst/>
          </a:prstGeom>
          <a:ln w="0">
            <a:noFill/>
          </a:ln>
        </p:spPr>
      </p:sp>
      <p:sp>
        <p:nvSpPr>
          <p:cNvPr id="164"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unger ist immer noch vorwiegend ein ländliches Phänomen. Zwischen 75 und 80 Prozent aller Hungernden leben derzeit auf dem Land. Die Hälfte aller Hungernden und Unterernährten lebt in kleinbäuerlichen Familien. Gut zwei Drittel dieser Familien können als besonders marginalisiert bezeichnet werden. Marginalisierung kann verschiedene Elemente beinhalten. Das verfügbare Land ist oft zu klein oder die Höfe liegen oft in ökologischen Ungunstgebieten. Marginalisierung kann auch bedeuten, dass die Landtitel nicht abgesichert sind und die Bauernfamilien – gerade wenn und weil sie von Frauen angeführt werden – keinen Zugang zu Krediten und damit auch zu Saatgut haben. Fehlende Transportmöglichkeiten und Infrastruktur machen die Familien oft von wenigen Zwischenhändlern abhängig. Agrarberatung ist meist ohnehin inexistent. Diese Familien sind zudem hochgradig verletzlich gegenüber externen Schocks. Wetterunregelmäßigkeiten oder ein erhöhter Importdruck können schnell dazu beitragen, die eigene Produktion oder ihren späteren Verkauf zu beeinträchtigen. Weitere 22 Prozent der Hungernden und Unterernährten gehören zu Familien, die ohne Zugang zu Land sind und meist als Landarbeiter überleben. Weitere acht Prozent sind Personen, die als Nomaden, von der Fischerei oder der Nutzung von Wäldern leben. Gerade der hohe Anteil der landlosen Familien macht deutlich, dass zur Verbesserung der Situation einerseits Maßnahmen wichtig sind, die diesen Menschen Zugang zu Ressourcen gebe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68240"/>
            <a:ext cx="5118120" cy="3837240"/>
          </a:xfrm>
          <a:prstGeom prst="rect">
            <a:avLst/>
          </a:prstGeom>
          <a:ln w="0">
            <a:noFill/>
          </a:ln>
        </p:spPr>
      </p:sp>
      <p:sp>
        <p:nvSpPr>
          <p:cNvPr id="166" name="PlaceHolder 2"/>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unger ist immer noch vorwiegend ein ländliches Phänomen. Zwischen 75 und 80 Prozent aller Hungernden leben derzeit auf dem Land. Die Hälfte aller Hungernden und Unterernährten lebt in kleinbäuerlichen Familien. Gut zwei Drittel dieser Familien können als besonders marginalisiert bezeichnet werden. Marginalisierung kann verschiedene Elemente beinhalten. Das verfügbare Land ist oft zu klein oder die Höfe liegen oft in ökologischen Ungunstgebieten. Marginalisierung kann auch bedeuten, dass die Landtitel nicht abgesichert sind und die Bauernfamilien – gerade wenn und weil sie von Frauen angeführt werden – keinen Zugang zu Krediten und damit auch zu Saatgut haben. Fehlende Transportmöglichkeiten und Infrastruktur machen die Familien oft von wenigen Zwischenhändlern abhängig. Agrarberatung ist meist ohnehin inexistent. Diese Familien sind zudem hochgradig verletzlich gegenüber externen Schocks. Wetterunregelmäßigkeiten oder ein erhöhter Importdruck können schnell dazu beitragen, die eigene Produktion oder ihren späteren Verkauf zu beeinträchtigen. Weitere 22 Prozent der Hungernden und Unterernährten gehören zu Familien, die ohne Zugang zu Land sind und meist als Landarbeiter überleben. Weitere acht Prozent sind Personen, die als Nomaden, von der Fischerei oder der Nutzung von Wäldern leben. Gerade der hohe Anteil der landlosen Familien macht deutlich, dass zur Verbesserung der Situation einerseits Maßnahmen wichtig sind, die diesen Menschen Zugang zu Ressourcen geb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CD15EB-55B2-471F-A9B3-2A0A0752E7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F5219-8EF3-4C1B-B658-06D7FEFD1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4DA2D5-C248-4E33-AD61-4B7106DFA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F774D9-59AE-4694-A8D7-399070EE5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35E55-FA44-4092-AFA1-148998286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806973-C2EC-478C-88D7-E782B480D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08A95-5B79-4E92-9C40-C650DA38D6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3AC4A2-0504-4FF3-8E0A-57575F2C6F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DD2A84-45AD-43B0-9ADF-6491D4F53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1905AE-7D3E-4239-9A94-7589D12CD1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BA44AF-0E72-4080-8054-BBFC0FB75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95F09-9246-400F-9915-F8EB335A8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018F-5103-46D4-A46B-03B58C41784A}"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990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5d2985"/>
                </a:solidFill>
                <a:latin typeface="Arial"/>
              </a:rPr>
              <a:t>Klimawandel und</a:t>
            </a:r>
            <a:br>
              <a:rPr sz="4000"/>
            </a:br>
            <a:r>
              <a:rPr b="1" lang="de-DE" sz="4000" spc="-1" strike="noStrike">
                <a:solidFill>
                  <a:srgbClr val="5d2985"/>
                </a:solidFill>
                <a:latin typeface="Arial"/>
              </a:rPr>
              <a:t>Ernährungssicherheit</a:t>
            </a:r>
            <a:endParaRPr b="0" lang="en-US" sz="4000" spc="-1" strike="noStrike">
              <a:solidFill>
                <a:srgbClr val="000000"/>
              </a:solidFill>
              <a:latin typeface="Arial"/>
            </a:endParaRPr>
          </a:p>
        </p:txBody>
      </p:sp>
      <p:sp>
        <p:nvSpPr>
          <p:cNvPr id="52" name="PlaceHolder 2"/>
          <p:cNvSpPr>
            <a:spLocks noGrp="1"/>
          </p:cNvSpPr>
          <p:nvPr>
            <p:ph/>
          </p:nvPr>
        </p:nvSpPr>
        <p:spPr>
          <a:xfrm>
            <a:off x="-360" y="2514240"/>
            <a:ext cx="3809880" cy="3505320"/>
          </a:xfrm>
          <a:prstGeom prst="rect">
            <a:avLst/>
          </a:prstGeom>
          <a:noFill/>
          <a:ln w="0">
            <a:noFill/>
          </a:ln>
        </p:spPr>
        <p:txBody>
          <a:bodyPr lIns="90000" rIns="90000" tIns="46800" bIns="46800" anchor="t">
            <a:norm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51297f"/>
                </a:solidFill>
                <a:latin typeface="Arial"/>
              </a:rPr>
              <a:t>T</a:t>
            </a:r>
            <a:r>
              <a:rPr b="0" lang="de-DE" sz="2500" spc="-1" strike="noStrike">
                <a:solidFill>
                  <a:srgbClr val="51297f"/>
                </a:solidFill>
                <a:latin typeface="Arial"/>
              </a:rPr>
              <a:t>rends und zentrale </a:t>
            </a:r>
            <a:r>
              <a:rPr b="0" lang="de-DE" sz="3200" spc="-1" strike="noStrike">
                <a:solidFill>
                  <a:srgbClr val="51297f"/>
                </a:solidFill>
                <a:latin typeface="Arial"/>
              </a:rPr>
              <a:t>H</a:t>
            </a:r>
            <a:r>
              <a:rPr b="0" lang="de-DE" sz="2500" spc="-1" strike="noStrike">
                <a:solidFill>
                  <a:srgbClr val="51297f"/>
                </a:solidFill>
                <a:latin typeface="Arial"/>
              </a:rPr>
              <a:t>erausforderungen</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51297f"/>
                </a:solidFill>
                <a:latin typeface="Arial"/>
              </a:rPr>
              <a:t>Ergebnisse eines gemeinsamen </a:t>
            </a:r>
            <a:r>
              <a:rPr b="0" lang="de-DE" sz="3200" spc="-1" strike="noStrike">
                <a:solidFill>
                  <a:srgbClr val="51297f"/>
                </a:solidFill>
                <a:latin typeface="Arial"/>
              </a:rPr>
              <a:t>S</a:t>
            </a:r>
            <a:r>
              <a:rPr b="0" lang="de-DE" sz="2500" spc="-1" strike="noStrike">
                <a:solidFill>
                  <a:srgbClr val="51297f"/>
                </a:solidFill>
                <a:latin typeface="Arial"/>
              </a:rPr>
              <a:t>tudienvorhabens</a:t>
            </a:r>
            <a:endParaRPr b="0" lang="en-US" sz="2500" spc="-1" strike="noStrike">
              <a:solidFill>
                <a:srgbClr val="000000"/>
              </a:solidFill>
              <a:latin typeface="Arial"/>
            </a:endParaRPr>
          </a:p>
        </p:txBody>
      </p:sp>
      <p:pic>
        <p:nvPicPr>
          <p:cNvPr id="53" name="" descr=""/>
          <p:cNvPicPr/>
          <p:nvPr/>
        </p:nvPicPr>
        <p:blipFill>
          <a:blip r:embed="rId1"/>
          <a:stretch/>
        </p:blipFill>
        <p:spPr>
          <a:xfrm>
            <a:off x="3657600" y="2476440"/>
            <a:ext cx="5181480" cy="3338640"/>
          </a:xfrm>
          <a:prstGeom prst="rect">
            <a:avLst/>
          </a:prstGeom>
          <a:ln w="0">
            <a:noFill/>
          </a:ln>
        </p:spPr>
      </p:pic>
      <p:pic>
        <p:nvPicPr>
          <p:cNvPr id="54" name="" descr=""/>
          <p:cNvPicPr/>
          <p:nvPr/>
        </p:nvPicPr>
        <p:blipFill>
          <a:blip r:embed="rId2"/>
          <a:stretch/>
        </p:blipFill>
        <p:spPr>
          <a:xfrm>
            <a:off x="190440" y="5880240"/>
            <a:ext cx="838440" cy="465120"/>
          </a:xfrm>
          <a:prstGeom prst="rect">
            <a:avLst/>
          </a:prstGeom>
          <a:ln w="0">
            <a:noFill/>
          </a:ln>
        </p:spPr>
      </p:pic>
      <p:pic>
        <p:nvPicPr>
          <p:cNvPr id="55" name="" descr=""/>
          <p:cNvPicPr/>
          <p:nvPr/>
        </p:nvPicPr>
        <p:blipFill>
          <a:blip r:embed="rId3"/>
          <a:stretch/>
        </p:blipFill>
        <p:spPr>
          <a:xfrm>
            <a:off x="1054080" y="5816520"/>
            <a:ext cx="1371600" cy="549360"/>
          </a:xfrm>
          <a:prstGeom prst="rect">
            <a:avLst/>
          </a:prstGeom>
          <a:ln w="0">
            <a:noFill/>
          </a:ln>
        </p:spPr>
      </p:pic>
      <p:pic>
        <p:nvPicPr>
          <p:cNvPr id="56" name="" descr=""/>
          <p:cNvPicPr/>
          <p:nvPr/>
        </p:nvPicPr>
        <p:blipFill>
          <a:blip r:embed="rId4"/>
          <a:stretch/>
        </p:blipFill>
        <p:spPr>
          <a:xfrm>
            <a:off x="2438280" y="5842080"/>
            <a:ext cx="1371600" cy="50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Ernährungssicherheit</a:t>
            </a:r>
            <a:endParaRPr b="0" lang="en-US" sz="3400" spc="-1" strike="noStrike">
              <a:solidFill>
                <a:srgbClr val="000000"/>
              </a:solidFill>
              <a:latin typeface="Arial"/>
            </a:endParaRPr>
          </a:p>
        </p:txBody>
      </p:sp>
      <p:pic>
        <p:nvPicPr>
          <p:cNvPr id="84" name="" descr=""/>
          <p:cNvPicPr/>
          <p:nvPr/>
        </p:nvPicPr>
        <p:blipFill>
          <a:blip r:embed="rId1"/>
          <a:stretch/>
        </p:blipFill>
        <p:spPr>
          <a:xfrm>
            <a:off x="762120" y="1143000"/>
            <a:ext cx="5867280" cy="5175360"/>
          </a:xfrm>
          <a:prstGeom prst="rect">
            <a:avLst/>
          </a:prstGeom>
          <a:ln w="0">
            <a:noFill/>
          </a:ln>
        </p:spPr>
      </p:pic>
      <p:sp>
        <p:nvSpPr>
          <p:cNvPr id="85" name=""/>
          <p:cNvSpPr/>
          <p:nvPr/>
        </p:nvSpPr>
        <p:spPr>
          <a:xfrm>
            <a:off x="6732720" y="1773360"/>
            <a:ext cx="241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Klimawandel wirkt sich in vielfältiger Weise direkt und indirekt auf verschiedenen Dimensionen der Ernährungssicherheit a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ionale Trends: Afrika</a:t>
            </a:r>
            <a:endParaRPr b="0" lang="en-US" sz="2800" spc="-1" strike="noStrike">
              <a:solidFill>
                <a:srgbClr val="000000"/>
              </a:solidFill>
              <a:latin typeface="Arial"/>
            </a:endParaRPr>
          </a:p>
        </p:txBody>
      </p:sp>
      <p:sp>
        <p:nvSpPr>
          <p:cNvPr id="87" name=""/>
          <p:cNvSpPr/>
          <p:nvPr/>
        </p:nvSpPr>
        <p:spPr>
          <a:xfrm>
            <a:off x="5029200" y="1447920"/>
            <a:ext cx="3886200" cy="355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frika wird möglicherweise der am meisten vom Klimawandel betroffene Kontinent sein</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Vielzahl von zusammen-kommenden Stressfaktoren</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klimatisch ungünstige Veränderung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i="1" lang="de-DE" sz="2000" spc="-1" strike="noStrike">
                <a:solidFill>
                  <a:srgbClr val="000000"/>
                </a:solidFill>
                <a:latin typeface="Arial"/>
              </a:rPr>
              <a:t> </a:t>
            </a:r>
            <a:r>
              <a:rPr b="0" i="1" lang="de-DE" sz="2000" spc="-1" strike="noStrike">
                <a:solidFill>
                  <a:srgbClr val="000000"/>
                </a:solidFill>
                <a:latin typeface="Arial"/>
              </a:rPr>
              <a:t>geringe Anpassungskapazität</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17360" y="404640"/>
            <a:ext cx="405000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Afrika</a:t>
            </a:r>
            <a:endParaRPr b="0" lang="en-US" sz="3600" spc="-1" strike="noStrike">
              <a:solidFill>
                <a:srgbClr val="000000"/>
              </a:solidFill>
              <a:latin typeface="Arial"/>
            </a:endParaRPr>
          </a:p>
        </p:txBody>
      </p:sp>
      <p:sp>
        <p:nvSpPr>
          <p:cNvPr id="90" name=""/>
          <p:cNvSpPr/>
          <p:nvPr/>
        </p:nvSpPr>
        <p:spPr>
          <a:xfrm>
            <a:off x="990720" y="1676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9480" y="4368960"/>
            <a:ext cx="8229600" cy="21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asserknappheit:</a:t>
            </a:r>
            <a:r>
              <a:rPr b="0" lang="de-DE" sz="1800" spc="-1" strike="noStrike">
                <a:solidFill>
                  <a:srgbClr val="000000"/>
                </a:solidFill>
                <a:latin typeface="Arial"/>
              </a:rPr>
              <a:t> bis 2020 werden zwischen 75 und 250 Millionen Menschen Probleme beim Zugang zu Wasser habe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assertemperaturanstieg wird die lokale Ernährungssituation rund um die Süßwasserseen belasten:</a:t>
            </a:r>
            <a:br>
              <a:rPr sz="1800"/>
            </a:br>
            <a:r>
              <a:rPr b="0" lang="de-DE" sz="1800" spc="-1" strike="noStrike">
                <a:solidFill>
                  <a:srgbClr val="000000"/>
                </a:solidFill>
                <a:latin typeface="Arial"/>
              </a:rPr>
              <a:t> </a:t>
            </a:r>
            <a:r>
              <a:rPr b="0" lang="de-DE" sz="1800" spc="-1" strike="noStrike">
                <a:solidFill>
                  <a:srgbClr val="000000"/>
                </a:solidFill>
                <a:latin typeface="Wingdings"/>
                <a:ea typeface="Wingdings"/>
              </a:rPr>
              <a:t></a:t>
            </a:r>
            <a:r>
              <a:rPr b="0" lang="de-DE" sz="1800" spc="-1" strike="noStrike">
                <a:solidFill>
                  <a:srgbClr val="000000"/>
                </a:solidFill>
                <a:latin typeface="Arial"/>
              </a:rPr>
              <a:t> Temperaturanstieg führt zur Abnahme der Fischereierträge </a:t>
            </a:r>
            <a:br>
              <a:rPr sz="1800"/>
            </a:br>
            <a:r>
              <a:rPr b="0" lang="de-DE" sz="1800" spc="-1" strike="noStrike">
                <a:solidFill>
                  <a:srgbClr val="000000"/>
                </a:solidFill>
                <a:latin typeface="Arial"/>
              </a:rPr>
              <a:t> </a:t>
            </a:r>
            <a:r>
              <a:rPr b="0" lang="de-DE" sz="1800" spc="-1" strike="noStrike">
                <a:solidFill>
                  <a:srgbClr val="000000"/>
                </a:solidFill>
                <a:latin typeface="Wingdings"/>
                <a:ea typeface="Wingdings"/>
              </a:rPr>
              <a:t></a:t>
            </a:r>
            <a:r>
              <a:rPr b="0" lang="de-DE" sz="1800" spc="-1" strike="noStrike">
                <a:solidFill>
                  <a:srgbClr val="000000"/>
                </a:solidFill>
                <a:latin typeface="Arial"/>
              </a:rPr>
              <a:t> Überfischung der Binnengewäss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3301920" y="1308240"/>
            <a:ext cx="5791320" cy="23115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Agrarproduktion wird in vielen Ländern zurückgehen:</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herrschender Regenfeldanbau besonders   verletzlich für Klimavariabilität</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ringe Bewässerungslandwirtschaft</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ückgang landwirtschaftlich nutzbarer Flächen</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kürzung der Anbauzeiten in trockenen Gebieten</a:t>
            </a:r>
            <a:endParaRPr b="0" lang="en-US" sz="1800" spc="-1" strike="noStrike">
              <a:solidFill>
                <a:srgbClr val="000000"/>
              </a:solidFill>
              <a:latin typeface="Times New Roman"/>
            </a:endParaRPr>
          </a:p>
        </p:txBody>
      </p:sp>
      <p:pic>
        <p:nvPicPr>
          <p:cNvPr id="93" name="" descr=""/>
          <p:cNvPicPr/>
          <p:nvPr/>
        </p:nvPicPr>
        <p:blipFill>
          <a:blip r:embed="rId1"/>
          <a:stretch/>
        </p:blipFill>
        <p:spPr>
          <a:xfrm>
            <a:off x="762120" y="12952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Asien</a:t>
            </a:r>
            <a:endParaRPr b="0" lang="en-US" sz="3600" spc="-1" strike="noStrike">
              <a:solidFill>
                <a:srgbClr val="000000"/>
              </a:solidFill>
              <a:latin typeface="Arial"/>
            </a:endParaRPr>
          </a:p>
        </p:txBody>
      </p:sp>
      <p:sp>
        <p:nvSpPr>
          <p:cNvPr id="95" name=""/>
          <p:cNvSpPr/>
          <p:nvPr/>
        </p:nvSpPr>
        <p:spPr>
          <a:xfrm>
            <a:off x="762120" y="1295280"/>
            <a:ext cx="8001000" cy="387576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Zusammenfassung der Hotspots mit Bezug auf Ernährung:</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Gletscherschmelze</a:t>
            </a:r>
            <a:r>
              <a:rPr b="0" lang="de-DE" sz="2000" spc="-1" strike="noStrike">
                <a:solidFill>
                  <a:srgbClr val="000000"/>
                </a:solidFill>
                <a:latin typeface="Arial"/>
              </a:rPr>
              <a:t> </a:t>
            </a:r>
            <a:r>
              <a:rPr b="0" lang="de-DE" sz="2000" spc="-1" strike="noStrike">
                <a:solidFill>
                  <a:srgbClr val="000000"/>
                </a:solidFill>
                <a:latin typeface="Wingdings"/>
                <a:ea typeface="Wingdings"/>
              </a:rPr>
              <a:t></a:t>
            </a:r>
            <a:r>
              <a:rPr b="0" lang="de-DE" sz="2000" spc="-1" strike="noStrike">
                <a:solidFill>
                  <a:srgbClr val="000000"/>
                </a:solidFill>
                <a:latin typeface="Arial"/>
              </a:rPr>
              <a:t> Trinkwasserverfügbarkeit und Bewässerungslandwirtschaft  stark beeinträchtigt</a:t>
            </a:r>
            <a:endParaRPr b="0" lang="en-US" sz="2000" spc="-1" strike="noStrike">
              <a:solidFill>
                <a:srgbClr val="000000"/>
              </a:solidFill>
              <a:latin typeface="Times New Roman"/>
            </a:endParaRPr>
          </a:p>
          <a:p>
            <a:pPr marL="196920" indent="-1969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Meeresspiegelanstieg</a:t>
            </a:r>
            <a:r>
              <a:rPr b="0" lang="de-DE" sz="2000" spc="-1" strike="noStrike">
                <a:solidFill>
                  <a:srgbClr val="000000"/>
                </a:solidFill>
                <a:latin typeface="Arial"/>
              </a:rPr>
              <a:t> </a:t>
            </a:r>
            <a:r>
              <a:rPr b="0" lang="de-DE" sz="2000" spc="-1" strike="noStrike">
                <a:solidFill>
                  <a:srgbClr val="000000"/>
                </a:solidFill>
                <a:latin typeface="Wingdings"/>
                <a:ea typeface="Wingdings"/>
              </a:rPr>
              <a:t></a:t>
            </a:r>
            <a:r>
              <a:rPr b="0" lang="de-DE" sz="2000" spc="-1" strike="noStrike">
                <a:solidFill>
                  <a:srgbClr val="000000"/>
                </a:solidFill>
                <a:latin typeface="Arial"/>
              </a:rPr>
              <a:t> Überschwemmungen, Versalzung der Böden; Verwüstungen durch Wirbelstürme</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ückgang der Ernteerträge</a:t>
            </a:r>
            <a:r>
              <a:rPr b="0" lang="de-DE" sz="2000" spc="-1" strike="noStrike">
                <a:solidFill>
                  <a:srgbClr val="000000"/>
                </a:solidFill>
                <a:latin typeface="Arial"/>
              </a:rPr>
              <a:t> um bis zu 30% in Zentral- und Südasi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Rückgang der Frischwasserverfügbarkeit</a:t>
            </a:r>
            <a:r>
              <a:rPr b="0" lang="de-DE" sz="2000" spc="-1" strike="noStrike">
                <a:solidFill>
                  <a:srgbClr val="000000"/>
                </a:solidFill>
                <a:latin typeface="Arial"/>
              </a:rPr>
              <a:t> durch Klimawandel und schneller Urbanisierung </a:t>
            </a:r>
            <a:r>
              <a:rPr b="0" lang="de-DE" sz="2000" spc="-1" strike="noStrike">
                <a:solidFill>
                  <a:srgbClr val="000000"/>
                </a:solidFill>
                <a:latin typeface="Wingdings"/>
                <a:ea typeface="Wingdings"/>
              </a:rPr>
              <a:t></a:t>
            </a:r>
            <a:r>
              <a:rPr b="0" lang="de-DE" sz="2000" spc="-1" strike="noStrike">
                <a:solidFill>
                  <a:srgbClr val="000000"/>
                </a:solidFill>
                <a:latin typeface="Arial"/>
              </a:rPr>
              <a:t> Zugangsprobleme für 1 Mrd. Mensch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Erhöhung von Durchfall- und Cholera-Erkrankungen</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Lateinamerika</a:t>
            </a:r>
            <a:endParaRPr b="0" lang="en-US" sz="3600" spc="-1" strike="noStrike">
              <a:solidFill>
                <a:srgbClr val="000000"/>
              </a:solidFill>
              <a:latin typeface="Arial"/>
            </a:endParaRPr>
          </a:p>
        </p:txBody>
      </p:sp>
      <p:pic>
        <p:nvPicPr>
          <p:cNvPr id="97" name="" descr=""/>
          <p:cNvPicPr/>
          <p:nvPr/>
        </p:nvPicPr>
        <p:blipFill>
          <a:blip r:embed="rId1"/>
          <a:stretch/>
        </p:blipFill>
        <p:spPr>
          <a:xfrm>
            <a:off x="431640" y="1206360"/>
            <a:ext cx="4149720" cy="4992840"/>
          </a:xfrm>
          <a:prstGeom prst="rect">
            <a:avLst/>
          </a:prstGeom>
          <a:ln w="0">
            <a:noFill/>
          </a:ln>
        </p:spPr>
      </p:pic>
      <p:sp>
        <p:nvSpPr>
          <p:cNvPr id="98" name=""/>
          <p:cNvSpPr/>
          <p:nvPr/>
        </p:nvSpPr>
        <p:spPr>
          <a:xfrm>
            <a:off x="4952880" y="15238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Hotspots in Lateinamerika</a:t>
            </a:r>
            <a:endParaRPr b="0" lang="en-US" sz="2000" spc="-1" strike="noStrike">
              <a:solidFill>
                <a:srgbClr val="000000"/>
              </a:solidFill>
              <a:latin typeface="Times New Roman"/>
            </a:endParaRPr>
          </a:p>
        </p:txBody>
      </p:sp>
      <p:sp>
        <p:nvSpPr>
          <p:cNvPr id="99" name=""/>
          <p:cNvSpPr/>
          <p:nvPr/>
        </p:nvSpPr>
        <p:spPr>
          <a:xfrm>
            <a:off x="457200" y="6019920"/>
            <a:ext cx="1066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Quelle: IPCC 2007</a:t>
            </a:r>
            <a:endParaRPr b="0" lang="en-US" sz="800" spc="-1" strike="noStrike">
              <a:solidFill>
                <a:srgbClr val="000000"/>
              </a:solidFill>
              <a:latin typeface="Times New Roman"/>
            </a:endParaRPr>
          </a:p>
        </p:txBody>
      </p:sp>
      <p:pic>
        <p:nvPicPr>
          <p:cNvPr id="100" name="" descr=""/>
          <p:cNvPicPr/>
          <p:nvPr/>
        </p:nvPicPr>
        <p:blipFill>
          <a:blip r:embed="rId2"/>
          <a:stretch/>
        </p:blipFill>
        <p:spPr>
          <a:xfrm>
            <a:off x="4648320" y="1905120"/>
            <a:ext cx="394164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gionale Trends: Lateinamerika</a:t>
            </a:r>
            <a:endParaRPr b="0" lang="en-US" sz="3600" spc="-1" strike="noStrike">
              <a:solidFill>
                <a:srgbClr val="000000"/>
              </a:solidFill>
              <a:latin typeface="Arial"/>
            </a:endParaRPr>
          </a:p>
        </p:txBody>
      </p:sp>
      <p:sp>
        <p:nvSpPr>
          <p:cNvPr id="102" name=""/>
          <p:cNvSpPr/>
          <p:nvPr/>
        </p:nvSpPr>
        <p:spPr>
          <a:xfrm>
            <a:off x="762120" y="1295280"/>
            <a:ext cx="8001000" cy="49726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Zusammenfassung der Hotspots mit Bezug auf Ernährung:</a:t>
            </a:r>
            <a:endParaRPr b="0" lang="en-US" sz="20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alzung der Böden in trockenen Gebieten</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gang landwirtschaftlicher Nutzflächen für wichtige Nutzpflanzen (Sojabohne)</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gang von Graslandflächen für die Tierproduktion</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avannenbildung weiter Teile des tropischen Regenwaldes </a:t>
            </a:r>
            <a:endParaRPr b="0" lang="en-US" sz="2200" spc="-1" strike="noStrike">
              <a:solidFill>
                <a:srgbClr val="000000"/>
              </a:solidFill>
              <a:latin typeface="Times New Roman"/>
            </a:endParaRPr>
          </a:p>
          <a:p>
            <a:pPr lvl="1" marL="762120" indent="-289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lust an Artenvielfalt und Bodenqualität</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flutungen tiefer liegender Flächen durch Meeresspiegelanstieg</a:t>
            </a:r>
            <a:endParaRPr b="0" lang="en-US" sz="2200" spc="-1" strike="noStrike">
              <a:solidFill>
                <a:srgbClr val="000000"/>
              </a:solidFill>
              <a:latin typeface="Times New Roman"/>
            </a:endParaRPr>
          </a:p>
          <a:p>
            <a:pPr marL="196920" indent="-19692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duktion des Frischwassers durch veränderte Niederschlagsmengen und Rückgang der Gletsch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npassungskapazitäten</a:t>
            </a:r>
            <a:endParaRPr b="0" lang="en-US" sz="3600" spc="-1" strike="noStrike">
              <a:solidFill>
                <a:srgbClr val="000000"/>
              </a:solidFill>
              <a:latin typeface="Arial"/>
            </a:endParaRPr>
          </a:p>
        </p:txBody>
      </p:sp>
      <p:sp>
        <p:nvSpPr>
          <p:cNvPr id="104" name=""/>
          <p:cNvSpPr/>
          <p:nvPr/>
        </p:nvSpPr>
        <p:spPr>
          <a:xfrm>
            <a:off x="533520" y="1219320"/>
            <a:ext cx="8381880" cy="45176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aussetzung: Rechtzeitige Aufklärung über zu erwartende Veränderung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schiede in den Anpassungsmöglichkeiten verschiedener Famili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onders marginalisierte Produzenten werden Probleme haben, angemessen   auf den Klimawandel zu reagier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rginalisierung wird die zu erwartenden Auswirkungen auf die Ernährungssicherheit zusätzlich verstärk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mit ländliche Familien Anpassungsmaßnahmen vornehmen können, müssen ihre strukturellen Benachteiligungen beseitigt werd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änderte Klimaparameter </a:t>
            </a:r>
            <a:r>
              <a:rPr b="0" lang="de-DE" sz="1800" spc="-1" strike="noStrike">
                <a:solidFill>
                  <a:srgbClr val="000000"/>
                </a:solidFill>
                <a:latin typeface="Wingdings"/>
                <a:ea typeface="Wingdings"/>
              </a:rPr>
              <a:t></a:t>
            </a:r>
            <a:r>
              <a:rPr b="0" lang="de-DE" sz="1800" spc="-1" strike="noStrike">
                <a:solidFill>
                  <a:srgbClr val="000000"/>
                </a:solidFill>
                <a:latin typeface="Arial"/>
              </a:rPr>
              <a:t> Erarbeitung neuer Konzepte für ländliche Entwicklung</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Zentrales Problem: </a:t>
            </a:r>
            <a:r>
              <a:rPr b="0" lang="de-DE" sz="1800" spc="-1" strike="noStrike">
                <a:solidFill>
                  <a:srgbClr val="000000"/>
                </a:solidFill>
                <a:latin typeface="Arial"/>
              </a:rPr>
              <a:t>Viele Entwicklungsländer nehmen das Problem Klimawandel kaum wahr, vernachlässigen ländliche Räume, haben schwache Regierungen, geringe Finanzmittel und sind von Bürgerkriegen destabilisie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6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as Recht auf Nahrung und Anpassung an den Klimawandel</a:t>
            </a:r>
            <a:endParaRPr b="0" lang="en-US" sz="1600" spc="-1" strike="noStrike">
              <a:solidFill>
                <a:srgbClr val="000000"/>
              </a:solidFill>
              <a:latin typeface="Arial"/>
            </a:endParaRPr>
          </a:p>
        </p:txBody>
      </p:sp>
      <p:sp>
        <p:nvSpPr>
          <p:cNvPr id="10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24000" y="1197000"/>
            <a:ext cx="8135640" cy="54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Klimawandel gefährdet durch seine Auswirkungen die Ernährungssicherheit in vielen Regionen dieser Welt und damit auch das Recht auf Nahrung.</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ermeidung eines gefährlichen Klimawandels, also die Reduktion von Emissionen, ist eine dringliche Aufgabe und auch zur Wahrung der Menschenrechte gebote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npassung an die negativen Folgen des Klimawandels ist ebenfalls menschenrechtlich relevant:</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Menschen, deren Ernährungssicherheit besonders durch den Klimawandel gefährdet ist, müssen bei der Entwicklung von Anpassungsmaßnahmen durch Regierungen oder andere besondere Aufmerksamkeit bekommen. </a:t>
            </a:r>
            <a:endParaRPr b="0" lang="en-US" sz="1800" spc="-1" strike="noStrike">
              <a:solidFill>
                <a:srgbClr val="000000"/>
              </a:solidFill>
              <a:latin typeface="Times New Roman"/>
            </a:endParaRPr>
          </a:p>
          <a:p>
            <a:pPr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Verursacher des Klimawandels, insbesondere die Industrieländer und die reichen Teile der Weltbevölkerung, stehen in der menschenrechtlichen Verpflichtung, die besonders Gefährdeten bei der Anpassung finanziell und durch andere Maßnahmen zu unterstütz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9280" y="260280"/>
            <a:ext cx="5761080" cy="5684760"/>
          </a:xfrm>
          <a:prstGeom prst="rect">
            <a:avLst/>
          </a:prstGeom>
          <a:ln w="0">
            <a:noFill/>
          </a:ln>
        </p:spPr>
      </p:pic>
      <p:sp>
        <p:nvSpPr>
          <p:cNvPr id="12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
          <p:cNvSpPr/>
          <p:nvPr/>
        </p:nvSpPr>
        <p:spPr>
          <a:xfrm>
            <a:off x="5580000" y="692280"/>
            <a:ext cx="3581640" cy="4363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er sind die besonders Gefährdet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stematische Identifizierung der besonders gegenüber den Folgen des Klimawandels Verwundbaren als erster Schritt für zielgerichtete Anpassung</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 sind Menschen besonders anfällig, z.B. durch Armut, Krankheiten, schlechte soziale Infrastruktur, und wo sind sie zusätzlich Risiken durch den Klimawandel ausgesetzt?</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02960" y="5949360"/>
            <a:ext cx="8538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lle der Grafik: O’Brien et al. 2004: Mapping vulnerability to multiple stressors: climate change and globalization in In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Environmental Change 14 (2004) 303–313.</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76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smaßnahmen auf verschiedenen Ebenen</a:t>
            </a:r>
            <a:br>
              <a:rPr sz="1600"/>
            </a:br>
            <a:r>
              <a:rPr b="1" lang="de-DE" sz="1600" spc="-1" strike="noStrike" u="sng">
                <a:solidFill>
                  <a:srgbClr val="000000"/>
                </a:solidFill>
                <a:uFillTx/>
                <a:latin typeface="Arial"/>
              </a:rPr>
              <a:t> (Beispiel Ernährungssicherheit)</a:t>
            </a:r>
            <a:endParaRPr b="0" lang="en-US" sz="1600" spc="-1" strike="noStrike">
              <a:solidFill>
                <a:srgbClr val="000000"/>
              </a:solidFill>
              <a:latin typeface="Arial"/>
            </a:endParaRPr>
          </a:p>
        </p:txBody>
      </p:sp>
      <p:sp>
        <p:nvSpPr>
          <p:cNvPr id="126"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8367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6" name=""/>
          <p:cNvGraphicFramePr/>
          <p:nvPr/>
        </p:nvGraphicFramePr>
        <p:xfrm>
          <a:off x="457200" y="1058760"/>
          <a:ext cx="8229600" cy="5067360"/>
        </p:xfrm>
        <a:graphic>
          <a:graphicData uri="http://schemas.openxmlformats.org/drawingml/2006/table">
            <a:tbl>
              <a:tblPr/>
              <a:tblGrid>
                <a:gridCol w="1219320"/>
                <a:gridCol w="2819160"/>
                <a:gridCol w="2133720"/>
                <a:gridCol w="205740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Maßnahme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Pro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Re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handel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eitlinien für nationale Anpassungsstrategi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ntwicklung neuer Pflanzenart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Maßnahmen der Nahrungsmittel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Maßnahmen zur Initiierung von Verhaltens-änderungen werden ergriff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legen von Getreidevorrät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andwirtschaftspolitik zur Veränderung von Pflanzen und Bewirtschaftungs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Steuern und Ausgaben zur Erhöhung von Nahrungsmittelimporten und der Katastrophen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kleinen Infrastruk-turInvestitionen mit Nutzen ausschließlich für die lokale Bevölkerung werden getätig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k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en zur Regenwasser-nutzung, Bewässerung und Über-schwemmungsschutz</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inrichtung von lokalen Saatgutbank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okale Koordi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Gegenseitige Unterstütz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bwanderung als Anpassungsmöglichkeit wird ignorier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dividue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breiterung der Einkommens-quell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 in Weiterbildung</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landwirtschaftlichen 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us- oder Abwander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innehmen der eigenen erhöhten Vulnerabilität und des verringerten Wohlstands</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183672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1836720" y="215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1836720" y="236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324000" y="646740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Adger, W.N./Paavola, J./Huq, S. 2006: Toward Justice in Adaptation to Climate Change.</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Klimawandel: Eine Einleitung</a:t>
            </a:r>
            <a:endParaRPr b="0" lang="en-US" sz="3600" spc="-1" strike="noStrike">
              <a:solidFill>
                <a:srgbClr val="000000"/>
              </a:solidFill>
              <a:latin typeface="Arial"/>
            </a:endParaRPr>
          </a:p>
        </p:txBody>
      </p:sp>
      <p:sp>
        <p:nvSpPr>
          <p:cNvPr id="58" name=""/>
          <p:cNvSpPr/>
          <p:nvPr/>
        </p:nvSpPr>
        <p:spPr>
          <a:xfrm>
            <a:off x="533520" y="1295280"/>
            <a:ext cx="8153280" cy="38714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tklimarat: Signifikanter Trend der Erderwärmung rund um den Globus mit regionalen Veränderung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ölf der letzten dreizehn Jahre (1995-2007) gehörten zu den wärmsten Jahren seit der industriellen Messung der globalen Oberflächentemperatur</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den gemäßigten Klimaten steigt die Durchschnittstemperatur kräftiger als in den Trop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bst beim sofortigen Stopp des Ausstoßes aller menschengemachten Treibhausgase würde es für Jahrzehnte weiterhin zur Erwärmung kommen</a:t>
            </a:r>
            <a:endParaRPr b="0" lang="en-US" sz="1800" spc="-1" strike="noStrike">
              <a:solidFill>
                <a:srgbClr val="000000"/>
              </a:solidFill>
              <a:latin typeface="Times New Roman"/>
            </a:endParaRPr>
          </a:p>
          <a:p>
            <a:pPr marL="196920" indent="-19692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missionen von klimarelevanten Gasen nahmen in einigen Industrieländern und den schnell wachsenden Schwellenländern in den letzten Jahren weiter zu</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 descr=""/>
          <p:cNvPicPr/>
          <p:nvPr/>
        </p:nvPicPr>
        <p:blipFill>
          <a:blip r:embed="rId1"/>
          <a:stretch/>
        </p:blipFill>
        <p:spPr>
          <a:xfrm>
            <a:off x="1447920" y="4444920"/>
            <a:ext cx="5244840" cy="195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Herausforderungen </a:t>
            </a:r>
            <a:endParaRPr b="0" lang="en-US" sz="3600" spc="-1" strike="noStrike">
              <a:solidFill>
                <a:srgbClr val="000000"/>
              </a:solidFill>
              <a:latin typeface="Arial"/>
            </a:endParaRPr>
          </a:p>
        </p:txBody>
      </p:sp>
      <p:sp>
        <p:nvSpPr>
          <p:cNvPr id="143" name=""/>
          <p:cNvSpPr/>
          <p:nvPr/>
        </p:nvSpPr>
        <p:spPr>
          <a:xfrm>
            <a:off x="324000" y="1052640"/>
            <a:ext cx="8820000" cy="5925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an den Klimawandel gewinnt durch das gefährdete Recht auf Nahrung eine menschenrechtliche Perspektive und Verpflichtung</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imawandel und Ernährungssicherheit müssen ein zentrales Thema der Entwicklungszusammenarbeit wer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ollte die Länder bei dem Verstehen der Auswirkungen des Klimawandels  und der Entwicklung von nötigen Anpassungsmaßnahmen unterstütz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ierungen der Entwicklungsländer müssen die besonders Gefährdeten in den Blick nehm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Verursacher des Klimawandels stehen in der Pflicht, die Ursachen (Emissionen) zu verringern und die besonders Betroffenen bei der Anpassung finanziell zu unterstütz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Herausforderungen müssen auch in einem zukünftigen UN-Klimaregime sowie in der Entwicklungspolitik insgesamt offensiv angegangen wer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Impressum</a:t>
            </a:r>
            <a:endParaRPr b="0" lang="en-US" sz="3600" spc="-1" strike="noStrike">
              <a:solidFill>
                <a:srgbClr val="000000"/>
              </a:solidFill>
              <a:latin typeface="Arial"/>
            </a:endParaRPr>
          </a:p>
        </p:txBody>
      </p:sp>
      <p:sp>
        <p:nvSpPr>
          <p:cNvPr id="145" name=""/>
          <p:cNvSpPr/>
          <p:nvPr/>
        </p:nvSpPr>
        <p:spPr>
          <a:xfrm>
            <a:off x="533520" y="1738440"/>
            <a:ext cx="7619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ausg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manw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iserstr. 2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113 Bo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 0228 / 60492-0, Fax: -1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germanwatch.org</a:t>
            </a:r>
            <a:endParaRPr b="0" lang="en-US" sz="1600" spc="-1" strike="noStrike">
              <a:solidFill>
                <a:srgbClr val="000000"/>
              </a:solidFill>
              <a:latin typeface="Times New Roman"/>
            </a:endParaRPr>
          </a:p>
        </p:txBody>
      </p:sp>
      <p:sp>
        <p:nvSpPr>
          <p:cNvPr id="146" name=""/>
          <p:cNvSpPr/>
          <p:nvPr/>
        </p:nvSpPr>
        <p:spPr>
          <a:xfrm>
            <a:off x="533520" y="3581280"/>
            <a:ext cx="8001000" cy="2501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taltung/Redaktion: Martin Goeke, Sven Harmeling (200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Foliensatz wurde auf der Grundlage der Kurzstudie “Klimawandel und Ernährungssicherheit“ von Christoph Bals, Sven Harmeling und Michael Windfuhr erstellt (abrufbar unter http://www.germanwatch.org/klima/klimern07.ht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ublikation wurde finanziell vom Bundesministerium für wirtschaftliche Zusammenarbeit und Entwicklung (BMZ) unterstützt. Die Förderer übernehmen keine Gewähr für die Richtigkeit, die Genauigkeit und Vollständigkeit der Angaben sowie für die Beachtung privater Rechte Dritter. Die geäußerten Ansichten und Meinungen müssen nicht mit denen der Förderer übereinsti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609480"/>
            <a:ext cx="78487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ie fanden diesen Foliensatz interessant und hilfreich?</a:t>
            </a:r>
            <a:endParaRPr b="0" lang="en-US" sz="3600" spc="-1" strike="noStrike">
              <a:solidFill>
                <a:srgbClr val="000000"/>
              </a:solidFill>
              <a:latin typeface="Times New Roman"/>
            </a:endParaRPr>
          </a:p>
        </p:txBody>
      </p:sp>
      <p:sp>
        <p:nvSpPr>
          <p:cNvPr id="148" name=""/>
          <p:cNvSpPr/>
          <p:nvPr/>
        </p:nvSpPr>
        <p:spPr>
          <a:xfrm>
            <a:off x="533520" y="230832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produktion</a:t>
            </a:r>
            <a:endParaRPr b="0" lang="en-US" sz="3400" spc="-1" strike="noStrike">
              <a:solidFill>
                <a:srgbClr val="000000"/>
              </a:solidFill>
              <a:latin typeface="Arial"/>
            </a:endParaRPr>
          </a:p>
        </p:txBody>
      </p:sp>
      <p:pic>
        <p:nvPicPr>
          <p:cNvPr id="61" name="" descr=""/>
          <p:cNvPicPr/>
          <p:nvPr/>
        </p:nvPicPr>
        <p:blipFill>
          <a:blip r:embed="rId1"/>
          <a:stretch/>
        </p:blipFill>
        <p:spPr>
          <a:xfrm>
            <a:off x="380880" y="914400"/>
            <a:ext cx="7191360" cy="5078520"/>
          </a:xfrm>
          <a:prstGeom prst="rect">
            <a:avLst/>
          </a:prstGeom>
          <a:ln w="0">
            <a:noFill/>
          </a:ln>
        </p:spPr>
      </p:pic>
      <p:sp>
        <p:nvSpPr>
          <p:cNvPr id="62" name=""/>
          <p:cNvSpPr/>
          <p:nvPr/>
        </p:nvSpPr>
        <p:spPr>
          <a:xfrm>
            <a:off x="304920" y="609588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Hamburger Bildungsserver 200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724360" y="3662280"/>
            <a:ext cx="3240360" cy="2430720"/>
          </a:xfrm>
          <a:prstGeom prst="rect">
            <a:avLst/>
          </a:prstGeom>
          <a:ln w="0">
            <a:noFill/>
          </a:ln>
        </p:spPr>
      </p:pic>
      <p:sp>
        <p:nvSpPr>
          <p:cNvPr id="64" name="PlaceHolder 1"/>
          <p:cNvSpPr>
            <a:spLocks noGrp="1"/>
          </p:cNvSpPr>
          <p:nvPr>
            <p:ph type="title"/>
          </p:nvPr>
        </p:nvSpPr>
        <p:spPr>
          <a:xfrm>
            <a:off x="228240" y="609480"/>
            <a:ext cx="8915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mittelproduktion</a:t>
            </a:r>
            <a:endParaRPr b="0" lang="en-US" sz="3400" spc="-1" strike="noStrike">
              <a:solidFill>
                <a:srgbClr val="000000"/>
              </a:solidFill>
              <a:latin typeface="Arial"/>
            </a:endParaRPr>
          </a:p>
        </p:txBody>
      </p:sp>
      <p:sp>
        <p:nvSpPr>
          <p:cNvPr id="65" name=""/>
          <p:cNvSpPr/>
          <p:nvPr/>
        </p:nvSpPr>
        <p:spPr>
          <a:xfrm>
            <a:off x="228600" y="1371600"/>
            <a:ext cx="8763120" cy="3778920"/>
          </a:xfrm>
          <a:prstGeom prst="rect">
            <a:avLst/>
          </a:prstGeom>
          <a:noFill/>
          <a:ln w="0">
            <a:noFill/>
          </a:ln>
        </p:spPr>
        <p:style>
          <a:lnRef idx="0"/>
          <a:fillRef idx="0"/>
          <a:effectRef idx="0"/>
          <a:fontRef idx="minor"/>
        </p:style>
        <p:txBody>
          <a:bodyPr lIns="90000" rIns="90000" tIns="46800" bIns="46800" anchor="t">
            <a:spAutoFit/>
          </a:bodyPr>
          <a:p>
            <a:pPr marL="289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Klimawandel wird in mehrfacher Hinsicht Auswirkungen auf die Nahrungsmittelproduktion hab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igende Temperaturen beeinflussen das Wachstum von Pflanzen </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änderte Niederschlagsmuster können Auswirkungen auf Ernteerträge hab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fügbare Wasserressourcen werden knapper werd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zahlreichen Regionen könnte Wetterextreme zunehmen</a:t>
            </a:r>
            <a:endParaRPr b="0" lang="en-US" sz="2000" spc="-1" strike="noStrike">
              <a:solidFill>
                <a:srgbClr val="000000"/>
              </a:solidFill>
              <a:latin typeface="Times New Roman"/>
            </a:endParaRPr>
          </a:p>
          <a:p>
            <a:pPr lvl="1" marL="768240" indent="-2887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eresspiegelanstieg droht fruchtbare Küstenebenen und Flussdeltaregionen zu überfluten und zu versalzen</a:t>
            </a:r>
            <a:endParaRPr b="0" lang="en-US" sz="2000" spc="-1" strike="noStrike">
              <a:solidFill>
                <a:srgbClr val="000000"/>
              </a:solidFill>
              <a:latin typeface="Times New Roman"/>
            </a:endParaRPr>
          </a:p>
          <a:p>
            <a:pPr lvl="1" marL="768240" indent="-2887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4568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Arial"/>
              </a:rPr>
              <a:t>Klimawandel und Nahrungsversorgung: Projektionen für die Zukunft</a:t>
            </a:r>
            <a:endParaRPr b="0" lang="en-US" sz="3400" spc="-1" strike="noStrike">
              <a:solidFill>
                <a:srgbClr val="000000"/>
              </a:solidFill>
              <a:latin typeface="Arial"/>
            </a:endParaRPr>
          </a:p>
        </p:txBody>
      </p:sp>
      <p:sp>
        <p:nvSpPr>
          <p:cNvPr id="67" name=""/>
          <p:cNvSpPr/>
          <p:nvPr/>
        </p:nvSpPr>
        <p:spPr>
          <a:xfrm>
            <a:off x="457200" y="1305000"/>
            <a:ext cx="8458200" cy="44614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leitbare Trends aus den neuesten wissenschaftlichen Studien</a:t>
            </a:r>
            <a:r>
              <a:rPr b="0" lang="de-DE" sz="1800" spc="-1" strike="noStrike" baseline="30000">
                <a:solidFill>
                  <a:srgbClr val="000000"/>
                </a:solidFill>
                <a:latin typeface="Arial"/>
              </a:rPr>
              <a:t>*</a:t>
            </a:r>
            <a:r>
              <a:rPr b="0" lang="de-DE" sz="1800" spc="-1" strike="noStrike">
                <a:solidFill>
                  <a:srgbClr val="000000"/>
                </a:solidFill>
                <a:latin typeface="Arial"/>
              </a:rPr>
              <a:t>:</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inem Temperaturanstieg von 2,5 - 4°C könnten zwischen 65 und 125 Millionen Menschen von Hunger und Unterernährung zusätzlich betroffen sei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ischen 2,4 und 3,1 Milliarden Menschen wären von Wasserknappheit bei einem Temperaturanstieg von bis zu 2,5°C betroffen, Dürreregionen werden weiter wachse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tscherschmelze führt zum Rückgang der Wasserversorgung</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30% der bedrohten Arten bei erhöhten Temperaturen von 1,5 - 2,5°C sind von einem erhöhten Aussterberisiko bedroht</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nahme an Wetterextreme mit enormem Zerstörungspotential</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flutungen aufgrund des Meeresspiegelanstieges wird Millionen betreffen</a:t>
            </a:r>
            <a:endParaRPr b="0" lang="en-US" sz="1800" spc="-1" strike="noStrike">
              <a:solidFill>
                <a:srgbClr val="000000"/>
              </a:solidFill>
              <a:latin typeface="Times New Roman"/>
            </a:endParaRPr>
          </a:p>
          <a:p>
            <a:pPr marL="196920" indent="-1969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alzung der Böden beeinträchtigt die Landwirtschaft besonders kleiner Inselstaaten</a:t>
            </a:r>
            <a:endParaRPr b="0" lang="en-US" sz="1800" spc="-1" strike="noStrike">
              <a:solidFill>
                <a:srgbClr val="000000"/>
              </a:solidFill>
              <a:latin typeface="Times New Roman"/>
            </a:endParaRPr>
          </a:p>
        </p:txBody>
      </p:sp>
      <p:sp>
        <p:nvSpPr>
          <p:cNvPr id="68" name=""/>
          <p:cNvSpPr/>
          <p:nvPr/>
        </p:nvSpPr>
        <p:spPr>
          <a:xfrm>
            <a:off x="457200" y="6453360"/>
            <a:ext cx="72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iese und die Zahlenangaben späterer Folien beruhen fast alle auf den Angaben des 3. Sachstandberichts des IPCC-Bericht von April 2007, soweit nicht anders angegeb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er Begriff der Ernährungssicherheit</a:t>
            </a:r>
            <a:endParaRPr b="0" lang="en-US" sz="3600" spc="-1" strike="noStrike">
              <a:solidFill>
                <a:srgbClr val="000000"/>
              </a:solidFill>
              <a:latin typeface="Arial"/>
            </a:endParaRPr>
          </a:p>
        </p:txBody>
      </p:sp>
      <p:sp>
        <p:nvSpPr>
          <p:cNvPr id="70" name=""/>
          <p:cNvSpPr/>
          <p:nvPr/>
        </p:nvSpPr>
        <p:spPr>
          <a:xfrm>
            <a:off x="76212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1371600"/>
            <a:ext cx="8076960" cy="50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drei Verwendungen des Begriffs um Unterernährung und Hungerprobleme zu erfass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Globale Ernährungssicherheit</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hältnis zwischen Agrarproduktion und Bevölkerungszahl; Beobachtung der globalen Versorgungslage (Verfügbarkeit von Nahrungsmittel und Stabilität der Nachfrage)</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Ernährungssicherheit auf nationaler Eben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cheidend der Zugang betroffener Bevölkerungsgruppen zu Nahrungsmitteln; arme Bevölkerungsgruppen können auch in Überschussregionen hunger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Ernährungssicherheit auf Haushaltsebene</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fügung von Nahrungsmitteln und Einkommen in Familien bzw. Haushalten; bei wenig Vielfalt an Nahrungsmitteln kann es zu Mangelernährung kommen; schlechte Gesundheitssituation kann zu Unterernährung führ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Globale Statistiken</a:t>
            </a:r>
            <a:endParaRPr b="0" lang="en-US" sz="3600" spc="-1" strike="noStrike">
              <a:solidFill>
                <a:srgbClr val="000000"/>
              </a:solidFill>
              <a:latin typeface="Arial"/>
            </a:endParaRPr>
          </a:p>
        </p:txBody>
      </p:sp>
      <p:sp>
        <p:nvSpPr>
          <p:cNvPr id="73" name=""/>
          <p:cNvSpPr/>
          <p:nvPr/>
        </p:nvSpPr>
        <p:spPr>
          <a:xfrm>
            <a:off x="990720" y="1676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57200" y="5181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ahl der Unterernährten = 854 Millionen, davon 820 Mio. in Entwicklungsländern  </a:t>
            </a:r>
            <a:br>
              <a:rPr sz="2400"/>
            </a:br>
            <a:endParaRPr b="0" lang="en-US" sz="2400" spc="-1" strike="noStrike">
              <a:solidFill>
                <a:srgbClr val="000000"/>
              </a:solidFill>
              <a:latin typeface="Times New Roman"/>
            </a:endParaRPr>
          </a:p>
        </p:txBody>
      </p:sp>
      <p:pic>
        <p:nvPicPr>
          <p:cNvPr id="75" name="" descr=""/>
          <p:cNvPicPr/>
          <p:nvPr/>
        </p:nvPicPr>
        <p:blipFill>
          <a:blip r:embed="rId1"/>
          <a:stretch/>
        </p:blipFill>
        <p:spPr>
          <a:xfrm>
            <a:off x="457200" y="1201680"/>
            <a:ext cx="822960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Hunger - ein ländliches Problem</a:t>
            </a:r>
            <a:endParaRPr b="0" lang="en-US" sz="3600" spc="-1" strike="noStrike">
              <a:solidFill>
                <a:srgbClr val="000000"/>
              </a:solidFill>
              <a:latin typeface="Arial"/>
            </a:endParaRPr>
          </a:p>
        </p:txBody>
      </p:sp>
      <p:sp>
        <p:nvSpPr>
          <p:cNvPr id="77" name=""/>
          <p:cNvSpPr/>
          <p:nvPr/>
        </p:nvSpPr>
        <p:spPr>
          <a:xfrm>
            <a:off x="5486400" y="990720"/>
            <a:ext cx="3581280" cy="5925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er sind die Hungernd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unger ist immer noch vorwiegend ein ländliches Problem.</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Hälfte der Hungernden lebt in kleinbäuerlichen Famili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3 der Familien gelten als besonders marginalisiert</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sind hochgradig verwundbar gegenüber externen Schocks</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onders Frauen sind von der Marginalisierung betroffen</a:t>
            </a:r>
            <a:endParaRPr b="0" lang="en-US" sz="2000" spc="-1" strike="noStrike">
              <a:solidFill>
                <a:srgbClr val="000000"/>
              </a:solidFill>
              <a:latin typeface="Times New Roman"/>
            </a:endParaRPr>
          </a:p>
          <a:p>
            <a:pPr marL="196920" indent="-196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380880" y="1371600"/>
            <a:ext cx="4953240" cy="423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as Menschenrecht auf Nahrung</a:t>
            </a:r>
            <a:endParaRPr b="0" lang="en-US" sz="3600" spc="-1" strike="noStrike">
              <a:solidFill>
                <a:srgbClr val="000000"/>
              </a:solidFill>
              <a:latin typeface="Arial"/>
            </a:endParaRPr>
          </a:p>
        </p:txBody>
      </p:sp>
      <p:sp>
        <p:nvSpPr>
          <p:cNvPr id="80" name=""/>
          <p:cNvSpPr/>
          <p:nvPr/>
        </p:nvSpPr>
        <p:spPr>
          <a:xfrm>
            <a:off x="5486400" y="990720"/>
            <a:ext cx="3581280" cy="354024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Wer sind die Hungernd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160 Staaten haben den "International Covenant on Economic, Social and Cultural Rights (ICESCR)" ratifiziert</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 stellt eine völkerrechtlich verbindliche Verpflchtungen für die Regierungen dar, u.a. für die Einhaltung des Rechts auf Nahrung zu sorgen</a:t>
            </a:r>
            <a:endParaRPr b="0" lang="en-US" sz="1800" spc="-1" strike="noStrike">
              <a:solidFill>
                <a:srgbClr val="000000"/>
              </a:solidFill>
              <a:latin typeface="Times New Roman"/>
            </a:endParaRPr>
          </a:p>
          <a:p>
            <a:pPr marL="196920" indent="-196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 descr=""/>
          <p:cNvPicPr/>
          <p:nvPr/>
        </p:nvPicPr>
        <p:blipFill>
          <a:blip r:embed="rId1"/>
          <a:stretch/>
        </p:blipFill>
        <p:spPr>
          <a:xfrm>
            <a:off x="0" y="1413000"/>
            <a:ext cx="5506920" cy="2419200"/>
          </a:xfrm>
          <a:prstGeom prst="rect">
            <a:avLst/>
          </a:prstGeom>
          <a:ln w="0">
            <a:noFill/>
          </a:ln>
        </p:spPr>
      </p:pic>
      <p:sp>
        <p:nvSpPr>
          <p:cNvPr id="82" name=""/>
          <p:cNvSpPr/>
          <p:nvPr/>
        </p:nvSpPr>
        <p:spPr>
          <a:xfrm>
            <a:off x="395280" y="4508640"/>
            <a:ext cx="7991640" cy="17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s Recht auf angemessene Ernährung ist dann realisiert, wenn jeder Mann, Frau oder Kind, alleine oder in Gemeinschaft mit anderen, zu jeder Zeit den physischen und wirtschaftlichen Zugang zu angemessener Ernährung oder entsprechende Mittel der Beschaffung hat"  </a:t>
            </a:r>
            <a:endParaRPr b="0" lang="en-US" sz="18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llgemeiner Kommentar No.12, aus dem 6. Bericht des Ausschusses zu wirtschaftlichen, sozialen und kulturellen Rechten, UN doc. E/2000/22, S. 102-110.</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8T13:42:58Z</dcterms:created>
  <dc:creator>Germanwatch Klima</dc:creator>
  <dc:description/>
  <dc:language>en-US</dc:language>
  <cp:lastModifiedBy>Katrin Schilling</cp:lastModifiedBy>
  <cp:lastPrinted>2002-12-09T16:42:57Z</cp:lastPrinted>
  <dcterms:modified xsi:type="dcterms:W3CDTF">2010-11-04T10:41:02Z</dcterms:modified>
  <cp:revision>30</cp:revision>
  <dc:subject>Klimawandel und Sicherheit. Trends und zentrale Herausforderungen</dc:subject>
  <dc:title>Klimawandel und Sicherheit. Trends und zentrale Herausforderungen</dc:title>
</cp:coreProperties>
</file>