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jpeg" ContentType="image/jpe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10363" cy="9845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10400" cy="984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2909880" cy="492120"/>
          </a:xfrm>
          <a:prstGeom prst="rect">
            <a:avLst/>
          </a:prstGeom>
          <a:noFill/>
          <a:ln w="0">
            <a:noFill/>
          </a:ln>
        </p:spPr>
        <p:txBody>
          <a:bodyPr lIns="90360" rIns="9036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801600" y="-360"/>
            <a:ext cx="2909880" cy="492120"/>
          </a:xfrm>
          <a:prstGeom prst="rect">
            <a:avLst/>
          </a:prstGeom>
          <a:noFill/>
          <a:ln w="0">
            <a:noFill/>
          </a:ln>
        </p:spPr>
        <p:txBody>
          <a:bodyPr lIns="90360" rIns="9036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de-DE"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94960" y="738000"/>
            <a:ext cx="4923000" cy="3692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8" name="PlaceHolder 4"/>
          <p:cNvSpPr>
            <a:spLocks noGrp="1"/>
          </p:cNvSpPr>
          <p:nvPr>
            <p:ph type="body"/>
          </p:nvPr>
        </p:nvSpPr>
        <p:spPr>
          <a:xfrm>
            <a:off x="895320" y="4674960"/>
            <a:ext cx="4921200" cy="44305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9351720"/>
            <a:ext cx="2909880" cy="492120"/>
          </a:xfrm>
          <a:prstGeom prst="rect">
            <a:avLst/>
          </a:prstGeom>
          <a:noFill/>
          <a:ln w="0">
            <a:noFill/>
          </a:ln>
        </p:spPr>
        <p:txBody>
          <a:bodyPr lIns="90360" rIns="9036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de-DE" sz="12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801600" y="9351720"/>
            <a:ext cx="2909880" cy="492120"/>
          </a:xfrm>
          <a:prstGeom prst="rect">
            <a:avLst/>
          </a:prstGeom>
          <a:noFill/>
          <a:ln w="0">
            <a:noFill/>
          </a:ln>
        </p:spPr>
        <p:txBody>
          <a:bodyPr lIns="90360" rIns="9036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de-DE"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9309C802-05B5-4B4B-B218-D5ED6F5F59F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896760" y="738360"/>
            <a:ext cx="4921560" cy="3690720"/>
          </a:xfrm>
          <a:prstGeom prst="rect">
            <a:avLst/>
          </a:prstGeom>
          <a:ln w="0">
            <a:noFill/>
          </a:ln>
        </p:spPr>
      </p:sp>
      <p:sp>
        <p:nvSpPr>
          <p:cNvPr id="298"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Herausforderung Klimawandel muss in doppelter Weise nach dem Motto „Das Unvermeidbare bewältigen und das Unbewältigbare vermeiden“ verstanden werd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npassung an den Klimawandel oder das Unvermeidbare bewältig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Klimawandel ist Realität. Da die vom Menschen emittierten Treibhausgase in der Atmosphäre jahrzehntelang verbleiben, lässt sich der Klimawandel nur noch begrenzen, nicht mehr stoppen. Die in den nächsten Jahrzehnten nicht mehr vermeidbaren Folgen gilt es zu bewältigen, in dem sich die Menschen und Gesellschaften an die Konsequenzen so weit wie möglich anpassen. Dies gilt insbesondere für die Lebensmittel- und Wasserversorgung. aber auch Siedlungsinfrastrukturen können durch Wetterextreme oder den Meeresspiegel gefährdet sein. Die Folgen eines zu starken Temperaturanstiegs könnten mit den „Tipping Points“ großflächige Konsequenzen auslösen, bei der die Anpassungsfähigkeit ganzer Gesellschaften und Ökosysteme überschritten werden würd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Verminderung der Treibhausgasemissionen oder das Unbewältigbare vermeid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Werden die globalen Treibhausgasemissionen mittelfristig nicht deutlich verringert, ist mit einem menschgemachten Temperaturanstieg auf der Erde zu rechnen, der Großrisiken wie die „Tipping Points“ auslöst. Die Wahrscheinlichkeit hierfür erhöht sich nach heutigem wissenschaftlichen Kenntnisstand deutlich jenseits einer Temperaturerhöhung von 2° C gegenüber vorindustriellem Niveau. Für die Entwicklung der Emissionen eines Landes (und für die Welt insgesamt) ist entscheidend, wie es sich sozioökonomisch entwickelt: starkes Wirtschaftswachstum erhöht die Emissionen, wenn die Energienutzung eines Landes auf klimaschädlichen, fossilen Energieträgern beruht. Der Einsatz überwiegend klimafreundlicher Technologien wie der erneuerbaren Energien hingegen hilft sie zu begrenzen oder zu verringern. Diese Prozesse werden durch politische Rahmenbedingungen entscheidend beeinflus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677880" y="493560"/>
            <a:ext cx="5357880" cy="4017960"/>
          </a:xfrm>
          <a:prstGeom prst="rect">
            <a:avLst/>
          </a:prstGeom>
          <a:ln w="0">
            <a:noFill/>
          </a:ln>
        </p:spPr>
      </p:sp>
      <p:sp>
        <p:nvSpPr>
          <p:cNvPr id="300" name="PlaceHolder 2"/>
          <p:cNvSpPr>
            <a:spLocks noGrp="1"/>
          </p:cNvSpPr>
          <p:nvPr>
            <p:ph type="body"/>
          </p:nvPr>
        </p:nvSpPr>
        <p:spPr>
          <a:xfrm>
            <a:off x="895320" y="4599000"/>
            <a:ext cx="4921200" cy="4316400"/>
          </a:xfrm>
          <a:prstGeom prst="rect">
            <a:avLst/>
          </a:prstGeom>
          <a:noFill/>
          <a:ln w="0">
            <a:noFill/>
          </a:ln>
        </p:spPr>
        <p:txBody>
          <a:bodyPr lIns="90000" rIns="90000" tIns="46800" bIns="46800" anchor="t">
            <a:noAutofit/>
          </a:bodyPr>
          <a:p>
            <a:pPr indent="0">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000" spc="-1" strike="noStrike">
                <a:solidFill>
                  <a:srgbClr val="000000"/>
                </a:solidFill>
                <a:latin typeface="Times New Roman"/>
              </a:rPr>
              <a:t>Verminderung der Treibhausgasemissionen oder das Unbewältigbare vermeiden:</a:t>
            </a:r>
            <a:endParaRPr b="0" lang="en-US" sz="10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Eine wachsende Anzahl an Wissenschaftlern und auch Politikern ist sich darin einig, dass – um einen im großen Maßstab gefährlichen Klimawandel zu vermeiden – die Erhöhung der globalen Durchschnitsstemperatur auf so weit wie möglich unter 2°C gegenüber vorindustriellem Niveau begrenzt werden sollte. Dies erfordert eine Verringerung der weltweiten Treibhausgasemissionen durch den Menschen um mind. 50% bis 2050 gegenüber 1990. Aufgrund der historischen Verantwortung der Industrieländer für den Klimawandel und der hohen Pro-Kopf-Emissionen sollten diese Länder ihre Emissionen um mind. 80% gegenüber 1990 verringern. Als Zwischenschritt sollte eine Verminderung um 30% bis 2020 angestrebt werden. Die EU hat Anfang März 2007 ein wichtiges Signal für die Umsetzung dieser Ziele gegeben. Die Staatengemeinschaft hat angekündigt, ihre Emissionen um genau diese 30% zu verringern, sollte ein neues globales Klimaschutzabkommen als Fortführung des Kyoto-Protokolls zustande kommen. Deutschland, das bereits fast 20% minus erreicht hat, sollte sich zu einer Reduktion von 40% bis 2020 verpflichten. </a:t>
            </a:r>
            <a:endParaRPr b="0" lang="en-US" sz="10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olche langfristigen und rechtlich wirksamen Vorgaben senden deutliche Signale an die Wirtschaft aus: Mit Klimaschutz wird jetzt ernst gemacht, und es werden Rahmenbedingungen geschaffen, die Klimaschutz rentabel machen. Nur so kann es gelingen, im wichtigsten Bereich, nämlich der globalen Energieversorgung, die anstehenden Investitionen in Billionenhöhe in eine klimafreundliche Richtung zu lenken.</a:t>
            </a:r>
            <a:endParaRPr b="0" lang="en-US" sz="10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Derzeit steigen die globalen Treibhausgasemissionen durch den Menschen noch um etwa 2,5% pro Jahr und liegen heute (im Jahr 2004) um 24% über denen des Jahres 1990. Das Wachstum findet derzeit vor allem in den großen Schwellenländern wie China oder Indien statt. Daher ist auch eine wichtige Herausforderung, diese Länder schrittweise in den internationalen Klimaschutz mit einzubeziehen. Dies bedarf allerdings der Vorleistungen der Industrieländer. Nur so kann es gelingen, die Entwicklungsrichtung der Emissionen bis 2015 umzukehren: sie zunächst zu stabilisieren und dann sinken zu lassen. Das Kyoto-Protokoll als wichtigste internationale politische Vereinbarung ist daher nur als wichtiger, aber nicht ausreichender Einstieg in den globalen Klimaschutz zu verstehen.</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Klimawandel wird immer mehr zum Brennpunkt globaler, intergenerationeller und ökologischer Gerechtigkeit. Die Hauptverursacher des Klimawandels sind historisch gesehen die Industrieländer. Europa, USA und Japan waren zusammen für mehr als 60% der energiebedingten Emissionen des letzten Jahrhunderts verantwortlich. In Deutschland werden pro Jahr und Einwohner ca. 10 Tonnen CO2-Äquivalente emittiert, was zwar weit weniger als in den USA ist, aber immerhin deutlich über dem Durchschnitt der erweiterten EU liegt. Wenngleich das Emissionswachstum in Ländern wie China oder Indien deren Emissionen immer weiter ansteigen lässt, leben die meisten Menschen dort auf einem Wohlstands- und damit auch Konsumniveau, das immer noch viel geringer ist als in den Industrieländern und unter dem globalen Durchschnitt liegt. Afrika ist der Kontinent mit den geringsten durchschnittlichen Pro-Kopf-Emissionen. Langfristiges Ziel (um die Mitte des Jahrhunderts) sollten Pro-Kopf-Emissionen von nicht mehr als ca. 2 Tonnen pro Jahr sein, um den globalen Temperaturanstieg auf unter 2° C zu begrenzen und gleichzeitig allen Menschen das gleiche Recht auf Emissionen zuzugesteh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96760" y="738360"/>
            <a:ext cx="4921560" cy="3690720"/>
          </a:xfrm>
          <a:prstGeom prst="rect">
            <a:avLst/>
          </a:prstGeom>
          <a:ln w="0">
            <a:noFill/>
          </a:ln>
        </p:spPr>
      </p:sp>
      <p:sp>
        <p:nvSpPr>
          <p:cNvPr id="303"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llgemein zeichnet sich ab, dass die weniger entwickelten Länder von dem Klimawandel sehr viel stärker betroffen sein werden.</a:t>
            </a:r>
            <a:r>
              <a:rPr b="0" lang="de-DE" sz="1000" spc="-1" strike="noStrike" u="sng">
                <a:solidFill>
                  <a:srgbClr val="800080"/>
                </a:solidFill>
                <a:uFillTx/>
                <a:latin typeface="Times New Roman"/>
                <a:ea typeface="Times New Roman"/>
              </a:rPr>
              <a:t> </a:t>
            </a:r>
            <a:r>
              <a:rPr b="0" lang="de-DE" sz="1000" spc="-1" strike="noStrike">
                <a:solidFill>
                  <a:srgbClr val="000000"/>
                </a:solidFill>
                <a:latin typeface="Times New Roman"/>
                <a:ea typeface="Times New Roman"/>
              </a:rPr>
              <a:t>Der Hauptgrund hierfür ist die allgemein höhere Verletzlichkeit (Vulnerabilität) in diesen Ländern. Die Ärmsten bilden die Gruppe von Menschen, die aufgrund ihrer höheren Vulnerabilität von den Folgen des Klimawandels besonders betroffen sind. Durch den bestehenden Mangel an Ressourcen (Einkommen, Besitz etc.) und häufig erschwerten Zugang zu wichtigen Dienstleistungen (z.B. zu Gesundheitsdiensten, Krediten, Informationen) sind in Armut lebende Menschen anfälliger gegenüber unterschiedlichen Stresssituationen. Erfahrungen aus dem Bereich der Naturkatastrophen zeigen allerdings, dass Vulnerabilität nicht gleichzusetzen ist mit Armut oder der sozialen Klasse. Innerhalb von Gesellschaften wird die relative Möglichkeit der Menschen, Zugang zu oder Kontrolle über Schlüsselressourcen zu haben, sowohl vom Alter und den physischen Fähigkeiten als auch vom gesellschaftlichen Status, der sozialen/ethnischen und kulturellen Gruppe sowie dem Geschlecht geprägt.</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896760" y="738360"/>
            <a:ext cx="4921560" cy="3690720"/>
          </a:xfrm>
          <a:prstGeom prst="rect">
            <a:avLst/>
          </a:prstGeom>
          <a:ln w="0">
            <a:noFill/>
          </a:ln>
        </p:spPr>
      </p:sp>
      <p:sp>
        <p:nvSpPr>
          <p:cNvPr id="305"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Das Unvermeidbare bewältigen: Anpassung an den Klimawande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in den nächsten zwei bis drei Jahrzehnten nicht mehr vermeidbaren Auswirkungen des Klimawandels erfordern die Anpassung an den Klimawandel – im Englischen meist als </a:t>
            </a:r>
            <a:r>
              <a:rPr b="0" i="1" lang="de-DE" sz="1000" spc="-1" strike="noStrike">
                <a:solidFill>
                  <a:srgbClr val="000000"/>
                </a:solidFill>
                <a:latin typeface="Times New Roman"/>
              </a:rPr>
              <a:t>Adaptation</a:t>
            </a:r>
            <a:r>
              <a:rPr b="0" lang="de-DE" sz="1000" spc="-1" strike="noStrike">
                <a:solidFill>
                  <a:srgbClr val="000000"/>
                </a:solidFill>
                <a:latin typeface="Times New Roman"/>
              </a:rPr>
              <a:t> bezeichnet. Dabei geht es nicht nur darum, neue Anpassungsprojekte zu entwickeln, z.B. die Erhöhung der Deiche, sondern um die Notwendigkeit, „angepasste Entwicklung“ zu fördern. Die Auswirkungen des Klimawandels müssen stärker in Entwicklungsprojekte und –strategien integriert werden. Ein zentrales Element ist die Verringerung der Verletzlichkeit (Vulnerabilität) der Ärmsten insgesamt. Fortschritte in den MDG-Bereichen – bspw. in der Armutsbekämpfung, der Ernährungssicherung und der Wasserversorgung – erhöhen die Anpassungsfähigkeit der Menschen. Allerdings kann es auch hier zu Zielkonflikten kommen. Die Regierungen der Entwicklungsländer stehen in der Verantwortung, die Hauptbetroffenen in ihren Ländern vorrangig bei der Anpassung zu unterstütz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fgrund der historischen Verursacherrolle der Industrieländer wird von diesen erwartet, dass sie die besonders betroffenen Länder und Menschen bei der Anpassung unterstützen, denn der Klimawandel verursacht in vielen Ländern enorme Zusatzkosten. Ein erster Schritt ist hier die finanzielle Unterstützung der wirtschaftlich am wenigsten entwickelten Länder (LDCs) durch die Industrieländer in der UN-Klimapolitik. Jedem LDC werden ca. 200.000 US-Dollar zur Verfügung gestellt, um so genannte Nationale Aktionsprogramme zur Anpassung (NAPAs) zu entwickeln. Die Umsetzung der darin vorgeschlagenen Maßnahmen, die nur als erster Schritt hin zu einer umfassenden Anpassungsstrategie anzusehen sind, geht für jedes Land in die Millionenhöh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Industrieländer stehen als Hauptverursacher in der Verantwortung, die besonders betroffenen Entwicklungsländer wesentlich stärker bei der Anpassung zu unterstützen, zusätzlich zu der offiziellen Entwicklungshilfe. Die Anpassungskosten in Entwicklungsländern werden auf jährliche zweistellige Milliardenbeträge geschätzt. Zusätzliche Finanzinstrumente wie eine Kerosinsteuer oder die Versteigerung von Zertifikaten im Emissionshandel sollten für diese Finanzierung eingeführt und herangezogen werden.</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896760" y="738360"/>
            <a:ext cx="4921560" cy="3690720"/>
          </a:xfrm>
          <a:prstGeom prst="rect">
            <a:avLst/>
          </a:prstGeom>
          <a:ln w="0">
            <a:noFill/>
          </a:ln>
        </p:spPr>
      </p:sp>
      <p:sp>
        <p:nvSpPr>
          <p:cNvPr id="307"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Anpassung als fortlaufender, langfristiger Prozess</a:t>
            </a:r>
            <a:endParaRPr b="0" lang="en-US" sz="12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a der Klimawandel aber eine langfristige Herausforderung ist, ist es notwendig, Anpassung an den Klimawandel in längerfristige Entwicklungsprozesse auf verschiedensten Ebenen – national, regional und auf Ebene der Gemeinden – und insgesamt auf einer breiteren gesellschaftlichen Ebene zu integrieren. Hierfür ist es hilfreich, sich die unterschiedlichen Handlungsansätze vor Augen zu führen, die Anpassung als fortlaufenden Prozess charakterisieren. Im Mittelpunkt des „Anpassungs-Kontinuums“ steht die Umsetzung von Maßnahmen. Diese müssen sich aber immer wieder einer Prüfung hinsichtlich des Risikos, der Verbesserungsmöglichkeiten und der Integration von neuem Wissen unterziehen. Die beteiligten Akteure auf verschiedenen Ebenen müssen ihr Bewusstsein für diese Aspekte schärfen und sich weiterbilden, weshalb Aus- und Fortbildungsprogramme wie z.B. das Projekt „Capacity Strengthening for Least Developed Countries in Adaptation to Climate Change (www.CLACC.net)“ besonders wichtig sind.</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96760" y="738360"/>
            <a:ext cx="4921560" cy="3690720"/>
          </a:xfrm>
          <a:prstGeom prst="rect">
            <a:avLst/>
          </a:prstGeom>
          <a:ln w="0">
            <a:noFill/>
          </a:ln>
        </p:spPr>
      </p:sp>
      <p:sp>
        <p:nvSpPr>
          <p:cNvPr id="309"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Beispiele für Anpassungsmaßnahmen auf verschiedenen Ebenen</a:t>
            </a:r>
            <a:endParaRPr b="0" lang="en-US" sz="12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npassung an den Klimawandel hat unterschiedliche Dimensionen. So können z.B. Einzelpersonen, Unternehmen oder andere Organisationen für sich selbst Maßnahmen ergreifen, ohne politische Steuerung oder gegenseitige Koordination. Die Fähigkeit, sich selbständig anzupassen, hängt von vielen Faktoren ab, insbesondere der individuellen Vulnerabilität. Zudem können Akteure auch gemeinsam und auf verschiedenen Ebenen aktiv werden, z.B. mit dem Ziel, die Kosten von Anpassungsmaßnahmen gleichmäßiger zu verteilen. Dies gilt vor allem dort, wo es um große Investitionen geht, z.B. bei der Verbesserung von Infrastruktur wie der Erhöhung von Deichen. Hier kommt auch der Politik eine wichtige Rolle zu, da sie Anreize setzen oder direkte gesetzliche Vorgaben machen kann und muss. </a:t>
            </a:r>
            <a:endParaRPr b="0" lang="en-US" sz="10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uch hinsichtlich der zeitlichen Dimension gibt es Unterschiede. </a:t>
            </a:r>
            <a:r>
              <a:rPr b="0" i="1" lang="de-DE" sz="1000" spc="-1" strike="noStrike">
                <a:solidFill>
                  <a:srgbClr val="000000"/>
                </a:solidFill>
                <a:latin typeface="Times New Roman"/>
                <a:ea typeface="Times New Roman"/>
              </a:rPr>
              <a:t>Proaktive</a:t>
            </a:r>
            <a:r>
              <a:rPr b="0" lang="de-DE" sz="1000" spc="-1" strike="noStrike">
                <a:solidFill>
                  <a:srgbClr val="000000"/>
                </a:solidFill>
                <a:latin typeface="Times New Roman"/>
                <a:ea typeface="Times New Roman"/>
              </a:rPr>
              <a:t> Maßnahmen basieren auf vorsorgendem Planen, um sich an die erwarteten Konsequenzen des Klimawandels anzupassen, bevor diese eintreten. Ein Beispiel hierfür ist frühzeitiger und langfristig geplanter Küstenschutz, denn es geht um eine im Prinzip absehbare Gefahr. Unter </a:t>
            </a:r>
            <a:r>
              <a:rPr b="0" i="1" lang="de-DE" sz="1000" spc="-1" strike="noStrike">
                <a:solidFill>
                  <a:srgbClr val="000000"/>
                </a:solidFill>
                <a:latin typeface="Times New Roman"/>
                <a:ea typeface="Times New Roman"/>
              </a:rPr>
              <a:t>reaktivem</a:t>
            </a:r>
            <a:r>
              <a:rPr b="0" lang="de-DE" sz="1000" spc="-1" strike="noStrike">
                <a:solidFill>
                  <a:srgbClr val="000000"/>
                </a:solidFill>
                <a:latin typeface="Times New Roman"/>
                <a:ea typeface="Times New Roman"/>
              </a:rPr>
              <a:t> Handeln kann beispielsweise verstanden werden, wie und durch wen nach Überschwemmungen die finanziellen Schäden oder der Wiederaufbau von zerstörter Infrastruktur bewältigt werden . Im Verhältnis von proaktivem und reaktivem Verhalten gilt die Regel, dass frühzeitiges, also proaktives, Handeln die Wahrscheinlichkeit von Schäden und damit die Notwendigkeit von reaktiven Maßnahmen tendenziell verringert. Auch Nichthandeln stellt natürlich eine Option dar, für die sich Politik und Wirtschaft entscheiden können.</a:t>
            </a:r>
            <a:r>
              <a:rPr b="0" lang="de-D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896760" y="738360"/>
            <a:ext cx="4921560" cy="3690720"/>
          </a:xfrm>
          <a:prstGeom prst="rect">
            <a:avLst/>
          </a:prstGeom>
          <a:ln w="0">
            <a:noFill/>
          </a:ln>
        </p:spPr>
      </p:sp>
      <p:sp>
        <p:nvSpPr>
          <p:cNvPr id="311"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ea typeface="Times New Roman"/>
              </a:rPr>
              <a:t>UN-Klimapolitik nach Bali: auf dem Weg zu einem globalen Klimapak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ie erste Verpflichtungsperiode des Kyoto-Protokolls als dem wichtigsten internationalen Politikrahmen zum Klimawandel endet 2012. Bei den UN-Klimaverhandlungen im indonesischen Bali, die im Dezember 2007 stattfanden, wurde ein Verhandlungsfahrplan verabschiedet, der die wesentlichen Eckpunkte für die Verhandlungen zu einem neuen Klima-Abkommen umfasst, wenngleich er auch sehr vage is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ieser Fahrplan teilt sich im Prinzip auf vier große Verhandlungsblöcke auf: Mitigation (Emissionsverminderung), Adaptation, Finanzierung, Technologien. Ein neues Klimaabkommen, das im Dezember 2009 bei der Konferenz in Kopenhagen verabschiedet werden soll, muss in allen diesen Bereichen, die zum Teil eng zusammen gehören, konkrete Vereinbarungen beinhalten. Das Gesamtpaket sollte den Weg zur Einhaltung des 2°-Limits ebn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Ein Grundprinzip ist das der gemeinsamen, aber differenzierten Verantwortung zwischen den Industrie- (Annex-I) und den Schwellen- und Entwicklungsländern (Nicht-Annex-I). Für die Industrieländer heißt das zunächst, dass sie selbst ihre Emissionen deutlich stärker reduzieren müssen – 25-40% bis 2020 gegenüber 1990 – sowie größere finanzielle Unterstützung für Klimaschutz in den Schwellen- und Entwicklungsländern und die Anpassung in den verletzlichsten Entwicklungsländern bereitstellen müss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Ein neues Klimaabkommen wird es voraussichtlich nur geben, wenn sich neue politische Allianzen in der Klimapolitik herausbilden. Erste Anzeichen dazu gab es in Bali, als die EU und die kleinen Inselstaaten, aber auch einige der am wenigsten entwickelten Länder (Least Developed Countries, LDCs) in bestimmten Verhandlungspunkten mit sich unterstützenden Positionen auftraten. Das von der EU beschlossene 2°-Limit ist gerade angesichts des Meeresspiegelanstiegs für die kleinen Inselstaaten ein existenziell wichtiges Politikziel.</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96760" y="738360"/>
            <a:ext cx="4921560" cy="3690720"/>
          </a:xfrm>
          <a:prstGeom prst="rect">
            <a:avLst/>
          </a:prstGeom>
          <a:ln w="0">
            <a:noFill/>
          </a:ln>
        </p:spPr>
      </p:sp>
      <p:sp>
        <p:nvSpPr>
          <p:cNvPr id="313"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Regierungen insbesondere der Industrieländer haben eine Schlüsselposition inne, da die Rahmenbedingungen, die sie auf nationaler, aber auch globaler Ebene setzen können, große Dynamik für den Klimaschutz auslösen können. Maßnahmen wie z.B. das Erneuerbare-Energien-Gesetz (EEG) in Deutschland setzen finanzielle, wirtschaftliche Anreize, in klimafreundliche Technologien zu investieren. Gleichzeitig wird von ihnen eine stärkere Beteiligung an der Finanzierung von Anpassungsmaßnahmen in Entwicklungsländern erwartet. Das erfordert neue Finanzierungsinstrumente, wie z.B. eine Steuer auf Flugbenzin oder die Versteigerung von Zertifikaten im Emissionshandel.</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n der praktischen Entwicklungszusammenarbeit tätige zivilgesellschaftliche Organisationen nehmen zunehmend die Konsequenzen des Klimawandels für ihre Hauptzielgruppe, die Ärmsten in den Entwicklungsländern, wahr und ziehen daraus Konsequenzen für ihre Arbeit. Ihre hohe gesellschaftliche Anerkennung und moralische Integrität können Organisationen, sozusagen stellvertretend für die besonders Betroffenen des Klimawandels, in klimapolitische Diskussionen einbringen, wie es z.B. die im April 2007 gegründete Klima-Allianz (www.die-klima-allianz.de) in Deutschland tut. Hier haben sich mittlerweile mehr als 50 Organisationen aus einem breiten zivilgesellschaftlichen Spektrum (Umwelt, Entwicklung, Kirchen, Menschenrechte, Globalisierungskritik etc.) zusammen getan, um sich zum einen für umfassenderen Klimaschutz in Deutschland einzusetzen und zum anderen die entwicklungspolitische Relevanz des Klimawandels stärker auf die Agenda zu setzen und notwendige Maßnahmen einzuforder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96760" y="738360"/>
            <a:ext cx="4921560" cy="3690720"/>
          </a:xfrm>
          <a:prstGeom prst="rect">
            <a:avLst/>
          </a:prstGeom>
          <a:ln w="0">
            <a:noFill/>
          </a:ln>
        </p:spPr>
      </p:sp>
      <p:sp>
        <p:nvSpPr>
          <p:cNvPr id="279" name="PlaceHolder 2"/>
          <p:cNvSpPr>
            <a:spLocks noGrp="1"/>
          </p:cNvSpPr>
          <p:nvPr>
            <p:ph type="body"/>
          </p:nvPr>
        </p:nvSpPr>
        <p:spPr>
          <a:xfrm>
            <a:off x="895320" y="4675320"/>
            <a:ext cx="4921200" cy="462096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Begriff Millennium-Entwicklungsziele – im englischen Original “Millennium Development Goals (MDG)” – ist zur zentralen Messlatte internationaler Entwicklungszusammenarbeit und Armutsbekämpfung geworden. Sie wurden zusammen mit der Millennium-Erklärung im Jahr 2000 von 189 Staaten verabschiedet. Die 8 Ziele (MDGs), ergänzt durch 18 Unterziele, konkretisiert durch 48 Indikatoren, sollen größtenteils bis 2015 verwirklicht werd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Mit Erreichen der MDGs würden mehr als 500 Millionen Menschen von extremer Armut befreit; mehr als 300 Millionen Menschen nicht mehr Hunger leiden; 30 Millionen Kinder, die sonst vor Erreichen des fünften Lebensjahres gestorben wären, überleben; 350 Millionen Menschen mehr über einwandfreies Trinkwasser verfügen; 650 Millionen Menschen mehr Zugang zu grundlegenden sanitären Einrichtungen hab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Einigung auf eine überschaubare Anzahl an Zielen und quantitativen Indikatoren, aber auch auf konkrete Zeiträume, erleichtert die Planung von Maßnahmen zur Erreichung der MDGs und die Überprüfbarkeit der Ziele. Erfolge und Misserfolge lassen sich anhand von Zahlen identifizieren. Schwächen dieses Ansatzes sind u.a., dass die starke Fokussierung auf Zahlen, also quantitative Indikatoren, die Gefahr birgt, dass qualitative Aspekte vernachlässigt werden. Zudem hängen die einzelnen MDG-Bereiche in der Realität sehr stark zusammen und beeinflussen sich gegenseiti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Fortschritte auf dem Weg zur Erreichung der Ziele sind je nach Region und nach Ziel unterschiedlich. Während es in Ostasien und Lateinamerika eine Vielzahl von Fortschritten gibt, ist Afrika südlich der Sahara noch weit entfernt. Die Zielerreichung ist insgesamt eher unwahrscheinlic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m Jahr 2005 fand wiederum ein Treffen der Staats- und Regierungschefs, bei der UN in New York statt, um eine Zwischenbilanz zu ziehen und weitere Strategien zu beschließen. Insgesamt enttäuschten die Ergebnisse aber die Erwartungen vieler entwicklungspolitischer Organisation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96760" y="738360"/>
            <a:ext cx="4921560" cy="3690720"/>
          </a:xfrm>
          <a:prstGeom prst="rect">
            <a:avLst/>
          </a:prstGeom>
          <a:ln w="0">
            <a:noFill/>
          </a:ln>
        </p:spPr>
      </p:sp>
      <p:sp>
        <p:nvSpPr>
          <p:cNvPr id="315"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Politik muss deutlich gemacht werden, dass es einen breiten Rückhalt für anspruchsvollen Klimaschutz und auch Maßnahmen zur Anpassung in Entwicklungsländern gibt. Mit diesem gemeinsamen Ziel hat sich daher in Deutschland die Klima-Allianz gegründet, ein breites zivilgesellschaftliches Bündnis. Neben den großen Umwelt- (WWF, BUND, NABU, Greenpeace) und Entwicklungsorganisationen (Brot für die Welt, Misereor, EED, Caritas International, Diakonie Katastrophenhilfe) sind auch viele kleinere Organisationen dabei, wie z.B. entwicklungspolitische Landesnetzwerke, der Deutsche Alpenverein oder das Nordelbische Missionszentrum (NMZ). Auch attac unterstützt als breites Bewegungsbündnis die Klima-Allianz. Zudem spielen auch kirchliche Akteure eine wichtige Rolle. So ist u.a. die Ev. Kirche von Westfalen Gründungsmitglied des Bündnisses, ebenso die Katholische Landjugendbewegung (KLJ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ositionspapier der Klima-Allianz und Informationen zu weiteren Aktivitäten finden sich unter http://www.die-klima-allianz.d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896760" y="738360"/>
            <a:ext cx="4921560" cy="3690720"/>
          </a:xfrm>
          <a:prstGeom prst="rect">
            <a:avLst/>
          </a:prstGeom>
          <a:ln w="0">
            <a:noFill/>
          </a:ln>
        </p:spPr>
      </p:sp>
      <p:sp>
        <p:nvSpPr>
          <p:cNvPr id="317"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Wirtschaftsunternehmen und Akteure des Finanzmarktes haben ein großes politisches Gewicht und somit die Möglichkeit, Klimarisiken zu erkennen und die Politik zum Handeln aufzufordern mit dem Ziel, einheitliche Rahmenbedingungen zu schaffen, die Klimaschutz profitabel machen. Die Entwicklung und Einführung öffentlich-privater Versicherungslösungen kann ein wichtiges Instrument sein, um die vom Klimawandel betroffenen Menschen gegenüber Klimarisiken abzusichern.</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Auch Kommunen kommt eine wichtige Rolle zu. Durch I</a:t>
            </a:r>
            <a:r>
              <a:rPr b="0" lang="de-DE" sz="1000" spc="-1" strike="noStrike">
                <a:solidFill>
                  <a:srgbClr val="000000"/>
                </a:solidFill>
                <a:latin typeface="Times New Roman"/>
                <a:ea typeface="Times New Roman"/>
              </a:rPr>
              <a:t>nformations- und Förderprogramme können sie Klimaschutzmaßnahmen in der eigenen Bevölkerung initiieren. Die öffentliche Beschaffung, also der Kauf von Produkten aus der öffentlichen Hand, kann sich an Klimaschutz (z.B. Ökostrom) und entwicklungspolitischen Aspekten (z.B. Fairer Handel) orientieren. Auch die „Kompensation“ von nicht-vermeidbaren Emissionen (z.B. Flugverkehr), mit der dann Projekte in Entwicklungsländern unterstützt werden, ist ein sinnvolles Eleme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896760" y="738360"/>
            <a:ext cx="4921560" cy="3690720"/>
          </a:xfrm>
          <a:prstGeom prst="rect">
            <a:avLst/>
          </a:prstGeom>
          <a:ln w="0">
            <a:noFill/>
          </a:ln>
        </p:spPr>
      </p:sp>
      <p:sp>
        <p:nvSpPr>
          <p:cNvPr id="319"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eder Einzelne kann die beschriebenen politischen Kampagnen zu MDGs und Klimaschutz unterstützen, finanziell oder z.B. durch Unterschriftenaktionen. Beim Geld anlegen, sei es in Form von Ersparnissen, Altersvorsorge oder in anderen Bereichen, sollte man sich an Nachhaltigkeitskriterien orientieren, die ganz oft auch Klimaschutz beinhalt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durchschnittlichen Emissionen eines Deutschen sind mit 10 Tonnen pro Kopf vergleichsweise hoch und noch weit entfernt von dem, was einem langfristig klimagerechten Jahresbudget eines Erdenbürgers entsprechen würde (2 Tonnen CO2). Jeder kann diesen Wert aber bereits kurzfristig deutlich beeinflussen. </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ine der einfachsten Möglichkeiten, aktiv Klimaschutz zu betreiben, ist es, seinen Strom von einem Ökostromanbieter zu beziehen, der vor Erneuerbare-Energien-Projekte finanziert. Die Mehrkosten sind in den letzten Jahren immer geringer geworden, weil Strom aus Kohle oder Gas immer teurer wurde, die Kosten von Erneuerbaren Energien aber tendenziell sinken. Der Strombereich ist in Deutschland deshalb besonders wichtig, weil Energiekonzerne eine große Anzahl neuer und klimaschädlicher Kohlekraftwerke planen. Je größer die Nachfrage nach CO2-freiem Strom, desto geringer der Anreiz solche Kraftwerke zu bauen.</a:t>
            </a:r>
            <a:endParaRPr b="0" lang="en-US" sz="10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äufig unterschätzt wird die enorme Klimawirkung des Fliegens. Durch einen Hin- und Rückflug nach Südafrika schädigt ein einzelner Passagier das Klima stärker als die gesamten Jahresemissionen, die bei einem effizienten Lebensstil entsprechend der Abbildung entstehen, mit einer Klimawirkung von ca. 6,3 Tonnen. Einmal von Köln nach Berlin mit der Bahn fahren (26 kg CO2) statt mit dem Flugzeug (80 kg CO2) verursacht ca. 70% weniger CO2-Emissionen. Soweit es geht, sollte also das Fliegen vermieden werden.</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896760" y="738360"/>
            <a:ext cx="4921560" cy="3690720"/>
          </a:xfrm>
          <a:prstGeom prst="rect">
            <a:avLst/>
          </a:prstGeom>
          <a:ln w="0">
            <a:noFill/>
          </a:ln>
        </p:spPr>
      </p:sp>
      <p:sp>
        <p:nvSpPr>
          <p:cNvPr id="281"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jüngste Bericht UN-Klimawissenschaftlergremiums IPCC (Intergovernmental Panel on Climate Change), veröffentlicht Anfang 2007, zeigt, dass sich das Klima in einem Maße und einer Geschwindigkeit ändert, die nahezu beispiellos in der Geschichte der Menschheit sind. Die Ursache des menschgemachten Klimawandels spiegelt sich in der stark erhöhten atmosphärischen Konzentration der Treibhausgase wie CO</a:t>
            </a:r>
            <a:r>
              <a:rPr b="0" lang="de-DE" sz="1200" spc="-1" strike="noStrike" baseline="-25000">
                <a:solidFill>
                  <a:srgbClr val="000000"/>
                </a:solidFill>
                <a:latin typeface="Times New Roman"/>
              </a:rPr>
              <a:t>2</a:t>
            </a:r>
            <a:r>
              <a:rPr b="0" lang="de-DE" sz="1200" spc="-1" strike="noStrike">
                <a:solidFill>
                  <a:srgbClr val="000000"/>
                </a:solidFill>
                <a:latin typeface="Times New Roman"/>
              </a:rPr>
              <a:t> oder Methan wider. Die Erhöhung der durchschnittlichen globalen Oberflächentemperatur verursacht einen Anstieg des Meeresspiegels, das Schmelzen von Gletschern und weitere Effekte. (Eine detailliertere Darstellung der Funktionsweise des globalen Klimawandels findet sich in Germanwatch 2008: Globaler Klimawandel – Ursachen, Auswirkungen, Handlungsmöglichkeit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 besteht heute kein wissenschaftlich ernst zunehmender Zweifel mehr daran, dass der Mensch und die von ihm verursachten Emissionen an Treibhausgasen (CO</a:t>
            </a:r>
            <a:r>
              <a:rPr b="0" lang="de-DE" sz="1200" spc="-1" strike="noStrike" baseline="-25000">
                <a:solidFill>
                  <a:srgbClr val="000000"/>
                </a:solidFill>
                <a:latin typeface="Times New Roman"/>
              </a:rPr>
              <a:t>2</a:t>
            </a:r>
            <a:r>
              <a:rPr b="0" lang="de-DE" sz="1200" spc="-1" strike="noStrike">
                <a:solidFill>
                  <a:srgbClr val="000000"/>
                </a:solidFill>
                <a:latin typeface="Times New Roman"/>
              </a:rPr>
              <a:t>, Methan (CH</a:t>
            </a:r>
            <a:r>
              <a:rPr b="0" lang="de-DE" sz="1200" spc="-1" strike="noStrike" baseline="-25000">
                <a:solidFill>
                  <a:srgbClr val="000000"/>
                </a:solidFill>
                <a:latin typeface="Times New Roman"/>
              </a:rPr>
              <a:t>4</a:t>
            </a:r>
            <a:r>
              <a:rPr b="0" lang="de-DE" sz="1200" spc="-1" strike="noStrike">
                <a:solidFill>
                  <a:srgbClr val="000000"/>
                </a:solidFill>
                <a:latin typeface="Times New Roman"/>
              </a:rPr>
              <a:t>), FCKW etc.) - vor allem durch die Verbrennung fossiler Energien wie Öl, Kohle und Gas und die Vernichtung von Wäldern - der Hauptfaktor für Veränderungen des Klimas in den letzten 150 Jahren sin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96760" y="738360"/>
            <a:ext cx="4921560" cy="3690720"/>
          </a:xfrm>
          <a:prstGeom prst="rect">
            <a:avLst/>
          </a:prstGeom>
          <a:ln w="0">
            <a:noFill/>
          </a:ln>
        </p:spPr>
      </p:sp>
      <p:sp>
        <p:nvSpPr>
          <p:cNvPr id="283"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Wirkung verschiedener Faktoren auf den Treibhauseffekt lässt sich anhand des Strahlungsantriebes darstellen, der in Watt pro m</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angegeben wird und positiv (anheizend) oder negativ (abkühlend) sein kann. In dieser Einheit wird auch die Wärmestrahlung der Sonne auf die Erde angegeben. Die jüngsten Analysen des IPCC zeigen, wie sehr einzelne Faktoren diesen Strahlungsantrieb verstärken oder auch abmildern. Der menschliche Beitrag ist dabei deutlich positiv, mit im Durchschnitt 1,6 W/m</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seit 1750), und stellt natürliche Faktoren deutlich in den Schatt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O</a:t>
            </a:r>
            <a:r>
              <a:rPr b="0" lang="de-DE" sz="1200" spc="-1" strike="noStrike" baseline="-25000">
                <a:solidFill>
                  <a:srgbClr val="000000"/>
                </a:solidFill>
                <a:latin typeface="Times New Roman"/>
              </a:rPr>
              <a:t>2</a:t>
            </a:r>
            <a:r>
              <a:rPr b="0" lang="de-DE" sz="1200" spc="-1" strike="noStrike">
                <a:solidFill>
                  <a:srgbClr val="000000"/>
                </a:solidFill>
                <a:latin typeface="Times New Roman"/>
              </a:rPr>
              <a:t>-Emissionen aus der Verbrennung fossiler Energien, Entwaldung: +1,6 W/m</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ethan (CH</a:t>
            </a:r>
            <a:r>
              <a:rPr b="0" lang="de-DE" sz="1200" spc="-1" strike="noStrike" baseline="-25000">
                <a:solidFill>
                  <a:srgbClr val="000000"/>
                </a:solidFill>
                <a:latin typeface="Times New Roman"/>
              </a:rPr>
              <a:t>4</a:t>
            </a:r>
            <a:r>
              <a:rPr b="0" lang="de-DE" sz="1200" spc="-1" strike="noStrike">
                <a:solidFill>
                  <a:srgbClr val="000000"/>
                </a:solidFill>
                <a:latin typeface="Times New Roman"/>
              </a:rPr>
              <a:t>), N</a:t>
            </a:r>
            <a:r>
              <a:rPr b="0" lang="de-DE" sz="1200" spc="-1" strike="noStrike" baseline="-25000">
                <a:solidFill>
                  <a:srgbClr val="000000"/>
                </a:solidFill>
                <a:latin typeface="Times New Roman"/>
              </a:rPr>
              <a:t>2</a:t>
            </a:r>
            <a:r>
              <a:rPr b="0" lang="de-DE" sz="1200" spc="-1" strike="noStrike">
                <a:solidFill>
                  <a:srgbClr val="000000"/>
                </a:solidFill>
                <a:latin typeface="Times New Roman"/>
              </a:rPr>
              <a:t>O und Kohlenwasserstoffe: zusammen +1 W/m</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zon: troposphärisch +0,4 W/m2; stratosphärisch – 0,1 W/m</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änderungen der Oberflächenalbedo, d.h. der Wärmerückstrahlungsfähigkeit (je höher die Albedo, desto weniger Wärme wird von der Erdoberfläche absorbiert und desto geringer ist der Strahlungsantrieb): -0,3 W/m</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Kohlestaub auf Schnee (Verringerung der Albedo): +0,1 W/m</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erosole (in der Atmosphäre wirken dem Strahlungsantrieb entgegen, da sie durch die „Verschmutzung“ der Atmosphäre weniger Wärmestrahlung auf die Erde lassen): insgesamt –1,2 W/m</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änderung der Sonnenaktivität: +0,1 W/m</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284" name=""/>
          <p:cNvSpPr/>
          <p:nvPr/>
        </p:nvSpPr>
        <p:spPr>
          <a:xfrm>
            <a:off x="3124080" y="1219320"/>
            <a:ext cx="990720" cy="6094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048120" y="3581280"/>
            <a:ext cx="990360" cy="609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114800" y="1600200"/>
            <a:ext cx="990720" cy="9907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3886200" y="2590560"/>
            <a:ext cx="1219320" cy="10666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191120" y="2216160"/>
            <a:ext cx="1600200" cy="8467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a:t>
            </a:r>
            <a:r>
              <a:rPr b="0" lang="de-DE" sz="1200" spc="-1" strike="noStrike" baseline="-25000">
                <a:solidFill>
                  <a:srgbClr val="000000"/>
                </a:solidFill>
                <a:latin typeface="Arial"/>
              </a:rPr>
              <a:t>2</a:t>
            </a:r>
            <a:r>
              <a:rPr b="0" lang="de-DE" sz="1200" spc="-1" strike="noStrike">
                <a:solidFill>
                  <a:srgbClr val="000000"/>
                </a:solidFill>
                <a:latin typeface="Arial"/>
              </a:rPr>
              <a:t> ist die Hauptquelle für den menschgemachten Klimawande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896760" y="738360"/>
            <a:ext cx="4921560" cy="3690720"/>
          </a:xfrm>
          <a:prstGeom prst="rect">
            <a:avLst/>
          </a:prstGeom>
          <a:ln w="0">
            <a:noFill/>
          </a:ln>
        </p:spPr>
      </p:sp>
      <p:sp>
        <p:nvSpPr>
          <p:cNvPr id="290"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wischen den einzelnen MDG-Bereichen und dem globalen Klimawandel gibt es zahlreiche Zusammenhänge, insbesondere hinsichtlich der Auswirkungen des Klimawandels. Die Grafik zeigt Beispiele, wie sich der Klimawandel auf die MDGs auswirken kann bzw. dies teilweise schon tut. Die Konsequenzen sind sicherlich nicht für alle MDG-Bereiche gleich relevant. Vor allem MDG1, MDG 4,5,6 und MDG 7 werden durch Veränderungen infolge des Klimawandels beeinflusst. Zudem sind auch die Verflechtungen zwischen den MDGs zu beachten. </a:t>
            </a:r>
            <a:r>
              <a:rPr b="0" lang="de-DE" sz="1000" spc="-1" strike="noStrike">
                <a:solidFill>
                  <a:srgbClr val="000000"/>
                </a:solidFill>
                <a:latin typeface="Times New Roman"/>
                <a:ea typeface="Times New Roman"/>
              </a:rPr>
              <a:t>Die Verfügbarkeit von Wasser, die stark vom Klimawandel abhängt, beeinflusst die Ernährungssicherheit (MDG 1) sowie die Gesundheit der Menschen (MDG 4, 5, 6). Gerade für viele Menschen in Entwicklungsländern, deren Lebensunterhalt zu einem bedeutenden Teil von der Landwirtschaft abhängt, kann Wasserknappheit zu Ernte- und damit Einkommensverlusten führen. Es gibt bereits ernstzunehmende Stimmen, die unter anderem aufgrund der Konsequenzen des Klimawandels die MDGs für nicht mehr erreichbar halt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er Klimawandel ist allerdings nicht alleine verantwortlich für entwicklungspolitische Probleme, und die Begrenzung des Klimawandels alleine führt sicher nicht zur Erfüllung der MDGs. Die Armutsbekämpfung, die durch den Klimawandel schwieriger wird, wird gerade deswegen immer notwendiger. Bei näherem Hinsehen wird mehr als deutlich, dass Fortschritte bei den MDGs einen wesentlichen (wenn auch oft nicht hinreichenden) Beitrag zum Abbau der Verletzlichkeit gegenüber den negativen Folgen des Klimawandels leisten können. Die Verringerung der Entwicklungsdefizite in den Bereichen Armut, Ernährungssicherung, Wasserversorgung, Gleichberechtigung und Gesundheit vermindert zweifelsohne auch die Verletzlichkeit  der Menschen gegenüber Stressfaktoren, wie z.B. extremen Wetterereignissen.</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896760" y="738360"/>
            <a:ext cx="4921560" cy="3690720"/>
          </a:xfrm>
          <a:prstGeom prst="rect">
            <a:avLst/>
          </a:prstGeom>
          <a:ln w="0">
            <a:noFill/>
          </a:ln>
        </p:spPr>
      </p:sp>
      <p:sp>
        <p:nvSpPr>
          <p:cNvPr id="292"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Extreme Wetterereignisse und ihre Folgen, wie Überschwemmungen, Stürme, Trockenheit oder übermäßige Kälte, können in wenigen Stunden Erfolge langjähriger Entwicklungsarbeit zunichte machen. Sie können hohe wirtschaftliche Schäden verursachen, viele Menschen das Leben kosten, die Ausbreitung von Krankheiten erhöhen und die Landwirtschaft beeinträchtigen. Wenngleich ein einzelnes Ereignis</a:t>
            </a:r>
            <a:r>
              <a:rPr b="0" lang="de-DE" sz="1000" spc="-1" strike="noStrike">
                <a:solidFill>
                  <a:srgbClr val="ffffff"/>
                </a:solidFill>
                <a:latin typeface="Times New Roman"/>
                <a:ea typeface="Times New Roman"/>
              </a:rPr>
              <a:t> </a:t>
            </a:r>
            <a:r>
              <a:rPr b="0" lang="de-DE" sz="1000" spc="-1" strike="noStrike">
                <a:solidFill>
                  <a:srgbClr val="000000"/>
                </a:solidFill>
                <a:latin typeface="Times New Roman"/>
                <a:ea typeface="Times New Roman"/>
              </a:rPr>
              <a:t>aus methodischen Gründen nie eindeutig auf den Klimawandel zurückgeführt werden kann, so kann sich doch die Eintrittswahrscheinlichkeit deutlich erhöhen, was bereits am Beispiel des Jahrtausend-Sommers 2003 in Westeuropa wissenschaftlich nachgewiesen wurde. Für viele Länder erwartet das IPCC mit dem Klimawandel eine Intensivierung extremer Wetterereignisse.</a:t>
            </a:r>
            <a:br>
              <a:rPr sz="1000"/>
            </a:b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96760" y="738360"/>
            <a:ext cx="4921560" cy="3690720"/>
          </a:xfrm>
          <a:prstGeom prst="rect">
            <a:avLst/>
          </a:prstGeom>
          <a:ln w="0">
            <a:noFill/>
          </a:ln>
        </p:spPr>
      </p:sp>
      <p:sp>
        <p:nvSpPr>
          <p:cNvPr id="294"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s zeigt sich an immer mehr Beispielen aus allen Weltregionen, dass der Temperaturanstieg vielfältige Konsequenzen hat. Für die zukünftigen Lebenschancen einer Vielzahl von Menschen spielt eine zentrale Rolle, ob es gelingt, das Ausmaß des Temperaturanstiegs auf ein Maß zu begrenzen, das übergroße Gefahren und Risiken, so genannte Umkipp-Punkte (oder „Tipping Points“), vermeidet. In manchen Fällen sind diese Prozesse nach menschlichem Maßstab irreversibel. Entwicklungspolitisch besonders relevante Tipping Points sind z.B.: </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Indische Monsun könnte sich durch den Klimawandel auf zweierlei Weise verändern: Sowohl eine starke Abschwächung wie auch eine Verstärkung der Niederschläge könnten eintreten, bis zu einem völligen Umkippen des Systems in eine der beiden Richtungen. Die letzten Jahrzehnte deuten bereits auf ein extremeres „Pendeln“ zwischen diesen beiden Extremen hin. Dürren oder verheerende Überschwemmungen als Folge gefährden Millionen von Menschen.</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Die Abschmelzprozesse der Gletscher im Himalaya gefährden langfristig die Wasserversorgung von mehr als einer Milliarde Menschen in Asien, da die Gletscher die wichtigsten Flüsse des Kontinents speisen. Bis Ende des Jahrhunderts wird das komplette Abschmelzen der Gletscher für wahrscheinlich gehalten.</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Das mögliche “Umkippen” des Amazonas-Regenwaldes in eine Savannen-Vegetation ist ein weiteres Großrisiko, das diese “grüne Lunge” bis etwa 2080 in eine CO</a:t>
            </a:r>
            <a:r>
              <a:rPr b="0" lang="de-DE" sz="1000" spc="-1" strike="noStrike" baseline="-25000">
                <a:solidFill>
                  <a:srgbClr val="000000"/>
                </a:solidFill>
                <a:latin typeface="Times New Roman"/>
              </a:rPr>
              <a:t>2</a:t>
            </a:r>
            <a:r>
              <a:rPr b="0" lang="de-DE" sz="1000" spc="-1" strike="noStrike">
                <a:solidFill>
                  <a:srgbClr val="000000"/>
                </a:solidFill>
                <a:latin typeface="Times New Roman"/>
              </a:rPr>
              <a:t>-Quelle verwandeln könnte und damit den Treibhauseffekt zusätzlich antreiben könnte.</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Ein Anstieg des Meeresspiegels von einem Meter oder mehr, der für dieses Jahrhundert als immer wahrscheinlicher gilt, gefährdet die Existenz von mehr als 40 Inselstaaten. In flachen Küstenländer wie Bangladesch würde der Lebensraum von Millionen von Menschen dauerhaft überflutet. </a:t>
            </a:r>
            <a:endParaRPr b="0" lang="en-US" sz="1000" spc="-1" strike="noStrike">
              <a:solidFill>
                <a:srgbClr val="000000"/>
              </a:solidFill>
              <a:latin typeface="Times New Roman"/>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896760" y="738360"/>
            <a:ext cx="4921560" cy="3690720"/>
          </a:xfrm>
          <a:prstGeom prst="rect">
            <a:avLst/>
          </a:prstGeom>
          <a:ln w="0">
            <a:noFill/>
          </a:ln>
        </p:spPr>
      </p:sp>
      <p:sp>
        <p:nvSpPr>
          <p:cNvPr id="296"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wissenschaftlichen Sachstandberichte des UN-Klimawissenschaftlergremiums IPCC fassen den Stand der Wissenschaft zu Fragen des Klimawandels zusammen. Sie sind als der auch von den meisten Regierungen anerkannte Mindestkonsens von Wissenschaft und Politik anzusehen. Der 4. Sachstandbericht, wird in mehreren Teilen im Jahr 2007 veröffentlicht. Im April 2007 wurde die Zusammenfassung der Arbeitsgruppe zu den Auswirkungen des Klimawandels und Anpassungsfragen verabschiedet. Die Erkenntnisse deuten auf eine Vielzahl von Konsequenzen in den meisten Weltregionen, insbesondere den Entwicklungsländern, hin. Vor allem die Bereiche Ernährung, Wasserversorgung, Gesundheit und Ökosysteme werden betroffen sei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ier und in der nächsten Folie werden die erwarteten Auswirkungen aufgeschlüsselt nach Regionen bzw. weitere globale Effekte dargestellt, die der IPCC-Bericht benen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3C2888-A045-4C8C-81B2-BB41152828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7E4841-5974-4E78-8F35-5C79146DCC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2A2A29-A947-45DE-8142-0290F8FE42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FA4B63-1B7F-43FA-8A53-4B8B044EF6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031334-BDEE-402C-893C-56395AE8C0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8256EC-645C-49FE-9AE6-9FB172B7BD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370D06-FE26-43B5-AC38-71CE979DA9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A91295-8AD7-4EAE-A243-7B767B96B7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F2D98C-4DCB-41B4-8C65-2D6F779290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F0F713-895F-4DAC-9E0A-E5FCE86EE8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2AC7E3-1662-47D9-A4F2-CF6C36CC68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64DDA9-63AC-4F27-B9CE-A84C002550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51920" y="6521040"/>
            <a:ext cx="2955960" cy="260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51297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1297f"/>
                </a:solidFill>
                <a:latin typeface="Arial"/>
              </a:rPr>
              <a:t>&lt;footer&gt;</a:t>
            </a:r>
            <a:endParaRPr b="0" lang="en-US" sz="1300" spc="-1" strike="noStrike">
              <a:solidFill>
                <a:srgbClr val="000000"/>
              </a:solidFill>
              <a:latin typeface="Times New Roman"/>
            </a:endParaRPr>
          </a:p>
        </p:txBody>
      </p:sp>
      <p:sp>
        <p:nvSpPr>
          <p:cNvPr id="1" name="PlaceHolder 2"/>
          <p:cNvSpPr>
            <a:spLocks noGrp="1"/>
          </p:cNvSpPr>
          <p:nvPr>
            <p:ph type="sldNum" idx="2"/>
          </p:nvPr>
        </p:nvSpPr>
        <p:spPr>
          <a:xfrm>
            <a:off x="8516880" y="6521040"/>
            <a:ext cx="550800" cy="260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51297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1D2A-F4D8-49A5-B800-BDF5DC265FD5}" type="slidenum">
              <a:rPr b="0" lang="en-US" sz="1300" spc="-1" strike="noStrike">
                <a:solidFill>
                  <a:srgbClr val="51297f"/>
                </a:solidFill>
                <a:latin typeface="Arial"/>
              </a:rPr>
              <a:t>&lt;number&gt;</a:t>
            </a:fld>
            <a:endParaRPr b="0" lang="en-US" sz="1300" spc="-1" strike="noStrike">
              <a:solidFill>
                <a:srgbClr val="000000"/>
              </a:solidFill>
              <a:latin typeface="Times New Roman"/>
            </a:endParaRPr>
          </a:p>
        </p:txBody>
      </p:sp>
      <p:sp>
        <p:nvSpPr>
          <p:cNvPr id="2" name=""/>
          <p:cNvSpPr/>
          <p:nvPr/>
        </p:nvSpPr>
        <p:spPr>
          <a:xfrm>
            <a:off x="152280" y="6410160"/>
            <a:ext cx="6380280" cy="66960"/>
          </a:xfrm>
          <a:custGeom>
            <a:avLst/>
            <a:gdLst/>
            <a:ahLst/>
            <a:rect l="l" t="t" r="r" b="b"/>
            <a:pathLst>
              <a:path w="12473" h="132">
                <a:moveTo>
                  <a:pt x="12473" y="67"/>
                </a:moveTo>
                <a:lnTo>
                  <a:pt x="12473" y="0"/>
                </a:lnTo>
                <a:lnTo>
                  <a:pt x="0" y="0"/>
                </a:lnTo>
                <a:lnTo>
                  <a:pt x="0" y="132"/>
                </a:lnTo>
                <a:lnTo>
                  <a:pt x="12473" y="132"/>
                </a:lnTo>
                <a:lnTo>
                  <a:pt x="12473" y="67"/>
                </a:lnTo>
                <a:close/>
              </a:path>
            </a:pathLst>
          </a:custGeom>
          <a:solidFill>
            <a:srgbClr val="5d298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 name=""/>
          <p:cNvSpPr/>
          <p:nvPr/>
        </p:nvSpPr>
        <p:spPr>
          <a:xfrm>
            <a:off x="8299440" y="6410160"/>
            <a:ext cx="671400" cy="66960"/>
          </a:xfrm>
          <a:custGeom>
            <a:avLst/>
            <a:gdLst/>
            <a:ahLst/>
            <a:rect l="l" t="t" r="r" b="b"/>
            <a:pathLst>
              <a:path w="1314" h="132">
                <a:moveTo>
                  <a:pt x="1314" y="67"/>
                </a:moveTo>
                <a:lnTo>
                  <a:pt x="1314" y="0"/>
                </a:lnTo>
                <a:lnTo>
                  <a:pt x="0" y="0"/>
                </a:lnTo>
                <a:lnTo>
                  <a:pt x="0" y="132"/>
                </a:lnTo>
                <a:lnTo>
                  <a:pt x="1314" y="132"/>
                </a:lnTo>
                <a:lnTo>
                  <a:pt x="1314" y="67"/>
                </a:lnTo>
                <a:close/>
              </a:path>
            </a:pathLst>
          </a:custGeom>
          <a:solidFill>
            <a:srgbClr val="5d298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 name=""/>
          <p:cNvSpPr/>
          <p:nvPr/>
        </p:nvSpPr>
        <p:spPr>
          <a:xfrm>
            <a:off x="174600" y="228600"/>
            <a:ext cx="8817120" cy="658800"/>
          </a:xfrm>
          <a:custGeom>
            <a:avLst/>
            <a:gdLst/>
            <a:ahLst/>
            <a:rect l="l" t="t" r="r" b="b"/>
            <a:pathLst>
              <a:path w="17237" h="1295">
                <a:moveTo>
                  <a:pt x="17237" y="1295"/>
                </a:moveTo>
                <a:lnTo>
                  <a:pt x="17094" y="1210"/>
                </a:lnTo>
                <a:lnTo>
                  <a:pt x="16938" y="1127"/>
                </a:lnTo>
                <a:lnTo>
                  <a:pt x="16766" y="1049"/>
                </a:lnTo>
                <a:lnTo>
                  <a:pt x="16580" y="975"/>
                </a:lnTo>
                <a:lnTo>
                  <a:pt x="16383" y="904"/>
                </a:lnTo>
                <a:lnTo>
                  <a:pt x="16172" y="837"/>
                </a:lnTo>
                <a:lnTo>
                  <a:pt x="15951" y="773"/>
                </a:lnTo>
                <a:lnTo>
                  <a:pt x="15717" y="714"/>
                </a:lnTo>
                <a:lnTo>
                  <a:pt x="15476" y="657"/>
                </a:lnTo>
                <a:lnTo>
                  <a:pt x="15223" y="605"/>
                </a:lnTo>
                <a:lnTo>
                  <a:pt x="14963" y="556"/>
                </a:lnTo>
                <a:lnTo>
                  <a:pt x="14694" y="509"/>
                </a:lnTo>
                <a:lnTo>
                  <a:pt x="14418" y="466"/>
                </a:lnTo>
                <a:lnTo>
                  <a:pt x="14136" y="426"/>
                </a:lnTo>
                <a:lnTo>
                  <a:pt x="13848" y="388"/>
                </a:lnTo>
                <a:lnTo>
                  <a:pt x="13554" y="354"/>
                </a:lnTo>
                <a:lnTo>
                  <a:pt x="13257" y="323"/>
                </a:lnTo>
                <a:lnTo>
                  <a:pt x="12956" y="294"/>
                </a:lnTo>
                <a:lnTo>
                  <a:pt x="12651" y="268"/>
                </a:lnTo>
                <a:lnTo>
                  <a:pt x="12345" y="244"/>
                </a:lnTo>
                <a:lnTo>
                  <a:pt x="12037" y="222"/>
                </a:lnTo>
                <a:lnTo>
                  <a:pt x="11728" y="204"/>
                </a:lnTo>
                <a:lnTo>
                  <a:pt x="11419" y="187"/>
                </a:lnTo>
                <a:lnTo>
                  <a:pt x="11110" y="173"/>
                </a:lnTo>
                <a:lnTo>
                  <a:pt x="10803" y="160"/>
                </a:lnTo>
                <a:lnTo>
                  <a:pt x="10498" y="150"/>
                </a:lnTo>
                <a:lnTo>
                  <a:pt x="10195" y="141"/>
                </a:lnTo>
                <a:lnTo>
                  <a:pt x="9897" y="134"/>
                </a:lnTo>
                <a:lnTo>
                  <a:pt x="9602" y="129"/>
                </a:lnTo>
                <a:lnTo>
                  <a:pt x="9312" y="126"/>
                </a:lnTo>
                <a:lnTo>
                  <a:pt x="9028" y="125"/>
                </a:lnTo>
                <a:lnTo>
                  <a:pt x="8749" y="124"/>
                </a:lnTo>
                <a:lnTo>
                  <a:pt x="0" y="124"/>
                </a:lnTo>
                <a:lnTo>
                  <a:pt x="0" y="0"/>
                </a:lnTo>
                <a:lnTo>
                  <a:pt x="17236" y="0"/>
                </a:lnTo>
                <a:lnTo>
                  <a:pt x="17237" y="1295"/>
                </a:lnTo>
                <a:close/>
              </a:path>
            </a:pathLst>
          </a:custGeom>
          <a:gradFill rotWithShape="0">
            <a:gsLst>
              <a:gs pos="0">
                <a:srgbClr val="5d2985"/>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3"/>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 name="PlaceHolder 4"/>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7" name="" descr=""/>
          <p:cNvPicPr/>
          <p:nvPr/>
        </p:nvPicPr>
        <p:blipFill>
          <a:blip r:embed="rId2"/>
          <a:stretch/>
        </p:blipFill>
        <p:spPr>
          <a:xfrm>
            <a:off x="6703920" y="6130800"/>
            <a:ext cx="1382760" cy="51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553080" y="6019920"/>
            <a:ext cx="1676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335240" y="1905120"/>
            <a:ext cx="65023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e Millenniums-Entwicklungsziel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und der globale Klimawandel</a:t>
            </a:r>
            <a:endParaRPr b="0" lang="en-US" sz="3200" spc="-1" strike="noStrike">
              <a:solidFill>
                <a:srgbClr val="000000"/>
              </a:solidFill>
              <a:latin typeface="Times New Roman"/>
            </a:endParaRPr>
          </a:p>
        </p:txBody>
      </p:sp>
      <p:pic>
        <p:nvPicPr>
          <p:cNvPr id="53" name="" descr=""/>
          <p:cNvPicPr/>
          <p:nvPr/>
        </p:nvPicPr>
        <p:blipFill>
          <a:blip r:embed="rId1"/>
          <a:stretch/>
        </p:blipFill>
        <p:spPr>
          <a:xfrm>
            <a:off x="2514600" y="3733920"/>
            <a:ext cx="3809880" cy="1409760"/>
          </a:xfrm>
          <a:prstGeom prst="rect">
            <a:avLst/>
          </a:prstGeom>
          <a:ln w="0">
            <a:noFill/>
          </a:ln>
        </p:spPr>
      </p:pic>
      <p:sp>
        <p:nvSpPr>
          <p:cNvPr id="54" name=""/>
          <p:cNvSpPr/>
          <p:nvPr/>
        </p:nvSpPr>
        <p:spPr>
          <a:xfrm>
            <a:off x="152280" y="6410160"/>
            <a:ext cx="8839440" cy="74880"/>
          </a:xfrm>
          <a:custGeom>
            <a:avLst/>
            <a:gdLst/>
            <a:ahLst/>
            <a:rect l="l" t="t" r="r" b="b"/>
            <a:pathLst>
              <a:path w="12473" h="132">
                <a:moveTo>
                  <a:pt x="12473" y="67"/>
                </a:moveTo>
                <a:lnTo>
                  <a:pt x="12473" y="0"/>
                </a:lnTo>
                <a:lnTo>
                  <a:pt x="0" y="0"/>
                </a:lnTo>
                <a:lnTo>
                  <a:pt x="0" y="132"/>
                </a:lnTo>
                <a:lnTo>
                  <a:pt x="12473" y="132"/>
                </a:lnTo>
                <a:lnTo>
                  <a:pt x="12473" y="67"/>
                </a:lnTo>
                <a:close/>
              </a:path>
            </a:pathLst>
          </a:custGeom>
          <a:solidFill>
            <a:srgbClr val="5d298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51768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Klimawandel als doppelte Herausforderung</a:t>
            </a:r>
            <a:r>
              <a:rPr b="0" lang="de-DE" sz="2000" spc="-1" strike="noStrike">
                <a:solidFill>
                  <a:srgbClr val="000000"/>
                </a:solidFill>
                <a:latin typeface="Arial"/>
              </a:rPr>
              <a:t> </a:t>
            </a:r>
            <a:endParaRPr b="0" lang="en-US" sz="2000" spc="-1" strike="noStrike">
              <a:solidFill>
                <a:srgbClr val="000000"/>
              </a:solidFill>
              <a:latin typeface="Times New Roman"/>
            </a:endParaRPr>
          </a:p>
        </p:txBody>
      </p:sp>
      <p:graphicFrame>
        <p:nvGraphicFramePr>
          <p:cNvPr id="144" name=""/>
          <p:cNvGraphicFramePr/>
          <p:nvPr/>
        </p:nvGraphicFramePr>
        <p:xfrm>
          <a:off x="3429000" y="2286000"/>
          <a:ext cx="2133720" cy="1589040"/>
        </p:xfrm>
        <a:graphic>
          <a:graphicData uri="http://schemas.openxmlformats.org/presentationml/2006/ole">
            <p:oleObj r:id="rId1" spid="">
              <p:embed/>
              <p:pic>
                <p:nvPicPr>
                  <p:cNvPr id="145" name="" descr=""/>
                  <p:cNvPicPr/>
                  <p:nvPr/>
                </p:nvPicPr>
                <p:blipFill>
                  <a:blip r:embed="rId2"/>
                  <a:stretch/>
                </p:blipFill>
                <p:spPr>
                  <a:xfrm>
                    <a:off x="3429000" y="2286000"/>
                    <a:ext cx="2133720" cy="1589040"/>
                  </a:xfrm>
                  <a:prstGeom prst="rect">
                    <a:avLst/>
                  </a:prstGeom>
                  <a:ln w="0">
                    <a:noFill/>
                  </a:ln>
                </p:spPr>
              </p:pic>
            </p:oleObj>
          </a:graphicData>
        </a:graphic>
      </p:graphicFrame>
      <p:sp>
        <p:nvSpPr>
          <p:cNvPr id="146" name=""/>
          <p:cNvSpPr/>
          <p:nvPr/>
        </p:nvSpPr>
        <p:spPr>
          <a:xfrm>
            <a:off x="5715000" y="1768320"/>
            <a:ext cx="33526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s Unbewältigba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mei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stische Verringerung der Treibhausgasemissionen, um einen in großem Maßstab gefährlichen Klimawandel abzuwend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304920" y="1828800"/>
            <a:ext cx="3276360" cy="20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s Unvermeidb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wältig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passung an die nicht mehr vermeidbaren Konsequenzen des Klimawandels</a:t>
            </a:r>
            <a:endParaRPr b="0" lang="en-US" sz="2000" spc="-1" strike="noStrike">
              <a:solidFill>
                <a:srgbClr val="000000"/>
              </a:solidFill>
              <a:latin typeface="Times New Roman"/>
            </a:endParaRPr>
          </a:p>
        </p:txBody>
      </p:sp>
      <p:sp>
        <p:nvSpPr>
          <p:cNvPr id="148" name=""/>
          <p:cNvSpPr/>
          <p:nvPr/>
        </p:nvSpPr>
        <p:spPr>
          <a:xfrm>
            <a:off x="685800" y="4648320"/>
            <a:ext cx="7848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c99"/>
                </a:solidFill>
                <a:latin typeface="Arial"/>
              </a:rPr>
              <a:t>Klimawandel als Bedrohung für Armutsbekämpfu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c99"/>
                </a:solidFill>
                <a:latin typeface="Arial"/>
              </a:rPr>
              <a:t>Nachhaltige Armutsbekämpfung als Grundlage für Anpassungsstrategi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275040"/>
            <a:ext cx="8229600" cy="94392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Arial"/>
              </a:rPr>
              <a:t>Das Unbewältigbare vermeiden: </a:t>
            </a:r>
            <a:endParaRPr b="0" lang="en-US" sz="2000" spc="-1" strike="noStrike">
              <a:solidFill>
                <a:srgbClr val="000000"/>
              </a:solidFill>
              <a:latin typeface="Times New Roman"/>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Arial"/>
              </a:rPr>
              <a:t>Gefährlichen Klimawandel abwenden durch Verringerung der Treibhausgasemissionen (Mitigation)</a:t>
            </a:r>
            <a:endParaRPr b="0" lang="en-US" sz="2000" spc="-1" strike="noStrike">
              <a:solidFill>
                <a:srgbClr val="000000"/>
              </a:solidFill>
              <a:latin typeface="Times New Roman"/>
            </a:endParaRPr>
          </a:p>
        </p:txBody>
      </p:sp>
      <p:sp>
        <p:nvSpPr>
          <p:cNvPr id="150" name=""/>
          <p:cNvSpPr/>
          <p:nvPr/>
        </p:nvSpPr>
        <p:spPr>
          <a:xfrm>
            <a:off x="1066680" y="4572000"/>
            <a:ext cx="6935760" cy="476280"/>
          </a:xfrm>
          <a:custGeom>
            <a:avLst/>
            <a:gdLst/>
            <a:ahLst/>
            <a:rect l="l" t="t" r="r" b="b"/>
            <a:pathLst>
              <a:path w="19266" h="1323">
                <a:moveTo>
                  <a:pt x="0" y="0"/>
                </a:moveTo>
                <a:lnTo>
                  <a:pt x="1793" y="0"/>
                </a:lnTo>
                <a:lnTo>
                  <a:pt x="19265" y="1322"/>
                </a:lnTo>
                <a:lnTo>
                  <a:pt x="0" y="1322"/>
                </a:lnTo>
                <a:lnTo>
                  <a:pt x="0" y="0"/>
                </a:lnTo>
              </a:path>
            </a:pathLst>
          </a:custGeom>
          <a:solidFill>
            <a:srgbClr val="99ff66"/>
          </a:solidFill>
          <a:ln w="3240">
            <a:solidFill>
              <a:srgbClr val="1f1a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1117440" y="4738680"/>
            <a:ext cx="3075840" cy="365040"/>
            <a:chOff x="1117440" y="4738680"/>
            <a:chExt cx="3075840" cy="365040"/>
          </a:xfrm>
        </p:grpSpPr>
        <p:sp>
          <p:nvSpPr>
            <p:cNvPr id="152" name=""/>
            <p:cNvSpPr/>
            <p:nvPr/>
          </p:nvSpPr>
          <p:spPr>
            <a:xfrm>
              <a:off x="1117440" y="4738680"/>
              <a:ext cx="3071880" cy="36504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1117440" y="4738680"/>
              <a:ext cx="3075840" cy="365040"/>
              <a:chOff x="1117440" y="4738680"/>
              <a:chExt cx="3075840" cy="365040"/>
            </a:xfrm>
          </p:grpSpPr>
          <p:sp>
            <p:nvSpPr>
              <p:cNvPr id="154" name=""/>
              <p:cNvSpPr/>
              <p:nvPr/>
            </p:nvSpPr>
            <p:spPr>
              <a:xfrm>
                <a:off x="1117440" y="4738680"/>
                <a:ext cx="3071880" cy="36504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17800" y="4738680"/>
                <a:ext cx="3075480" cy="349560"/>
              </a:xfrm>
              <a:prstGeom prst="roundRect">
                <a:avLst>
                  <a:gd name="adj" fmla="val 431"/>
                </a:avLst>
              </a:prstGeom>
              <a:noFill/>
              <a:ln w="0">
                <a:noFill/>
              </a:ln>
            </p:spPr>
            <p:style>
              <a:lnRef idx="0"/>
              <a:fillRef idx="0"/>
              <a:effectRef idx="0"/>
              <a:fontRef idx="minor"/>
            </p:style>
            <p:txBody>
              <a:bodyPr wrap="none" lIns="0" rIns="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Arial"/>
                  </a:rPr>
                  <a:t>Treibhausgas-Emissionsziel</a:t>
                </a:r>
                <a:endParaRPr b="0" lang="en-US" sz="1800" spc="-1" strike="noStrike">
                  <a:solidFill>
                    <a:srgbClr val="000000"/>
                  </a:solidFill>
                  <a:latin typeface="Times New Roman"/>
                </a:endParaRPr>
              </a:p>
            </p:txBody>
          </p:sp>
        </p:grpSp>
      </p:grpSp>
      <p:sp>
        <p:nvSpPr>
          <p:cNvPr id="156" name=""/>
          <p:cNvSpPr/>
          <p:nvPr/>
        </p:nvSpPr>
        <p:spPr>
          <a:xfrm>
            <a:off x="533520" y="5370480"/>
            <a:ext cx="1143000" cy="377280"/>
          </a:xfrm>
          <a:prstGeom prst="rect">
            <a:avLst/>
          </a:prstGeom>
          <a:noFill/>
          <a:ln w="0">
            <a:noFill/>
          </a:ln>
        </p:spPr>
        <p:style>
          <a:lnRef idx="0"/>
          <a:fillRef idx="0"/>
          <a:effectRef idx="0"/>
          <a:fontRef idx="minor"/>
        </p:style>
        <p:txBody>
          <a:bodyPr lIns="18000" rIns="18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Arial"/>
              </a:rPr>
              <a:t>1990</a:t>
            </a:r>
            <a:endParaRPr b="0" lang="en-US" sz="2000" spc="-1" strike="noStrike">
              <a:solidFill>
                <a:srgbClr val="000000"/>
              </a:solidFill>
              <a:latin typeface="Times New Roman"/>
            </a:endParaRPr>
          </a:p>
        </p:txBody>
      </p:sp>
      <p:sp>
        <p:nvSpPr>
          <p:cNvPr id="157" name=""/>
          <p:cNvSpPr/>
          <p:nvPr/>
        </p:nvSpPr>
        <p:spPr>
          <a:xfrm>
            <a:off x="1066680" y="506736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20120" y="5489640"/>
            <a:ext cx="914400" cy="377280"/>
          </a:xfrm>
          <a:prstGeom prst="rect">
            <a:avLst/>
          </a:prstGeom>
          <a:noFill/>
          <a:ln w="0">
            <a:noFill/>
          </a:ln>
        </p:spPr>
        <p:style>
          <a:lnRef idx="0"/>
          <a:fillRef idx="0"/>
          <a:effectRef idx="0"/>
          <a:fontRef idx="minor"/>
        </p:style>
        <p:txBody>
          <a:bodyPr lIns="0" rIns="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Arial"/>
              </a:rPr>
              <a:t>2100</a:t>
            </a:r>
            <a:endParaRPr b="0" lang="en-US" sz="2000" spc="-1" strike="noStrike">
              <a:solidFill>
                <a:srgbClr val="000000"/>
              </a:solidFill>
              <a:latin typeface="Times New Roman"/>
            </a:endParaRPr>
          </a:p>
        </p:txBody>
      </p:sp>
      <p:sp>
        <p:nvSpPr>
          <p:cNvPr id="159" name=""/>
          <p:cNvSpPr/>
          <p:nvPr/>
        </p:nvSpPr>
        <p:spPr>
          <a:xfrm>
            <a:off x="8001000" y="506880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191120" y="5372280"/>
            <a:ext cx="16002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Arial"/>
              </a:rPr>
              <a:t>2050</a:t>
            </a:r>
            <a:endParaRPr b="0" lang="en-US" sz="2000" spc="-1" strike="noStrike">
              <a:solidFill>
                <a:srgbClr val="000000"/>
              </a:solidFill>
              <a:latin typeface="Times New Roman"/>
            </a:endParaRPr>
          </a:p>
        </p:txBody>
      </p:sp>
      <p:sp>
        <p:nvSpPr>
          <p:cNvPr id="161" name=""/>
          <p:cNvSpPr/>
          <p:nvPr/>
        </p:nvSpPr>
        <p:spPr>
          <a:xfrm>
            <a:off x="4952880" y="5068800"/>
            <a:ext cx="180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523880" y="5372280"/>
            <a:ext cx="121932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Arial"/>
              </a:rPr>
              <a:t>2008-12</a:t>
            </a:r>
            <a:endParaRPr b="0" lang="en-US" sz="2000" spc="-1" strike="noStrike">
              <a:solidFill>
                <a:srgbClr val="000000"/>
              </a:solidFill>
              <a:latin typeface="Times New Roman"/>
            </a:endParaRPr>
          </a:p>
        </p:txBody>
      </p:sp>
      <p:sp>
        <p:nvSpPr>
          <p:cNvPr id="163" name=""/>
          <p:cNvSpPr/>
          <p:nvPr/>
        </p:nvSpPr>
        <p:spPr>
          <a:xfrm>
            <a:off x="2286000" y="506880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743200" y="5372280"/>
            <a:ext cx="83808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Arial"/>
              </a:rPr>
              <a:t>2020</a:t>
            </a:r>
            <a:endParaRPr b="0" lang="en-US" sz="2000" spc="-1" strike="noStrike">
              <a:solidFill>
                <a:srgbClr val="000000"/>
              </a:solidFill>
              <a:latin typeface="Times New Roman"/>
            </a:endParaRPr>
          </a:p>
        </p:txBody>
      </p:sp>
      <p:sp>
        <p:nvSpPr>
          <p:cNvPr id="165" name=""/>
          <p:cNvSpPr/>
          <p:nvPr/>
        </p:nvSpPr>
        <p:spPr>
          <a:xfrm>
            <a:off x="3124080" y="5068800"/>
            <a:ext cx="180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28600" y="1295280"/>
            <a:ext cx="8534520" cy="319824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93000"/>
              </a:lnSpc>
              <a:spcBef>
                <a:spcPts val="601"/>
              </a:spcBef>
              <a:buClr>
                <a:srgbClr val="000000"/>
              </a:buClr>
              <a:buFont typeface="Symbol"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GB" sz="2000" spc="-1" strike="noStrike">
                <a:solidFill>
                  <a:srgbClr val="000000"/>
                </a:solidFill>
                <a:latin typeface="Arial"/>
              </a:rPr>
              <a:t>Weltweite Temperaturerhöhung sollte 2°C nicht überschreiten</a:t>
            </a:r>
            <a:endParaRPr b="0" lang="en-US" sz="2000" spc="-1" strike="noStrike">
              <a:solidFill>
                <a:srgbClr val="000000"/>
              </a:solidFill>
              <a:latin typeface="Times New Roman"/>
            </a:endParaRPr>
          </a:p>
          <a:p>
            <a:pPr marL="338040" indent="-338040">
              <a:lnSpc>
                <a:spcPct val="100000"/>
              </a:lnSpc>
              <a:spcBef>
                <a:spcPts val="601"/>
              </a:spcBef>
              <a:buClr>
                <a:srgbClr val="000000"/>
              </a:buClr>
              <a:buFont typeface="Symbol"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GB" sz="2000" spc="-1" strike="noStrike">
                <a:solidFill>
                  <a:srgbClr val="ff3300"/>
                </a:solidFill>
                <a:latin typeface="Arial"/>
              </a:rPr>
              <a:t>Mindest</a:t>
            </a:r>
            <a:r>
              <a:rPr b="0" lang="en-GB" sz="2000" spc="-1" strike="noStrike">
                <a:solidFill>
                  <a:srgbClr val="000000"/>
                </a:solidFill>
                <a:latin typeface="Arial"/>
              </a:rPr>
              <a:t>ziel bis 2050: -50% THG-Emissionen weltweit, -80% in Industrieländern (gegenüber 1990)</a:t>
            </a:r>
            <a:endParaRPr b="0" lang="en-US" sz="2000" spc="-1" strike="noStrike">
              <a:solidFill>
                <a:srgbClr val="000000"/>
              </a:solidFill>
              <a:latin typeface="Times New Roman"/>
            </a:endParaRPr>
          </a:p>
          <a:p>
            <a:pPr marL="338040" indent="-338040">
              <a:lnSpc>
                <a:spcPct val="100000"/>
              </a:lnSpc>
              <a:spcBef>
                <a:spcPts val="601"/>
              </a:spcBef>
              <a:buClr>
                <a:srgbClr val="000000"/>
              </a:buClr>
              <a:buFont typeface="Symbol"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GB" sz="2000" spc="-1" strike="noStrike">
                <a:solidFill>
                  <a:srgbClr val="000000"/>
                </a:solidFill>
                <a:latin typeface="Arial"/>
              </a:rPr>
              <a:t>Zwischenschritt: Industrieländer –30% bis 2020, Einstieg der Schwellenländer in Klimaschutz</a:t>
            </a:r>
            <a:endParaRPr b="0" lang="en-US" sz="2000" spc="-1" strike="noStrike">
              <a:solidFill>
                <a:srgbClr val="000000"/>
              </a:solidFill>
              <a:latin typeface="Times New Roman"/>
            </a:endParaRPr>
          </a:p>
          <a:p>
            <a:pPr marL="338040" indent="-338040">
              <a:lnSpc>
                <a:spcPct val="100000"/>
              </a:lnSpc>
              <a:spcBef>
                <a:spcPts val="601"/>
              </a:spcBef>
              <a:buClr>
                <a:srgbClr val="000000"/>
              </a:buClr>
              <a:buFont typeface="Symbol"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GB" sz="2000" spc="-1" strike="noStrike">
                <a:solidFill>
                  <a:srgbClr val="000000"/>
                </a:solidFill>
                <a:latin typeface="Arial"/>
              </a:rPr>
              <a:t>Deutschland sollte sich zu –40% bis 2020 verpflichten</a:t>
            </a:r>
            <a:endParaRPr b="0" lang="en-US" sz="2000" spc="-1" strike="noStrike">
              <a:solidFill>
                <a:srgbClr val="000000"/>
              </a:solidFill>
              <a:latin typeface="Times New Roman"/>
            </a:endParaRPr>
          </a:p>
          <a:p>
            <a:pPr marL="338040" indent="-338040">
              <a:lnSpc>
                <a:spcPct val="100000"/>
              </a:lnSpc>
              <a:spcBef>
                <a:spcPts val="601"/>
              </a:spcBef>
              <a:buClr>
                <a:srgbClr val="000000"/>
              </a:buClr>
              <a:buFont typeface="Symbol"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GB" sz="2000" spc="-1" strike="noStrike">
                <a:solidFill>
                  <a:srgbClr val="000000"/>
                </a:solidFill>
                <a:latin typeface="Arial"/>
              </a:rPr>
              <a:t>Ab 2015 sollten die globalen Emissionen zurückgehen</a:t>
            </a:r>
            <a:endParaRPr b="0" lang="en-US" sz="2000" spc="-1" strike="noStrike">
              <a:solidFill>
                <a:srgbClr val="000000"/>
              </a:solidFill>
              <a:latin typeface="Times New Roman"/>
            </a:endParaRPr>
          </a:p>
          <a:p>
            <a:pPr marL="338040" indent="-338040">
              <a:lnSpc>
                <a:spcPct val="100000"/>
              </a:lnSpc>
              <a:spcBef>
                <a:spcPts val="601"/>
              </a:spcBef>
              <a:buClr>
                <a:srgbClr val="000000"/>
              </a:buClr>
              <a:buFont typeface="Symbol"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GB" sz="2000" spc="-1" strike="noStrike">
                <a:solidFill>
                  <a:srgbClr val="000000"/>
                </a:solidFill>
                <a:latin typeface="Arial"/>
              </a:rPr>
              <a:t>Kyoto-Protokoll als Einstieg, Nachfolgeabkommen sollte bis 2009 verhandelt sein</a:t>
            </a:r>
            <a:endParaRPr b="0" lang="en-US" sz="2000" spc="-1" strike="noStrike">
              <a:solidFill>
                <a:srgbClr val="000000"/>
              </a:solidFill>
              <a:latin typeface="Times New Roman"/>
            </a:endParaRPr>
          </a:p>
        </p:txBody>
      </p:sp>
      <p:sp>
        <p:nvSpPr>
          <p:cNvPr id="167" name=""/>
          <p:cNvSpPr/>
          <p:nvPr/>
        </p:nvSpPr>
        <p:spPr>
          <a:xfrm>
            <a:off x="990720" y="5713560"/>
            <a:ext cx="228600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Arial"/>
              </a:rPr>
              <a:t>(1. Verpflichtungsperiode des Kyoto-Protokolls)</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200" y="1573200"/>
            <a:ext cx="82296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Jetzt können wir noch das Strafmaß – das Ausmaß der Schäden – beeinflussen. Es lohnt sich, um jedes Grad, ja jedes Zehntel Grad Temperaturerhöhung zu kämpf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Times New Roman"/>
              </a:rPr>
              <a:t>Prof. Dr. Hans Joachim Schellnhuber, Direktor des Potsdam Institut für Klimafolgenforschung (PIK) und Klimaberater der dt. Bundesregierung</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169" name=""/>
          <p:cNvSpPr/>
          <p:nvPr/>
        </p:nvSpPr>
        <p:spPr>
          <a:xfrm>
            <a:off x="457200" y="4403880"/>
            <a:ext cx="8153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wissenschaftlichen Projektionen über die langfristigen Auswirkungen des Klimawandels sind als „sich selbstzerstörende Prophezeiungen“ zu verstehen: das Wissen über die möglichen drastischen Konsequenzen muss Veränderungsprozesse anstoßen mit dem Ziel, genau diese Konsequenzen zu vermeiden.</a:t>
            </a:r>
            <a:endParaRPr b="0" lang="en-US" sz="2000" spc="-1" strike="noStrike">
              <a:solidFill>
                <a:srgbClr val="000000"/>
              </a:solidFill>
              <a:latin typeface="Times New Roman"/>
            </a:endParaRPr>
          </a:p>
        </p:txBody>
      </p:sp>
      <p:sp>
        <p:nvSpPr>
          <p:cNvPr id="170" name=""/>
          <p:cNvSpPr/>
          <p:nvPr/>
        </p:nvSpPr>
        <p:spPr>
          <a:xfrm>
            <a:off x="533520" y="441360"/>
            <a:ext cx="82296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Wider den Fatalismu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das Klima der Zukunft kann heute beeinflusst werden</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990720"/>
            <a:ext cx="8305920" cy="838080"/>
          </a:xfrm>
          <a:prstGeom prst="roundRect">
            <a:avLst>
              <a:gd name="adj" fmla="val 18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04920" y="51768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Gerechtigkeit im Treibhaus: Verursacher und Hauptbetroffene</a:t>
            </a:r>
            <a:r>
              <a:rPr b="0" lang="de-DE" sz="2000" spc="-1" strike="noStrike">
                <a:solidFill>
                  <a:srgbClr val="000000"/>
                </a:solidFill>
                <a:latin typeface="Arial"/>
              </a:rPr>
              <a:t> </a:t>
            </a:r>
            <a:endParaRPr b="0" lang="en-US" sz="2000" spc="-1" strike="noStrike">
              <a:solidFill>
                <a:srgbClr val="000000"/>
              </a:solidFill>
              <a:latin typeface="Times New Roman"/>
            </a:endParaRPr>
          </a:p>
        </p:txBody>
      </p:sp>
      <p:sp>
        <p:nvSpPr>
          <p:cNvPr id="173" name=""/>
          <p:cNvSpPr/>
          <p:nvPr/>
        </p:nvSpPr>
        <p:spPr>
          <a:xfrm>
            <a:off x="152280" y="4618080"/>
            <a:ext cx="381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eigene Berechnungen nach Internationale Energieagentur (2006): CO2 emissions from fossil fuel combustion. Paris.</a:t>
            </a:r>
            <a:endParaRPr b="0" lang="en-US" sz="1200" spc="-1" strike="noStrike">
              <a:solidFill>
                <a:srgbClr val="000000"/>
              </a:solidFill>
              <a:latin typeface="Times New Roman"/>
            </a:endParaRPr>
          </a:p>
        </p:txBody>
      </p:sp>
      <p:sp>
        <p:nvSpPr>
          <p:cNvPr id="174" name=""/>
          <p:cNvSpPr/>
          <p:nvPr/>
        </p:nvSpPr>
        <p:spPr>
          <a:xfrm>
            <a:off x="228600" y="4038480"/>
            <a:ext cx="426708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ergiebedingte CO</a:t>
            </a:r>
            <a:r>
              <a:rPr b="0" lang="de-DE" sz="1600" spc="-1" strike="noStrike" baseline="-25000">
                <a:solidFill>
                  <a:srgbClr val="000000"/>
                </a:solidFill>
                <a:latin typeface="Arial"/>
              </a:rPr>
              <a:t>2</a:t>
            </a:r>
            <a:r>
              <a:rPr b="0" lang="de-DE" sz="1600" spc="-1" strike="noStrike">
                <a:solidFill>
                  <a:srgbClr val="000000"/>
                </a:solidFill>
                <a:latin typeface="Arial"/>
              </a:rPr>
              <a:t>-Emissionen pro Kopf 1990 und 2004</a:t>
            </a:r>
            <a:endParaRPr b="0" lang="en-US" sz="1600" spc="-1" strike="noStrike">
              <a:solidFill>
                <a:srgbClr val="000000"/>
              </a:solidFill>
              <a:latin typeface="Times New Roman"/>
            </a:endParaRPr>
          </a:p>
        </p:txBody>
      </p:sp>
      <p:pic>
        <p:nvPicPr>
          <p:cNvPr id="175" name="" descr=""/>
          <p:cNvPicPr/>
          <p:nvPr/>
        </p:nvPicPr>
        <p:blipFill>
          <a:blip r:embed="rId1"/>
          <a:stretch/>
        </p:blipFill>
        <p:spPr>
          <a:xfrm>
            <a:off x="4419720" y="3529080"/>
            <a:ext cx="4343400" cy="2719440"/>
          </a:xfrm>
          <a:prstGeom prst="rect">
            <a:avLst/>
          </a:prstGeom>
          <a:ln w="9360">
            <a:solidFill>
              <a:srgbClr val="000000"/>
            </a:solidFill>
            <a:miter/>
          </a:ln>
        </p:spPr>
      </p:pic>
      <p:sp>
        <p:nvSpPr>
          <p:cNvPr id="176" name=""/>
          <p:cNvSpPr/>
          <p:nvPr/>
        </p:nvSpPr>
        <p:spPr>
          <a:xfrm>
            <a:off x="5715000" y="2743200"/>
            <a:ext cx="3352680" cy="79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trag zur globalen Erwärmung -</a:t>
            </a:r>
            <a:br>
              <a:rPr sz="1600"/>
            </a:br>
            <a:r>
              <a:rPr b="0" lang="de-DE" sz="1600" spc="-1" strike="noStrike">
                <a:solidFill>
                  <a:srgbClr val="000000"/>
                </a:solidFill>
                <a:latin typeface="Arial"/>
              </a:rPr>
              <a:t>CO</a:t>
            </a:r>
            <a:r>
              <a:rPr b="0" lang="de-DE" sz="1600" spc="-1" strike="noStrike" baseline="-25000">
                <a:solidFill>
                  <a:srgbClr val="000000"/>
                </a:solidFill>
                <a:latin typeface="Arial"/>
              </a:rPr>
              <a:t>2</a:t>
            </a:r>
            <a:r>
              <a:rPr b="0" lang="de-DE" sz="1600" spc="-1" strike="noStrike">
                <a:solidFill>
                  <a:srgbClr val="000000"/>
                </a:solidFill>
                <a:latin typeface="Arial"/>
              </a:rPr>
              <a:t> Emissionen 1900-1999</a:t>
            </a:r>
            <a:br>
              <a:rPr sz="1600"/>
            </a:br>
            <a:r>
              <a:rPr b="0" lang="de-DE" sz="1200" spc="-1" strike="noStrike">
                <a:solidFill>
                  <a:srgbClr val="000000"/>
                </a:solidFill>
                <a:latin typeface="Arial"/>
              </a:rPr>
              <a:t>Quelle: World Resources Institute</a:t>
            </a:r>
            <a:endParaRPr b="0" lang="en-US" sz="1200" spc="-1" strike="noStrike">
              <a:solidFill>
                <a:srgbClr val="000000"/>
              </a:solidFill>
              <a:latin typeface="Times New Roman"/>
            </a:endParaRPr>
          </a:p>
        </p:txBody>
      </p:sp>
      <p:grpSp>
        <p:nvGrpSpPr>
          <p:cNvPr id="177" name=""/>
          <p:cNvGrpSpPr/>
          <p:nvPr/>
        </p:nvGrpSpPr>
        <p:grpSpPr>
          <a:xfrm>
            <a:off x="195120" y="965160"/>
            <a:ext cx="4757760" cy="2957400"/>
            <a:chOff x="195120" y="965160"/>
            <a:chExt cx="4757760" cy="2957400"/>
          </a:xfrm>
        </p:grpSpPr>
        <p:sp>
          <p:nvSpPr>
            <p:cNvPr id="178" name=""/>
            <p:cNvSpPr/>
            <p:nvPr/>
          </p:nvSpPr>
          <p:spPr>
            <a:xfrm>
              <a:off x="195120" y="965160"/>
              <a:ext cx="4757760" cy="295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68360" y="1160280"/>
              <a:ext cx="4324320" cy="2341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68360" y="3028680"/>
              <a:ext cx="432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1" name=""/>
            <p:cNvSpPr/>
            <p:nvPr/>
          </p:nvSpPr>
          <p:spPr>
            <a:xfrm>
              <a:off x="468360" y="2566800"/>
              <a:ext cx="432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2" name=""/>
            <p:cNvSpPr/>
            <p:nvPr/>
          </p:nvSpPr>
          <p:spPr>
            <a:xfrm>
              <a:off x="468360" y="2095200"/>
              <a:ext cx="432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468360" y="1633320"/>
              <a:ext cx="432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4" name=""/>
            <p:cNvSpPr/>
            <p:nvPr/>
          </p:nvSpPr>
          <p:spPr>
            <a:xfrm>
              <a:off x="468360" y="1160280"/>
              <a:ext cx="432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5" name=""/>
            <p:cNvSpPr/>
            <p:nvPr/>
          </p:nvSpPr>
          <p:spPr>
            <a:xfrm>
              <a:off x="468360" y="1160280"/>
              <a:ext cx="4324320" cy="23410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36400" y="2463480"/>
              <a:ext cx="290520" cy="10378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254240" y="1714320"/>
              <a:ext cx="290520" cy="17870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981080" y="3295440"/>
              <a:ext cx="290520" cy="2059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698920" y="2711160"/>
              <a:ext cx="290520" cy="790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416400" y="3419280"/>
              <a:ext cx="290520" cy="82080"/>
            </a:xfrm>
            <a:prstGeom prst="rect">
              <a:avLst/>
            </a:prstGeom>
            <a:solidFill>
              <a:srgbClr val="9999ff"/>
            </a:solidFill>
            <a:ln w="792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1" name=""/>
            <p:cNvSpPr/>
            <p:nvPr/>
          </p:nvSpPr>
          <p:spPr>
            <a:xfrm>
              <a:off x="4143240" y="3141360"/>
              <a:ext cx="290520" cy="3600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26920" y="2536560"/>
              <a:ext cx="282600" cy="96480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544760" y="1653840"/>
              <a:ext cx="290520" cy="18475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271600" y="3162240"/>
              <a:ext cx="282600" cy="3391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89440" y="2711160"/>
              <a:ext cx="282240" cy="79020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706920" y="3419280"/>
              <a:ext cx="290520" cy="82080"/>
            </a:xfrm>
            <a:prstGeom prst="rect">
              <a:avLst/>
            </a:prstGeom>
            <a:solidFill>
              <a:srgbClr val="993366"/>
            </a:solidFill>
            <a:ln w="792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7" name=""/>
            <p:cNvSpPr/>
            <p:nvPr/>
          </p:nvSpPr>
          <p:spPr>
            <a:xfrm>
              <a:off x="4433760" y="3111120"/>
              <a:ext cx="282600" cy="3902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68360" y="1160280"/>
              <a:ext cx="1440" cy="234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42800" y="350172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442800" y="3028680"/>
              <a:ext cx="25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 name=""/>
            <p:cNvSpPr/>
            <p:nvPr/>
          </p:nvSpPr>
          <p:spPr>
            <a:xfrm>
              <a:off x="442800" y="2566800"/>
              <a:ext cx="25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 name=""/>
            <p:cNvSpPr/>
            <p:nvPr/>
          </p:nvSpPr>
          <p:spPr>
            <a:xfrm>
              <a:off x="442800" y="209520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442800" y="1633320"/>
              <a:ext cx="25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4" name=""/>
            <p:cNvSpPr/>
            <p:nvPr/>
          </p:nvSpPr>
          <p:spPr>
            <a:xfrm>
              <a:off x="442800" y="1160280"/>
              <a:ext cx="25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5" name=""/>
            <p:cNvSpPr/>
            <p:nvPr/>
          </p:nvSpPr>
          <p:spPr>
            <a:xfrm>
              <a:off x="468360" y="3501720"/>
              <a:ext cx="432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flipV="1">
              <a:off x="468360" y="3501360"/>
              <a:ext cx="144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7" name=""/>
            <p:cNvSpPr/>
            <p:nvPr/>
          </p:nvSpPr>
          <p:spPr>
            <a:xfrm flipV="1">
              <a:off x="1185840" y="3501360"/>
              <a:ext cx="144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8" name=""/>
            <p:cNvSpPr/>
            <p:nvPr/>
          </p:nvSpPr>
          <p:spPr>
            <a:xfrm flipV="1">
              <a:off x="1913040" y="3501360"/>
              <a:ext cx="144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9" name=""/>
            <p:cNvSpPr/>
            <p:nvPr/>
          </p:nvSpPr>
          <p:spPr>
            <a:xfrm flipV="1">
              <a:off x="2630520" y="3501360"/>
              <a:ext cx="144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0" name=""/>
            <p:cNvSpPr/>
            <p:nvPr/>
          </p:nvSpPr>
          <p:spPr>
            <a:xfrm flipV="1">
              <a:off x="3348000" y="3501360"/>
              <a:ext cx="180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1" name=""/>
            <p:cNvSpPr/>
            <p:nvPr/>
          </p:nvSpPr>
          <p:spPr>
            <a:xfrm flipV="1">
              <a:off x="4075200" y="3501360"/>
              <a:ext cx="144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2" name=""/>
            <p:cNvSpPr/>
            <p:nvPr/>
          </p:nvSpPr>
          <p:spPr>
            <a:xfrm flipV="1">
              <a:off x="4792680" y="3501360"/>
              <a:ext cx="144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3" name=""/>
            <p:cNvSpPr/>
            <p:nvPr/>
          </p:nvSpPr>
          <p:spPr>
            <a:xfrm>
              <a:off x="348840" y="34286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0</a:t>
              </a:r>
              <a:endParaRPr b="0" lang="en-US" sz="900" spc="-1" strike="noStrike">
                <a:solidFill>
                  <a:srgbClr val="000000"/>
                </a:solidFill>
                <a:latin typeface="Times New Roman"/>
              </a:endParaRPr>
            </a:p>
          </p:txBody>
        </p:sp>
        <p:sp>
          <p:nvSpPr>
            <p:cNvPr id="214" name=""/>
            <p:cNvSpPr/>
            <p:nvPr/>
          </p:nvSpPr>
          <p:spPr>
            <a:xfrm>
              <a:off x="348840" y="2957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a:t>
              </a:r>
              <a:endParaRPr b="0" lang="en-US" sz="900" spc="-1" strike="noStrike">
                <a:solidFill>
                  <a:srgbClr val="000000"/>
                </a:solidFill>
                <a:latin typeface="Times New Roman"/>
              </a:endParaRPr>
            </a:p>
          </p:txBody>
        </p:sp>
        <p:sp>
          <p:nvSpPr>
            <p:cNvPr id="215" name=""/>
            <p:cNvSpPr/>
            <p:nvPr/>
          </p:nvSpPr>
          <p:spPr>
            <a:xfrm>
              <a:off x="297720" y="2495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0</a:t>
              </a:r>
              <a:endParaRPr b="0" lang="en-US" sz="900" spc="-1" strike="noStrike">
                <a:solidFill>
                  <a:srgbClr val="000000"/>
                </a:solidFill>
                <a:latin typeface="Times New Roman"/>
              </a:endParaRPr>
            </a:p>
          </p:txBody>
        </p:sp>
        <p:sp>
          <p:nvSpPr>
            <p:cNvPr id="216" name=""/>
            <p:cNvSpPr/>
            <p:nvPr/>
          </p:nvSpPr>
          <p:spPr>
            <a:xfrm>
              <a:off x="297720" y="2022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5</a:t>
              </a:r>
              <a:endParaRPr b="0" lang="en-US" sz="900" spc="-1" strike="noStrike">
                <a:solidFill>
                  <a:srgbClr val="000000"/>
                </a:solidFill>
                <a:latin typeface="Times New Roman"/>
              </a:endParaRPr>
            </a:p>
          </p:txBody>
        </p:sp>
        <p:sp>
          <p:nvSpPr>
            <p:cNvPr id="217" name=""/>
            <p:cNvSpPr/>
            <p:nvPr/>
          </p:nvSpPr>
          <p:spPr>
            <a:xfrm>
              <a:off x="297720" y="15602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20</a:t>
              </a:r>
              <a:endParaRPr b="0" lang="en-US" sz="900" spc="-1" strike="noStrike">
                <a:solidFill>
                  <a:srgbClr val="000000"/>
                </a:solidFill>
                <a:latin typeface="Times New Roman"/>
              </a:endParaRPr>
            </a:p>
          </p:txBody>
        </p:sp>
        <p:sp>
          <p:nvSpPr>
            <p:cNvPr id="218" name=""/>
            <p:cNvSpPr/>
            <p:nvPr/>
          </p:nvSpPr>
          <p:spPr>
            <a:xfrm>
              <a:off x="297720" y="10886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25</a:t>
              </a:r>
              <a:endParaRPr b="0" lang="en-US" sz="900" spc="-1" strike="noStrike">
                <a:solidFill>
                  <a:srgbClr val="000000"/>
                </a:solidFill>
                <a:latin typeface="Times New Roman"/>
              </a:endParaRPr>
            </a:p>
          </p:txBody>
        </p:sp>
        <p:sp>
          <p:nvSpPr>
            <p:cNvPr id="219" name=""/>
            <p:cNvSpPr/>
            <p:nvPr/>
          </p:nvSpPr>
          <p:spPr>
            <a:xfrm>
              <a:off x="519120" y="3614400"/>
              <a:ext cx="777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eutschland</a:t>
              </a:r>
              <a:endParaRPr b="0" lang="en-US" sz="1100" spc="-1" strike="noStrike">
                <a:solidFill>
                  <a:srgbClr val="000000"/>
                </a:solidFill>
                <a:latin typeface="Times New Roman"/>
              </a:endParaRPr>
            </a:p>
          </p:txBody>
        </p:sp>
        <p:sp>
          <p:nvSpPr>
            <p:cNvPr id="220" name=""/>
            <p:cNvSpPr/>
            <p:nvPr/>
          </p:nvSpPr>
          <p:spPr>
            <a:xfrm>
              <a:off x="1443600" y="361440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USA</a:t>
              </a:r>
              <a:endParaRPr b="0" lang="en-US" sz="1100" spc="-1" strike="noStrike">
                <a:solidFill>
                  <a:srgbClr val="000000"/>
                </a:solidFill>
                <a:latin typeface="Times New Roman"/>
              </a:endParaRPr>
            </a:p>
          </p:txBody>
        </p:sp>
        <p:sp>
          <p:nvSpPr>
            <p:cNvPr id="221" name=""/>
            <p:cNvSpPr/>
            <p:nvPr/>
          </p:nvSpPr>
          <p:spPr>
            <a:xfrm>
              <a:off x="2117880" y="3614400"/>
              <a:ext cx="40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hina </a:t>
              </a:r>
              <a:endParaRPr b="0" lang="en-US" sz="1100" spc="-1" strike="noStrike">
                <a:solidFill>
                  <a:srgbClr val="000000"/>
                </a:solidFill>
                <a:latin typeface="Times New Roman"/>
              </a:endParaRPr>
            </a:p>
          </p:txBody>
        </p:sp>
        <p:sp>
          <p:nvSpPr>
            <p:cNvPr id="222" name=""/>
            <p:cNvSpPr/>
            <p:nvPr/>
          </p:nvSpPr>
          <p:spPr>
            <a:xfrm>
              <a:off x="2835360" y="3614400"/>
              <a:ext cx="397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U-25</a:t>
              </a:r>
              <a:endParaRPr b="0" lang="en-US" sz="1100" spc="-1" strike="noStrike">
                <a:solidFill>
                  <a:srgbClr val="000000"/>
                </a:solidFill>
                <a:latin typeface="Times New Roman"/>
              </a:endParaRPr>
            </a:p>
          </p:txBody>
        </p:sp>
        <p:sp>
          <p:nvSpPr>
            <p:cNvPr id="223" name=""/>
            <p:cNvSpPr/>
            <p:nvPr/>
          </p:nvSpPr>
          <p:spPr>
            <a:xfrm>
              <a:off x="3579120" y="3614400"/>
              <a:ext cx="35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frika</a:t>
              </a:r>
              <a:endParaRPr b="0" lang="en-US" sz="1100" spc="-1" strike="noStrike">
                <a:solidFill>
                  <a:srgbClr val="000000"/>
                </a:solidFill>
                <a:latin typeface="Times New Roman"/>
              </a:endParaRPr>
            </a:p>
          </p:txBody>
        </p:sp>
        <p:sp>
          <p:nvSpPr>
            <p:cNvPr id="224" name=""/>
            <p:cNvSpPr/>
            <p:nvPr/>
          </p:nvSpPr>
          <p:spPr>
            <a:xfrm>
              <a:off x="4322160" y="361440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Welt</a:t>
              </a:r>
              <a:endParaRPr b="0" lang="en-US" sz="1100" spc="-1" strike="noStrike">
                <a:solidFill>
                  <a:srgbClr val="000000"/>
                </a:solidFill>
                <a:latin typeface="Times New Roman"/>
              </a:endParaRPr>
            </a:p>
          </p:txBody>
        </p:sp>
        <p:sp>
          <p:nvSpPr>
            <p:cNvPr id="225" name=""/>
            <p:cNvSpPr/>
            <p:nvPr/>
          </p:nvSpPr>
          <p:spPr>
            <a:xfrm>
              <a:off x="3962520" y="1428480"/>
              <a:ext cx="538200" cy="399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081320" y="1501560"/>
              <a:ext cx="60480" cy="72720"/>
            </a:xfrm>
            <a:prstGeom prst="rect">
              <a:avLst/>
            </a:prstGeom>
            <a:solidFill>
              <a:srgbClr val="9999ff"/>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7" name=""/>
            <p:cNvSpPr/>
            <p:nvPr/>
          </p:nvSpPr>
          <p:spPr>
            <a:xfrm>
              <a:off x="4171680" y="1450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992</a:t>
              </a:r>
              <a:endParaRPr b="0" lang="en-US" sz="1100" spc="-1" strike="noStrike">
                <a:solidFill>
                  <a:srgbClr val="000000"/>
                </a:solidFill>
                <a:latin typeface="Times New Roman"/>
              </a:endParaRPr>
            </a:p>
          </p:txBody>
        </p:sp>
        <p:sp>
          <p:nvSpPr>
            <p:cNvPr id="228" name=""/>
            <p:cNvSpPr/>
            <p:nvPr/>
          </p:nvSpPr>
          <p:spPr>
            <a:xfrm>
              <a:off x="4081320" y="1696680"/>
              <a:ext cx="60480" cy="72720"/>
            </a:xfrm>
            <a:prstGeom prst="rect">
              <a:avLst/>
            </a:prstGeom>
            <a:solidFill>
              <a:srgbClr val="993366"/>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9" name=""/>
            <p:cNvSpPr/>
            <p:nvPr/>
          </p:nvSpPr>
          <p:spPr>
            <a:xfrm>
              <a:off x="4174920" y="163332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4</a:t>
              </a:r>
              <a:endParaRPr b="0" lang="en-US" sz="1100" spc="-1" strike="noStrike">
                <a:solidFill>
                  <a:srgbClr val="000000"/>
                </a:solidFill>
                <a:latin typeface="Times New Roman"/>
              </a:endParaRPr>
            </a:p>
          </p:txBody>
        </p:sp>
        <p:sp>
          <p:nvSpPr>
            <p:cNvPr id="230" name=""/>
            <p:cNvSpPr/>
            <p:nvPr/>
          </p:nvSpPr>
          <p:spPr>
            <a:xfrm>
              <a:off x="195120" y="965160"/>
              <a:ext cx="4757760" cy="2957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520" y="685800"/>
            <a:ext cx="8610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Entwicklungsländer als Hauptbetroffene durch erhöhte Vulnerabilität (Verletzlichkeit)</a:t>
            </a:r>
            <a:endParaRPr b="0" lang="en-US" sz="1600" spc="-1" strike="noStrike">
              <a:solidFill>
                <a:srgbClr val="000000"/>
              </a:solidFill>
              <a:latin typeface="Arial"/>
            </a:endParaRPr>
          </a:p>
        </p:txBody>
      </p:sp>
      <p:pic>
        <p:nvPicPr>
          <p:cNvPr id="232" name="" descr=""/>
          <p:cNvPicPr/>
          <p:nvPr/>
        </p:nvPicPr>
        <p:blipFill>
          <a:blip r:embed="rId1"/>
          <a:stretch/>
        </p:blipFill>
        <p:spPr>
          <a:xfrm>
            <a:off x="907920" y="1371600"/>
            <a:ext cx="7321680" cy="4795920"/>
          </a:xfrm>
          <a:prstGeom prst="rect">
            <a:avLst/>
          </a:prstGeom>
          <a:ln w="0">
            <a:noFill/>
          </a:ln>
        </p:spPr>
      </p:pic>
      <p:sp>
        <p:nvSpPr>
          <p:cNvPr id="233" name=""/>
          <p:cNvSpPr/>
          <p:nvPr/>
        </p:nvSpPr>
        <p:spPr>
          <a:xfrm>
            <a:off x="304920" y="6431040"/>
            <a:ext cx="4724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McMichael et al. 1996: Climate Change and human healt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880"/>
            <a:ext cx="81532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Das Unvermeidbare bewältigen: Anpassung an den Klimawandel</a:t>
            </a:r>
            <a:endParaRPr b="0" lang="en-US" sz="1600" spc="-1" strike="noStrike">
              <a:solidFill>
                <a:srgbClr val="000000"/>
              </a:solidFill>
              <a:latin typeface="Arial"/>
            </a:endParaRPr>
          </a:p>
        </p:txBody>
      </p:sp>
      <p:sp>
        <p:nvSpPr>
          <p:cNvPr id="235" name="PlaceHolder 2"/>
          <p:cNvSpPr>
            <a:spLocks noGrp="1"/>
          </p:cNvSpPr>
          <p:nvPr>
            <p:ph/>
          </p:nvPr>
        </p:nvSpPr>
        <p:spPr>
          <a:xfrm>
            <a:off x="380520" y="914040"/>
            <a:ext cx="8153640" cy="4876920"/>
          </a:xfrm>
          <a:prstGeom prst="rect">
            <a:avLst/>
          </a:prstGeom>
          <a:noFill/>
          <a:ln w="0">
            <a:noFill/>
          </a:ln>
        </p:spPr>
        <p:txBody>
          <a:bodyPr lIns="90000" rIns="90000" tIns="46800" bIns="46800" anchor="t">
            <a:normAutofit fontScale="93000"/>
          </a:bodyPr>
          <a:p>
            <a:pPr marL="318960" indent="-318960">
              <a:lnSpc>
                <a:spcPct val="120000"/>
              </a:lnSpc>
              <a:spcBef>
                <a:spcPts val="45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twendigkeit, die Herausforderungen durch den Klimawandel in Entwicklungsprojekte und –strategien zu integrieren („angepasste Entwicklung“);</a:t>
            </a:r>
            <a:endParaRPr b="0" lang="en-US" sz="1800" spc="-1" strike="noStrike">
              <a:solidFill>
                <a:srgbClr val="000000"/>
              </a:solidFill>
              <a:latin typeface="Arial"/>
            </a:endParaRPr>
          </a:p>
          <a:p>
            <a:pPr marL="318960" indent="-318960">
              <a:lnSpc>
                <a:spcPct val="120000"/>
              </a:lnSpc>
              <a:spcBef>
                <a:spcPts val="45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uptziel: Verringerung der Vulnerabilität der Ärmsten</a:t>
            </a:r>
            <a:endParaRPr b="0" lang="en-US" sz="1800" spc="-1" strike="noStrike">
              <a:solidFill>
                <a:srgbClr val="000000"/>
              </a:solidFill>
              <a:latin typeface="Arial"/>
            </a:endParaRPr>
          </a:p>
          <a:p>
            <a:pPr marL="318960" indent="-318960">
              <a:lnSpc>
                <a:spcPct val="120000"/>
              </a:lnSpc>
              <a:spcBef>
                <a:spcPts val="45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tionale Aktionspläne zur Anpassung (NAPA) als erste politische Rahmenwerke in Entwicklungsländern;</a:t>
            </a:r>
            <a:endParaRPr b="0" lang="en-US" sz="1800" spc="-1" strike="noStrike">
              <a:solidFill>
                <a:srgbClr val="000000"/>
              </a:solidFill>
              <a:latin typeface="Arial"/>
            </a:endParaRPr>
          </a:p>
          <a:p>
            <a:pPr marL="318960" indent="-318960">
              <a:lnSpc>
                <a:spcPct val="120000"/>
              </a:lnSpc>
              <a:spcBef>
                <a:spcPts val="45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antwortung der Regierungen der Entwicklungsländer: die Hauptbetroffenen in den Fokus der Anpassung stellen </a:t>
            </a:r>
            <a:endParaRPr b="0" lang="en-US" sz="1800" spc="-1" strike="noStrike">
              <a:solidFill>
                <a:srgbClr val="000000"/>
              </a:solidFill>
              <a:latin typeface="Arial"/>
            </a:endParaRPr>
          </a:p>
          <a:p>
            <a:pPr marL="318960" indent="-318960">
              <a:lnSpc>
                <a:spcPct val="120000"/>
              </a:lnSpc>
              <a:spcBef>
                <a:spcPts val="45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Klimawandel verursacht zusätzliche Kosten für die Entwicklungsländer in mindestens zweistelliger Milliardenhöhe (jährlich);</a:t>
            </a:r>
            <a:endParaRPr b="0" lang="en-US" sz="1800" spc="-1" strike="noStrike">
              <a:solidFill>
                <a:srgbClr val="000000"/>
              </a:solidFill>
              <a:latin typeface="Arial"/>
            </a:endParaRPr>
          </a:p>
          <a:p>
            <a:pPr marL="318960" indent="-318960">
              <a:lnSpc>
                <a:spcPct val="120000"/>
              </a:lnSpc>
              <a:spcBef>
                <a:spcPts val="45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ursacherprinzip: Verantwortung der Industrieländer zur Unterstützung der Entwicklungsländer bei der Anpassung, insbesondere finanzieller Art;</a:t>
            </a:r>
            <a:endParaRPr b="0" lang="en-US" sz="1800" spc="-1" strike="noStrike">
              <a:solidFill>
                <a:srgbClr val="000000"/>
              </a:solidFill>
              <a:latin typeface="Arial"/>
            </a:endParaRPr>
          </a:p>
          <a:p>
            <a:pPr marL="318960" indent="-318960">
              <a:lnSpc>
                <a:spcPct val="120000"/>
              </a:lnSpc>
              <a:spcBef>
                <a:spcPts val="45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führung zusätzlicher Finanzinstrumente notwendig: z.B. Kerosinsteuer, Versteigerung von Zertifikaten im europäischen Emissionshandel.</a:t>
            </a:r>
            <a:endParaRPr b="0" lang="en-US" sz="1800" spc="-1" strike="noStrike">
              <a:solidFill>
                <a:srgbClr val="000000"/>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305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Anpassung als fortlaufender Prozess</a:t>
            </a:r>
            <a:endParaRPr b="0" lang="en-US" sz="1600" spc="-1" strike="noStrike">
              <a:solidFill>
                <a:srgbClr val="000000"/>
              </a:solidFill>
              <a:latin typeface="Arial"/>
            </a:endParaRPr>
          </a:p>
        </p:txBody>
      </p:sp>
      <p:grpSp>
        <p:nvGrpSpPr>
          <p:cNvPr id="237" name=""/>
          <p:cNvGrpSpPr/>
          <p:nvPr/>
        </p:nvGrpSpPr>
        <p:grpSpPr>
          <a:xfrm>
            <a:off x="380880" y="533520"/>
            <a:ext cx="8229240" cy="5562000"/>
            <a:chOff x="380880" y="533520"/>
            <a:chExt cx="8229240" cy="5562000"/>
          </a:xfrm>
        </p:grpSpPr>
        <p:sp>
          <p:nvSpPr>
            <p:cNvPr id="238" name=""/>
            <p:cNvSpPr/>
            <p:nvPr/>
          </p:nvSpPr>
          <p:spPr>
            <a:xfrm>
              <a:off x="3630240" y="533520"/>
              <a:ext cx="2025000" cy="10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issen, Daten, Instrumente, z.B. integrierte Analysemodelle </a:t>
              </a:r>
              <a:endParaRPr b="0" lang="en-US" sz="1500" spc="-1" strike="noStrike">
                <a:solidFill>
                  <a:srgbClr val="000000"/>
                </a:solidFill>
                <a:latin typeface="Times New Roman"/>
              </a:endParaRPr>
            </a:p>
          </p:txBody>
        </p:sp>
        <p:sp>
          <p:nvSpPr>
            <p:cNvPr id="239" name=""/>
            <p:cNvSpPr/>
            <p:nvPr/>
          </p:nvSpPr>
          <p:spPr>
            <a:xfrm>
              <a:off x="5244480" y="5019480"/>
              <a:ext cx="2025000" cy="10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Mainstreaming“ von Klima-Anpassung in Pläne, Politiken, Strategien</a:t>
              </a:r>
              <a:endParaRPr b="0" lang="en-US" sz="1500" spc="-1" strike="noStrike">
                <a:solidFill>
                  <a:srgbClr val="000000"/>
                </a:solidFill>
                <a:latin typeface="Times New Roman"/>
              </a:endParaRPr>
            </a:p>
          </p:txBody>
        </p:sp>
        <p:sp>
          <p:nvSpPr>
            <p:cNvPr id="240" name=""/>
            <p:cNvSpPr/>
            <p:nvPr/>
          </p:nvSpPr>
          <p:spPr>
            <a:xfrm>
              <a:off x="1608120" y="5019480"/>
              <a:ext cx="2025000" cy="10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valuation und Monitoring für Analyse und Weiterentwicklung</a:t>
              </a:r>
              <a:endParaRPr b="0" lang="en-US" sz="1500" spc="-1" strike="noStrike">
                <a:solidFill>
                  <a:srgbClr val="000000"/>
                </a:solidFill>
                <a:latin typeface="Times New Roman"/>
              </a:endParaRPr>
            </a:p>
          </p:txBody>
        </p:sp>
        <p:sp>
          <p:nvSpPr>
            <p:cNvPr id="241" name=""/>
            <p:cNvSpPr/>
            <p:nvPr/>
          </p:nvSpPr>
          <p:spPr>
            <a:xfrm>
              <a:off x="3539880" y="2687040"/>
              <a:ext cx="2025000" cy="10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Umsetzung von Anpassungs-maßnahmen</a:t>
              </a:r>
              <a:endParaRPr b="0" lang="en-US" sz="1500" spc="-1" strike="noStrike">
                <a:solidFill>
                  <a:srgbClr val="000000"/>
                </a:solidFill>
                <a:latin typeface="Times New Roman"/>
              </a:endParaRPr>
            </a:p>
          </p:txBody>
        </p:sp>
        <p:sp>
          <p:nvSpPr>
            <p:cNvPr id="242" name=""/>
            <p:cNvSpPr/>
            <p:nvPr/>
          </p:nvSpPr>
          <p:spPr>
            <a:xfrm>
              <a:off x="6585120" y="1968840"/>
              <a:ext cx="2025000" cy="10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isikoerfassung, z.B. Risiko der Überflutung an Küsten</a:t>
              </a:r>
              <a:endParaRPr b="0" lang="en-US" sz="1500" spc="-1" strike="noStrike">
                <a:solidFill>
                  <a:srgbClr val="000000"/>
                </a:solidFill>
                <a:latin typeface="Times New Roman"/>
              </a:endParaRPr>
            </a:p>
          </p:txBody>
        </p:sp>
        <p:sp>
          <p:nvSpPr>
            <p:cNvPr id="243" name=""/>
            <p:cNvSpPr/>
            <p:nvPr/>
          </p:nvSpPr>
          <p:spPr>
            <a:xfrm>
              <a:off x="380880" y="1968840"/>
              <a:ext cx="2025000" cy="10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ewusstsein schaffen und Kapazitäten aufbauen</a:t>
              </a:r>
              <a:endParaRPr b="0" lang="en-US" sz="1500" spc="-1" strike="noStrike">
                <a:solidFill>
                  <a:srgbClr val="000000"/>
                </a:solidFill>
                <a:latin typeface="Times New Roman"/>
              </a:endParaRPr>
            </a:p>
          </p:txBody>
        </p:sp>
        <p:sp>
          <p:nvSpPr>
            <p:cNvPr id="244" name=""/>
            <p:cNvSpPr/>
            <p:nvPr/>
          </p:nvSpPr>
          <p:spPr>
            <a:xfrm flipH="1" flipV="1">
              <a:off x="1403280" y="3404880"/>
              <a:ext cx="674280" cy="1435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2767320" y="3942360"/>
              <a:ext cx="975240" cy="89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358000" y="2507040"/>
              <a:ext cx="1124280" cy="53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4380120" y="1789560"/>
              <a:ext cx="75240" cy="71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5448960" y="2687040"/>
              <a:ext cx="1024560" cy="35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flipV="1">
              <a:off x="5493600" y="3942360"/>
              <a:ext cx="550800" cy="89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585040" y="892440"/>
              <a:ext cx="1699920" cy="89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6493680" y="3405240"/>
              <a:ext cx="774360" cy="1435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1926000" y="892440"/>
              <a:ext cx="1751040" cy="89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flipV="1">
              <a:off x="3516840" y="5377680"/>
              <a:ext cx="174996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54" name=""/>
          <p:cNvSpPr/>
          <p:nvPr/>
        </p:nvSpPr>
        <p:spPr>
          <a:xfrm>
            <a:off x="152280" y="6583320"/>
            <a:ext cx="8763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Quelle. Warrick, R.A. 2000: Strategies for vulnerability and adaptation assessment in the context of national communications.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305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Anpassungsmaßnahmen auf verschiedenen Ebenen</a:t>
            </a:r>
            <a:br>
              <a:rPr sz="1600"/>
            </a:br>
            <a:r>
              <a:rPr b="1" lang="de-DE" sz="1600" spc="-1" strike="noStrike" u="sng">
                <a:solidFill>
                  <a:srgbClr val="000000"/>
                </a:solidFill>
                <a:uFillTx/>
                <a:latin typeface="Arial"/>
              </a:rPr>
              <a:t>(Beispiel Ernährungssicherheit)</a:t>
            </a:r>
            <a:endParaRPr b="0" lang="en-US" sz="1600" spc="-1" strike="noStrike">
              <a:solidFill>
                <a:srgbClr val="000000"/>
              </a:solidFill>
              <a:latin typeface="Arial"/>
            </a:endParaRPr>
          </a:p>
        </p:txBody>
      </p:sp>
      <p:graphicFrame>
        <p:nvGraphicFramePr>
          <p:cNvPr id="256" name=""/>
          <p:cNvGraphicFramePr/>
          <p:nvPr/>
        </p:nvGraphicFramePr>
        <p:xfrm>
          <a:off x="457200" y="1058760"/>
          <a:ext cx="8229600" cy="5067360"/>
        </p:xfrm>
        <a:graphic>
          <a:graphicData uri="http://schemas.openxmlformats.org/drawingml/2006/table">
            <a:tbl>
              <a:tblPr/>
              <a:tblGrid>
                <a:gridCol w="1219320"/>
                <a:gridCol w="2819160"/>
                <a:gridCol w="2133720"/>
                <a:gridCol w="2057400"/>
              </a:tblGrid>
              <a:tr h="379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Maßnahme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Proaktiv</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Reaktiv</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chthandel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Leitlinien für nationale Anpassungsstrategien</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Entwicklung neuer Pflanzenarten</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Maßnahmen der Nahrungsmittelhilf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keine Maßnahmen zur Initiierung von Verhaltens-änderungen werden ergriffen</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Anlegen von Getreidevorräten</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Landwirtschaftspolitik zur Veränderung von Pflanzen und Bewirtschaftungsmethode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Veränderung der Steuern und Ausgaben zur Erhöhung von Nahrungsmittelimporten und der Katastrophenhilf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keine kleinen Infrastruk-turInvestitionen mit Nutzen ausschließlich für die lokale Bevölkerung werden getätigt</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ok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Investitionen zur Regenwasser-nutzung, Bewässerung und Über-schwemmungsschutz</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Einrichtung von lokalen Saatgutbanken</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Lokale Koordin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Gegenseitige Unterstützung</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Abwanderung als Anpassungsmöglichkeit wird ignoriert</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dividuel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Verbreiterung der Einkommens-quellen</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Investition in Weiterbildung</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Veränderung der landwirtschaftlichen Methode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Aus- oder Abwanderung</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Hinnehmen der eigenen erhöhten Vulnerabilität und des verringerten Wohlstands</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7" name=""/>
          <p:cNvSpPr/>
          <p:nvPr/>
        </p:nvSpPr>
        <p:spPr>
          <a:xfrm>
            <a:off x="380880" y="6507000"/>
            <a:ext cx="8382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Quelle: Adger, W.N./Paavola, J./Huq, S. 2006: Toward Justice in Adaptation to Climate Change.</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17680"/>
            <a:ext cx="8305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UN-Klimapolitik nach Bali: </a:t>
            </a:r>
            <a:br>
              <a:rPr sz="1600"/>
            </a:br>
            <a:r>
              <a:rPr b="1" lang="de-DE" sz="1600" spc="-1" strike="noStrike" u="sng">
                <a:solidFill>
                  <a:srgbClr val="000000"/>
                </a:solidFill>
                <a:uFillTx/>
                <a:latin typeface="Arial"/>
              </a:rPr>
              <a:t>Auf dem Weg zu einem globalen Klimapakt?</a:t>
            </a:r>
            <a:endParaRPr b="0" lang="en-US" sz="1600" spc="-1" strike="noStrike">
              <a:solidFill>
                <a:srgbClr val="000000"/>
              </a:solidFill>
              <a:latin typeface="Arial"/>
            </a:endParaRPr>
          </a:p>
        </p:txBody>
      </p:sp>
      <p:sp>
        <p:nvSpPr>
          <p:cNvPr id="259" name=""/>
          <p:cNvSpPr/>
          <p:nvPr/>
        </p:nvSpPr>
        <p:spPr>
          <a:xfrm>
            <a:off x="380880" y="1203480"/>
            <a:ext cx="8305920" cy="454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ali-Aktionsplan als Verhandlungsfahrplan bis Ende 2009 (UN-Klimakonferenz in Kopenhagen</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ier große Verhandlungsblöcke: Emissionsminderung, Anpassung, Finanzierung, Technologien</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Limit implizit auf der Verhandlungsagenda, aber noch kein Konsen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ndustrieländer stehen in der Verantwortung, selbst Emissionen deutlich zu reduzieren (25-40% bis 2020 gegenüber 1990) und die Schwellen- und Entwicklungsländer bei der Emissionsvermeidung und Anpassung durch Finanzen und Technologietransfer zu unterstützen</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ste Anzeichen einer Allianz zwischen der EU und Entwicklungsländern</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handlungen werden bis Ende 2009 deutlich intensivier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Handlungsmöglichkeiten im Kontext von MDGs und Klimawandel</a:t>
            </a:r>
            <a:endParaRPr b="0" lang="en-US" sz="1600" spc="-1" strike="noStrike">
              <a:solidFill>
                <a:srgbClr val="000000"/>
              </a:solidFill>
              <a:latin typeface="Arial"/>
            </a:endParaRPr>
          </a:p>
        </p:txBody>
      </p:sp>
      <p:sp>
        <p:nvSpPr>
          <p:cNvPr id="261" name="PlaceHolder 2"/>
          <p:cNvSpPr>
            <a:spLocks noGrp="1"/>
          </p:cNvSpPr>
          <p:nvPr>
            <p:ph/>
          </p:nvPr>
        </p:nvSpPr>
        <p:spPr>
          <a:xfrm>
            <a:off x="457200" y="837720"/>
            <a:ext cx="7848720" cy="5257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 Rolle der Regierungen (v.a. Industrieländer):</a:t>
            </a:r>
            <a:r>
              <a:rPr b="0" lang="de-DE"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Rahmenbedingungen so setzen, dass Klimaschutz im großen Maße wirtschaftlich attraktiv ist</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langfristige und ehrgeizige CO</a:t>
            </a:r>
            <a:r>
              <a:rPr b="0" lang="de-DE" sz="2000" spc="-1" strike="noStrike" baseline="-25000">
                <a:solidFill>
                  <a:srgbClr val="000000"/>
                </a:solidFill>
                <a:latin typeface="Arial"/>
                <a:ea typeface="Times New Roman"/>
              </a:rPr>
              <a:t>2</a:t>
            </a:r>
            <a:r>
              <a:rPr b="0" lang="de-DE" sz="2000" spc="-1" strike="noStrike">
                <a:solidFill>
                  <a:srgbClr val="000000"/>
                </a:solidFill>
                <a:latin typeface="Arial"/>
                <a:ea typeface="Times New Roman"/>
              </a:rPr>
              <a:t>-Minderungsziele national und global beschließen</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wirkungsvolle Mechanismen für die die Finanzierung von Anpassungsmaßnahmen schaffen bzw. weiterentwickeln </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Times New Roman"/>
              </a:rPr>
              <a:t>2. Rolle der Zivilgesellschaft/Entwicklungszusammenarbeit</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gemeinsam mit Partnern Auswirkungen des Klimawandels auf Projektvorhaben analysieren</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Katastrophenvorsorge und Anpassungsstrategien integrieren</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sich für eine starke Klimapolitik im Sinne der besonders durch den Klimawandel Betroffenen engagieren</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a:t>
            </a:r>
            <a:r>
              <a:rPr b="0" lang="de-DE" sz="2000" spc="-1" strike="noStrike">
                <a:solidFill>
                  <a:srgbClr val="000000"/>
                </a:solidFill>
                <a:latin typeface="Arial"/>
                <a:ea typeface="Times New Roman"/>
              </a:rPr>
              <a:t>Klimapolitik im eigenen Haus“ umsetzen und öffentlich sensibilisieren: Grüner Strom, Kompensation von Flügen, Energiesparen</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In Bündnissen Druck auf die Politik ausüben für Klimagerechtigke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600"/>
            <a:ext cx="5943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Die Millennium-Entwicklungsziele (MDGs) als Messlatte der Entwicklungspolitik</a:t>
            </a:r>
            <a:endParaRPr b="0" lang="en-US" sz="1600" spc="-1" strike="noStrike">
              <a:solidFill>
                <a:srgbClr val="000000"/>
              </a:solidFill>
              <a:latin typeface="Arial"/>
            </a:endParaRPr>
          </a:p>
        </p:txBody>
      </p:sp>
      <p:sp>
        <p:nvSpPr>
          <p:cNvPr id="56" name="PlaceHolder 2"/>
          <p:cNvSpPr>
            <a:spLocks noGrp="1"/>
          </p:cNvSpPr>
          <p:nvPr>
            <p:ph/>
          </p:nvPr>
        </p:nvSpPr>
        <p:spPr>
          <a:xfrm>
            <a:off x="609120" y="1143000"/>
            <a:ext cx="4876920" cy="5029200"/>
          </a:xfrm>
          <a:prstGeom prst="rect">
            <a:avLst/>
          </a:prstGeom>
          <a:noFill/>
          <a:ln w="0">
            <a:noFill/>
          </a:ln>
        </p:spPr>
        <p:txBody>
          <a:bodyPr lIns="90000" rIns="90000" tIns="46800" bIns="46800" anchor="t">
            <a:normAutofit/>
          </a:bodyPr>
          <a:p>
            <a:pPr marL="343080" indent="-34308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Verabschiedung der Millenniums-Erklärung im Jahr 2000 durch 189 Staaten</a:t>
            </a:r>
            <a:endParaRPr b="0" lang="en-US" sz="1700" spc="-1" strike="noStrike">
              <a:solidFill>
                <a:srgbClr val="000000"/>
              </a:solidFill>
              <a:latin typeface="Arial"/>
            </a:endParaRPr>
          </a:p>
          <a:p>
            <a:pPr marL="343080" indent="-34308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8 Ziele (MDGs), ergänzt durch 18 Unterziele, konkretisiert durch 48 Indikatoren, die größtenteils bis 2015 verwirklicht werden sollen</a:t>
            </a:r>
            <a:endParaRPr b="0" lang="en-US" sz="1700" spc="-1" strike="noStrike">
              <a:solidFill>
                <a:srgbClr val="000000"/>
              </a:solidFill>
              <a:latin typeface="Arial"/>
            </a:endParaRPr>
          </a:p>
          <a:p>
            <a:pPr marL="343080" indent="-34308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Messlatte der Entwicklungspolitik, mit konzeptionellen Stärken und Schwächen</a:t>
            </a:r>
            <a:endParaRPr b="0" lang="en-US" sz="1700" spc="-1" strike="noStrike">
              <a:solidFill>
                <a:srgbClr val="000000"/>
              </a:solidFill>
              <a:latin typeface="Arial"/>
            </a:endParaRPr>
          </a:p>
          <a:p>
            <a:pPr marL="343080" indent="-34308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2005: „Millennium+5-Gipfel“: nur wenig Fortschritte</a:t>
            </a:r>
            <a:endParaRPr b="0" lang="en-US" sz="1700" spc="-1" strike="noStrike">
              <a:solidFill>
                <a:srgbClr val="000000"/>
              </a:solidFill>
              <a:latin typeface="Arial"/>
            </a:endParaRPr>
          </a:p>
          <a:p>
            <a:pPr marL="343080" indent="-34308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Perspektive: regional unterschiedliche Entwicklung je nach Ziel; vor allem in Afrika werden die Ziele vermutlich nicht erreicht werden können</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 name=""/>
          <p:cNvSpPr/>
          <p:nvPr/>
        </p:nvSpPr>
        <p:spPr>
          <a:xfrm>
            <a:off x="5715000" y="2225520"/>
            <a:ext cx="289548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2. Verwirklichung der allgemeinen Primärschulbildung</a:t>
            </a:r>
            <a:endParaRPr b="0" lang="en-US" sz="1400" spc="-1" strike="noStrike">
              <a:solidFill>
                <a:srgbClr val="000000"/>
              </a:solidFill>
              <a:latin typeface="Times New Roman"/>
            </a:endParaRPr>
          </a:p>
        </p:txBody>
      </p:sp>
      <p:sp>
        <p:nvSpPr>
          <p:cNvPr id="58" name=""/>
          <p:cNvSpPr/>
          <p:nvPr/>
        </p:nvSpPr>
        <p:spPr>
          <a:xfrm>
            <a:off x="5715000" y="914400"/>
            <a:ext cx="2895480" cy="459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DGs</a:t>
            </a:r>
            <a:endParaRPr b="0" lang="en-US" sz="2400" spc="-1" strike="noStrike">
              <a:solidFill>
                <a:srgbClr val="000000"/>
              </a:solidFill>
              <a:latin typeface="Times New Roman"/>
            </a:endParaRPr>
          </a:p>
        </p:txBody>
      </p:sp>
      <p:sp>
        <p:nvSpPr>
          <p:cNvPr id="59" name=""/>
          <p:cNvSpPr/>
          <p:nvPr/>
        </p:nvSpPr>
        <p:spPr>
          <a:xfrm>
            <a:off x="5715000" y="2774880"/>
            <a:ext cx="2895480" cy="7333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3. Förderung der Gleichheit der Geschlechter und Stärkung der Rolle der Frauen</a:t>
            </a:r>
            <a:endParaRPr b="0" lang="en-US" sz="1400" spc="-1" strike="noStrike">
              <a:solidFill>
                <a:srgbClr val="000000"/>
              </a:solidFill>
              <a:latin typeface="Times New Roman"/>
            </a:endParaRPr>
          </a:p>
        </p:txBody>
      </p:sp>
      <p:sp>
        <p:nvSpPr>
          <p:cNvPr id="60" name=""/>
          <p:cNvSpPr/>
          <p:nvPr/>
        </p:nvSpPr>
        <p:spPr>
          <a:xfrm>
            <a:off x="5715000" y="1692360"/>
            <a:ext cx="2895480" cy="52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1. Bekämpfung der extremen Armut und des Hungers</a:t>
            </a:r>
            <a:endParaRPr b="0" lang="en-US" sz="1400" spc="-1" strike="noStrike">
              <a:solidFill>
                <a:srgbClr val="000000"/>
              </a:solidFill>
              <a:latin typeface="Times New Roman"/>
            </a:endParaRPr>
          </a:p>
        </p:txBody>
      </p:sp>
      <p:sp>
        <p:nvSpPr>
          <p:cNvPr id="61" name=""/>
          <p:cNvSpPr/>
          <p:nvPr/>
        </p:nvSpPr>
        <p:spPr>
          <a:xfrm>
            <a:off x="5715000" y="3508200"/>
            <a:ext cx="2895480" cy="15951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4. Senkung der Kindersterblichkei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5. Verbesserung der Gesundheit von Mütter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6. Bekämpfung von HIV/AIDS, Malaria und anderen Krankheiten</a:t>
            </a:r>
            <a:endParaRPr b="0" lang="en-US" sz="1400" spc="-1" strike="noStrike">
              <a:solidFill>
                <a:srgbClr val="000000"/>
              </a:solidFill>
              <a:latin typeface="Times New Roman"/>
            </a:endParaRPr>
          </a:p>
        </p:txBody>
      </p:sp>
      <p:sp>
        <p:nvSpPr>
          <p:cNvPr id="62" name=""/>
          <p:cNvSpPr/>
          <p:nvPr/>
        </p:nvSpPr>
        <p:spPr>
          <a:xfrm>
            <a:off x="5715000" y="4892760"/>
            <a:ext cx="2895480" cy="520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7. Sicherung der ökologischen Nachhaltigkeit</a:t>
            </a:r>
            <a:endParaRPr b="0" lang="en-US" sz="1400" spc="-1" strike="noStrike">
              <a:solidFill>
                <a:srgbClr val="000000"/>
              </a:solidFill>
              <a:latin typeface="Times New Roman"/>
            </a:endParaRPr>
          </a:p>
        </p:txBody>
      </p:sp>
      <p:sp>
        <p:nvSpPr>
          <p:cNvPr id="63" name=""/>
          <p:cNvSpPr/>
          <p:nvPr/>
        </p:nvSpPr>
        <p:spPr>
          <a:xfrm>
            <a:off x="5715000" y="5419800"/>
            <a:ext cx="2895480" cy="520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8. Aufbau einer weltweit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Entwicklungspartnerschaf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0" y="-30240"/>
            <a:ext cx="9144000" cy="6888240"/>
          </a:xfrm>
          <a:prstGeom prst="rect">
            <a:avLst/>
          </a:prstGeom>
          <a:ln w="0">
            <a:noFill/>
          </a:ln>
        </p:spPr>
      </p:pic>
      <p:sp>
        <p:nvSpPr>
          <p:cNvPr id="263" name=""/>
          <p:cNvSpPr/>
          <p:nvPr/>
        </p:nvSpPr>
        <p:spPr>
          <a:xfrm>
            <a:off x="457560" y="5775480"/>
            <a:ext cx="4376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www.die-klima-allianz.d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Handlungsmöglichkeiten im Kontext von MDGs und Klimawandel (II)</a:t>
            </a:r>
            <a:endParaRPr b="0" lang="en-US" sz="1600" spc="-1" strike="noStrike">
              <a:solidFill>
                <a:srgbClr val="000000"/>
              </a:solidFill>
              <a:latin typeface="Arial"/>
            </a:endParaRPr>
          </a:p>
        </p:txBody>
      </p:sp>
      <p:sp>
        <p:nvSpPr>
          <p:cNvPr id="265" name="PlaceHolder 2"/>
          <p:cNvSpPr>
            <a:spLocks noGrp="1"/>
          </p:cNvSpPr>
          <p:nvPr>
            <p:ph/>
          </p:nvPr>
        </p:nvSpPr>
        <p:spPr>
          <a:xfrm>
            <a:off x="457200" y="990360"/>
            <a:ext cx="82296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 Rolle der Wirtschaft und des Finanzmark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sich in der Öffentlichkeit und gegenüber der Politik deutlich für konsequenten Klimaschutz engagier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Klimarisiken- und Chancen für Geschäftsfelder identifizieren und Anpassungsstrategien entwickel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an der Erarbeitung von öffentlich-privaten Versicherungslösungen für die besonders durch den Klimawandel betroffenen Menschen in Entwicklungsländern mitwirken</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Rolle der Kommun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Informations- und Förderprogramme zu Klimaschutzmaßnahmen für die eigene Bevölkeru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öffentliche Beschaffung orientiert an Klimaschutz und entwicklungspolitischen Aspekten (z.B. Fairer Hand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a:t>
            </a:r>
            <a:r>
              <a:rPr b="0" lang="de-DE" sz="2000" spc="-1" strike="noStrike">
                <a:solidFill>
                  <a:srgbClr val="000000"/>
                </a:solidFill>
                <a:latin typeface="Arial"/>
                <a:ea typeface="Times New Roman"/>
              </a:rPr>
              <a:t>Kompensation“ von nicht-vermeidbaren Emissionen (z.B. Flugverkeh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152280" y="1219320"/>
            <a:ext cx="5838840" cy="5222880"/>
          </a:xfrm>
          <a:prstGeom prst="rect">
            <a:avLst/>
          </a:prstGeom>
          <a:ln w="0">
            <a:noFill/>
          </a:ln>
        </p:spPr>
      </p:pic>
      <p:sp>
        <p:nvSpPr>
          <p:cNvPr id="267" name=""/>
          <p:cNvSpPr/>
          <p:nvPr/>
        </p:nvSpPr>
        <p:spPr>
          <a:xfrm>
            <a:off x="482760" y="2286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Handlungsmöglichkeiten im Kontext von MDGs und Klimawandel (III)</a:t>
            </a:r>
            <a:endParaRPr b="0" lang="en-US" sz="1600" spc="-1" strike="noStrike">
              <a:solidFill>
                <a:srgbClr val="000000"/>
              </a:solidFill>
              <a:latin typeface="Times New Roman"/>
            </a:endParaRPr>
          </a:p>
        </p:txBody>
      </p:sp>
      <p:sp>
        <p:nvSpPr>
          <p:cNvPr id="268" name=""/>
          <p:cNvSpPr/>
          <p:nvPr/>
        </p:nvSpPr>
        <p:spPr>
          <a:xfrm>
            <a:off x="5181480" y="770040"/>
            <a:ext cx="3810240" cy="534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5. Rolle des Einzelnen:</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utschland heute: 10 t CO2 pro Person und Jahr</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Langfristig klimagerechtes Jahresbudget eines Erdenbürgers: 2 t CO2 pro Jahr</a:t>
            </a:r>
            <a:endParaRPr b="0" lang="en-US" sz="1800" spc="-1" strike="noStrike">
              <a:solidFill>
                <a:srgbClr val="000000"/>
              </a:solidFill>
              <a:latin typeface="Times New Roman"/>
            </a:endParaRPr>
          </a:p>
          <a:p>
            <a:pPr algn="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 </a:t>
            </a:r>
            <a:r>
              <a:rPr b="0" lang="de-DE" sz="1800" spc="-1" strike="noStrike">
                <a:solidFill>
                  <a:srgbClr val="000000"/>
                </a:solidFill>
                <a:latin typeface="Arial"/>
                <a:ea typeface="Times New Roman"/>
              </a:rPr>
              <a:t>grünen Strom beziehen</a:t>
            </a:r>
            <a:endParaRPr b="0" lang="en-US" sz="1800" spc="-1" strike="noStrike">
              <a:solidFill>
                <a:srgbClr val="000000"/>
              </a:solidFill>
              <a:latin typeface="Times New Roman"/>
            </a:endParaRPr>
          </a:p>
          <a:p>
            <a:pPr algn="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 </a:t>
            </a:r>
            <a:r>
              <a:rPr b="0" lang="de-DE" sz="1800" spc="-1" strike="noStrike">
                <a:solidFill>
                  <a:srgbClr val="000000"/>
                </a:solidFill>
                <a:latin typeface="Arial"/>
                <a:ea typeface="Times New Roman"/>
              </a:rPr>
              <a:t>beim Neukauf von Elektrogeräten besonders effiziente Modelle kaufen</a:t>
            </a:r>
            <a:endParaRPr b="0" lang="en-US" sz="1800" spc="-1" strike="noStrike">
              <a:solidFill>
                <a:srgbClr val="000000"/>
              </a:solidFill>
              <a:latin typeface="Times New Roman"/>
            </a:endParaRPr>
          </a:p>
          <a:p>
            <a:pPr algn="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 </a:t>
            </a:r>
            <a:r>
              <a:rPr b="0" lang="de-DE" sz="1800" spc="-1" strike="noStrike">
                <a:solidFill>
                  <a:srgbClr val="000000"/>
                </a:solidFill>
                <a:latin typeface="Arial"/>
                <a:ea typeface="Times New Roman"/>
              </a:rPr>
              <a:t>Flugreisen weitestgehend vermeiden oder kompensieren</a:t>
            </a:r>
            <a:endParaRPr b="0" lang="en-US" sz="1800" spc="-1" strike="noStrike">
              <a:solidFill>
                <a:srgbClr val="000000"/>
              </a:solidFill>
              <a:latin typeface="Times New Roman"/>
            </a:endParaRPr>
          </a:p>
          <a:p>
            <a:pPr algn="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 </a:t>
            </a:r>
            <a:r>
              <a:rPr b="0" lang="de-DE" sz="1800" spc="-1" strike="noStrike">
                <a:solidFill>
                  <a:srgbClr val="000000"/>
                </a:solidFill>
                <a:latin typeface="Arial"/>
                <a:ea typeface="Times New Roman"/>
              </a:rPr>
              <a:t>durch nachhaltige Geldanlagen Mikrokreditsysteme und Klimaschutztechnologien unterstützen</a:t>
            </a:r>
            <a:r>
              <a:rPr b="0"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269" name=""/>
          <p:cNvSpPr/>
          <p:nvPr/>
        </p:nvSpPr>
        <p:spPr>
          <a:xfrm>
            <a:off x="278640" y="6507000"/>
            <a:ext cx="790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Barthel 2006: </a:t>
            </a:r>
            <a:r>
              <a:rPr b="0" lang="de-DE" sz="1200" spc="-1" strike="noStrike">
                <a:solidFill>
                  <a:srgbClr val="000000"/>
                </a:solidFill>
                <a:latin typeface="Arial"/>
                <a:ea typeface="Times New Roman"/>
              </a:rPr>
              <a:t>Der „European Way of Life“ – Konsumenten können die CO2-Bilanz erheblich beeinflussen.</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270" name=""/>
          <p:cNvSpPr/>
          <p:nvPr/>
        </p:nvSpPr>
        <p:spPr>
          <a:xfrm>
            <a:off x="609480" y="5410080"/>
            <a:ext cx="52578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457200" y="22860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Weitere Informationen</a:t>
            </a:r>
            <a:endParaRPr b="0" lang="en-US" sz="2000" spc="-1" strike="noStrike">
              <a:solidFill>
                <a:srgbClr val="000000"/>
              </a:solidFill>
              <a:latin typeface="Times New Roman"/>
            </a:endParaRPr>
          </a:p>
        </p:txBody>
      </p:sp>
      <p:sp>
        <p:nvSpPr>
          <p:cNvPr id="272" name=""/>
          <p:cNvSpPr/>
          <p:nvPr/>
        </p:nvSpPr>
        <p:spPr>
          <a:xfrm>
            <a:off x="380880" y="1004760"/>
            <a:ext cx="8458200" cy="52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Foliensatz wurde erstellt von Germanwatch. Er basiert auf der Publikation „Die Millennium-Entwicklungsziele und der globale Klimawandel“, die bei Germanwatch bestellt werden kann. Eine Kurz- und eine Langfassung können heruntergeladen werden un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Times New Roman"/>
              </a:rPr>
              <a:t>www.germanwatch.org/klima/klimdg07.htm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toren: Jan Burck, Sven Harmel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takt: Sven Harmeling, Referent und NRW-Fachkoordinator für Klima und Entwicklu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rmeling@germanwatch.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l. +49 (0)228-60492-22</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t Unterstützung des Bundesministeriums für wirtschaftliche Zusammenarbeit und Entwicklung (BMZ).</a:t>
            </a:r>
            <a:endParaRPr b="0" lang="en-US" sz="2000" spc="-1" strike="noStrike">
              <a:solidFill>
                <a:srgbClr val="000000"/>
              </a:solidFill>
              <a:latin typeface="Times New Roman"/>
            </a:endParaRPr>
          </a:p>
        </p:txBody>
      </p:sp>
      <p:sp>
        <p:nvSpPr>
          <p:cNvPr id="273" name=""/>
          <p:cNvSpPr/>
          <p:nvPr/>
        </p:nvSpPr>
        <p:spPr>
          <a:xfrm>
            <a:off x="6172200" y="76212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4" name="GW-Logo-RGB-0300x111" descr=""/>
          <p:cNvPicPr/>
          <p:nvPr/>
        </p:nvPicPr>
        <p:blipFill>
          <a:blip r:embed="rId1"/>
          <a:stretch/>
        </p:blipFill>
        <p:spPr>
          <a:xfrm>
            <a:off x="6629400" y="2600280"/>
            <a:ext cx="2228760" cy="82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7200" y="22860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Weitere Informationen</a:t>
            </a:r>
            <a:endParaRPr b="0" lang="en-US" sz="2000" spc="-1" strike="noStrike">
              <a:solidFill>
                <a:srgbClr val="000000"/>
              </a:solidFill>
              <a:latin typeface="Times New Roman"/>
            </a:endParaRPr>
          </a:p>
        </p:txBody>
      </p:sp>
      <p:sp>
        <p:nvSpPr>
          <p:cNvPr id="276" name=""/>
          <p:cNvSpPr/>
          <p:nvPr/>
        </p:nvSpPr>
        <p:spPr>
          <a:xfrm>
            <a:off x="457200" y="1020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ie fanden diesen Foliensatz interessant und hilfreich?</a:t>
            </a:r>
            <a:endParaRPr b="0" lang="en-US" sz="4400" spc="-1" strike="noStrike">
              <a:solidFill>
                <a:srgbClr val="000000"/>
              </a:solidFill>
              <a:latin typeface="Times New Roman"/>
            </a:endParaRPr>
          </a:p>
        </p:txBody>
      </p:sp>
      <p:sp>
        <p:nvSpPr>
          <p:cNvPr id="277" name=""/>
          <p:cNvSpPr/>
          <p:nvPr/>
        </p:nvSpPr>
        <p:spPr>
          <a:xfrm>
            <a:off x="533520" y="2719440"/>
            <a:ext cx="8458200" cy="33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Wir haben ihn unentgeltlich zur Verfügung gestellt, sind jedoch für unsere weitere Arbeit auf Spenden und Mitgliedsbeiträge angewiese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Vielen Dank für Ihre Unterstützun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pendenkonto 32 123 00</a:t>
            </a:r>
            <a:br>
              <a:rPr sz="2200"/>
            </a:br>
            <a:r>
              <a:rPr b="0" lang="de-DE" sz="2200" spc="-1" strike="noStrike">
                <a:solidFill>
                  <a:srgbClr val="000000"/>
                </a:solidFill>
                <a:latin typeface="Arial"/>
              </a:rPr>
              <a:t>Bank für Sozialwirtschaft AG</a:t>
            </a:r>
            <a:br>
              <a:rPr sz="2200"/>
            </a:br>
            <a:r>
              <a:rPr b="0" lang="de-DE" sz="2200" spc="-1" strike="noStrike">
                <a:solidFill>
                  <a:srgbClr val="000000"/>
                </a:solidFill>
                <a:latin typeface="Arial"/>
              </a:rPr>
              <a:t>BLZ 100 205 00</a:t>
            </a:r>
            <a:endParaRPr b="0" lang="en-US" sz="2200" spc="-1" strike="noStrike">
              <a:solidFill>
                <a:srgbClr val="000000"/>
              </a:solidFill>
              <a:latin typeface="Times New Roman"/>
            </a:endParaRPr>
          </a:p>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fos zur Mitgliedschaft: www.germanwatch.or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Der globale Klimawandel – Realität, vom Menschen verursacht (I)</a:t>
            </a:r>
            <a:endParaRPr b="0" lang="en-US" sz="1600" spc="-1" strike="noStrike">
              <a:solidFill>
                <a:srgbClr val="000000"/>
              </a:solidFill>
              <a:latin typeface="Arial"/>
            </a:endParaRPr>
          </a:p>
        </p:txBody>
      </p:sp>
      <p:sp>
        <p:nvSpPr>
          <p:cNvPr id="65" name="PlaceHolder 2"/>
          <p:cNvSpPr>
            <a:spLocks noGrp="1"/>
          </p:cNvSpPr>
          <p:nvPr>
            <p:ph/>
          </p:nvPr>
        </p:nvSpPr>
        <p:spPr>
          <a:xfrm>
            <a:off x="609480" y="990360"/>
            <a:ext cx="7772400" cy="510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Indikatoren des Klimawandels (Auswahl):</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Anstieg der CO</a:t>
            </a:r>
            <a:r>
              <a:rPr b="0" lang="de-DE" sz="1800" spc="-1" strike="noStrike" baseline="-25000">
                <a:solidFill>
                  <a:srgbClr val="000000"/>
                </a:solidFill>
                <a:latin typeface="Arial"/>
                <a:ea typeface="Times New Roman"/>
              </a:rPr>
              <a:t>2</a:t>
            </a:r>
            <a:r>
              <a:rPr b="0" lang="de-DE" sz="1800" spc="-1" strike="noStrike">
                <a:solidFill>
                  <a:srgbClr val="000000"/>
                </a:solidFill>
                <a:latin typeface="Arial"/>
                <a:ea typeface="Times New Roman"/>
              </a:rPr>
              <a:t>-Konzentration in der Atmosphäre von 280 ppm (1860) auf ca. 385 ppm („Teile pro Million“) und der Methan-Konzentration von 0,71 ppm (1860) auf 1,77 ppm (2005), die höchsten Konzentrationen seit 650.000 Jahre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Erhöhung der globalen Oberflächentemperatur um 0,74°C in den letzten 100 Jahre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Anstieg des Meeresspiegels um 12-22 cm im letzten Jahrhunder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weltweiter Rückgang der Berggletscher;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Elf der letzten zwölf Jahre (1995-2006) gehören zu den zwölf wärmsten Jahren seit Beginn der Temperaturaufzeichnung, mit 2005 als dem wärmsten Jahr.</a:t>
            </a:r>
            <a:r>
              <a:rPr b="0" lang="de-DE" sz="1800" spc="-1" strike="noStrike">
                <a:solidFill>
                  <a:srgbClr val="000000"/>
                </a:solidFill>
                <a:latin typeface="Arial"/>
              </a:rPr>
              <a:t> </a:t>
            </a:r>
            <a:br>
              <a:rPr sz="1800"/>
            </a:b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6" name=""/>
          <p:cNvSpPr/>
          <p:nvPr/>
        </p:nvSpPr>
        <p:spPr>
          <a:xfrm>
            <a:off x="533520" y="6049800"/>
            <a:ext cx="701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IPCC (2007): Climate Change 2007: The Physical Science Basis. www.ipcc.ch</a:t>
            </a:r>
            <a:endParaRPr b="0" lang="en-US" sz="1200" spc="-1" strike="noStrike">
              <a:solidFill>
                <a:srgbClr val="000000"/>
              </a:solidFill>
              <a:latin typeface="Times New Roman"/>
            </a:endParaRPr>
          </a:p>
        </p:txBody>
      </p:sp>
      <p:sp>
        <p:nvSpPr>
          <p:cNvPr id="67" name=""/>
          <p:cNvSpPr/>
          <p:nvPr/>
        </p:nvSpPr>
        <p:spPr>
          <a:xfrm>
            <a:off x="380880" y="472428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zit des IPCC: Der größte Teil des beobachteten Temperaturanstiegs seit Mitte des 20. Jhdts. ist sehr wahrscheinlich (Sicherheit&gt;90%) Folge des Anstiegs der menschgemachten Treibhausgaskonzentration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6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Der globale Klimawandel – Realität, vom Menschen verursacht (II)</a:t>
            </a:r>
            <a:endParaRPr b="0" lang="en-US" sz="1600" spc="-1" strike="noStrike">
              <a:solidFill>
                <a:srgbClr val="000000"/>
              </a:solidFill>
              <a:latin typeface="Arial"/>
            </a:endParaRPr>
          </a:p>
        </p:txBody>
      </p:sp>
      <p:grpSp>
        <p:nvGrpSpPr>
          <p:cNvPr id="69" name=""/>
          <p:cNvGrpSpPr/>
          <p:nvPr/>
        </p:nvGrpSpPr>
        <p:grpSpPr>
          <a:xfrm>
            <a:off x="151920" y="685800"/>
            <a:ext cx="8865000" cy="5686560"/>
            <a:chOff x="151920" y="685800"/>
            <a:chExt cx="8865000" cy="5686560"/>
          </a:xfrm>
        </p:grpSpPr>
        <p:sp>
          <p:nvSpPr>
            <p:cNvPr id="70" name=""/>
            <p:cNvSpPr/>
            <p:nvPr/>
          </p:nvSpPr>
          <p:spPr>
            <a:xfrm>
              <a:off x="711360" y="6095880"/>
              <a:ext cx="701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IPCC (2007): Climate Change 2007: The Physical Science Basis. www.ipcc.ch</a:t>
              </a:r>
              <a:endParaRPr b="0" lang="en-US" sz="1200" spc="-1" strike="noStrike">
                <a:solidFill>
                  <a:srgbClr val="000000"/>
                </a:solidFill>
                <a:latin typeface="Times New Roman"/>
              </a:endParaRPr>
            </a:p>
          </p:txBody>
        </p:sp>
        <p:pic>
          <p:nvPicPr>
            <p:cNvPr id="71" name="" descr=""/>
            <p:cNvPicPr/>
            <p:nvPr/>
          </p:nvPicPr>
          <p:blipFill>
            <a:blip r:embed="rId1"/>
            <a:stretch/>
          </p:blipFill>
          <p:spPr>
            <a:xfrm>
              <a:off x="1015920" y="838080"/>
              <a:ext cx="5338800" cy="5272200"/>
            </a:xfrm>
            <a:prstGeom prst="rect">
              <a:avLst/>
            </a:prstGeom>
            <a:ln w="0">
              <a:noFill/>
            </a:ln>
          </p:spPr>
        </p:pic>
        <p:sp>
          <p:nvSpPr>
            <p:cNvPr id="72" name=""/>
            <p:cNvSpPr/>
            <p:nvPr/>
          </p:nvSpPr>
          <p:spPr>
            <a:xfrm>
              <a:off x="151920" y="4930560"/>
              <a:ext cx="953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ürlich</a:t>
              </a:r>
              <a:endParaRPr b="0" lang="en-US" sz="1400" spc="-1" strike="noStrike">
                <a:solidFill>
                  <a:srgbClr val="000000"/>
                </a:solidFill>
                <a:latin typeface="Times New Roman"/>
              </a:endParaRPr>
            </a:p>
          </p:txBody>
        </p:sp>
        <p:sp>
          <p:nvSpPr>
            <p:cNvPr id="73" name=""/>
            <p:cNvSpPr/>
            <p:nvPr/>
          </p:nvSpPr>
          <p:spPr>
            <a:xfrm rot="16200000">
              <a:off x="-728280" y="2596320"/>
              <a:ext cx="2446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om Menschen verursacht</a:t>
              </a:r>
              <a:endParaRPr b="0" lang="en-US" sz="1400" spc="-1" strike="noStrike">
                <a:solidFill>
                  <a:srgbClr val="000000"/>
                </a:solidFill>
                <a:latin typeface="Times New Roman"/>
              </a:endParaRPr>
            </a:p>
          </p:txBody>
        </p:sp>
        <p:sp>
          <p:nvSpPr>
            <p:cNvPr id="74" name=""/>
            <p:cNvSpPr/>
            <p:nvPr/>
          </p:nvSpPr>
          <p:spPr>
            <a:xfrm>
              <a:off x="1320840" y="1295280"/>
              <a:ext cx="12193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nglebige Treibhausgase</a:t>
              </a:r>
              <a:endParaRPr b="0" lang="en-US" sz="1200" spc="-1" strike="noStrike">
                <a:solidFill>
                  <a:srgbClr val="000000"/>
                </a:solidFill>
                <a:latin typeface="Times New Roman"/>
              </a:endParaRPr>
            </a:p>
          </p:txBody>
        </p:sp>
        <p:sp>
          <p:nvSpPr>
            <p:cNvPr id="75" name=""/>
            <p:cNvSpPr/>
            <p:nvPr/>
          </p:nvSpPr>
          <p:spPr>
            <a:xfrm>
              <a:off x="2006640" y="208728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zon</a:t>
              </a:r>
              <a:endParaRPr b="0" lang="en-US" sz="1200" spc="-1" strike="noStrike">
                <a:solidFill>
                  <a:srgbClr val="000000"/>
                </a:solidFill>
                <a:latin typeface="Times New Roman"/>
              </a:endParaRPr>
            </a:p>
          </p:txBody>
        </p:sp>
        <p:sp>
          <p:nvSpPr>
            <p:cNvPr id="76" name=""/>
            <p:cNvSpPr/>
            <p:nvPr/>
          </p:nvSpPr>
          <p:spPr>
            <a:xfrm>
              <a:off x="1244520" y="2408040"/>
              <a:ext cx="14479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ratosphärischer Wasserdampf aus CH4</a:t>
              </a:r>
              <a:endParaRPr b="0" lang="en-US" sz="1200" spc="-1" strike="noStrike">
                <a:solidFill>
                  <a:srgbClr val="000000"/>
                </a:solidFill>
                <a:latin typeface="Times New Roman"/>
              </a:endParaRPr>
            </a:p>
          </p:txBody>
        </p:sp>
        <p:sp>
          <p:nvSpPr>
            <p:cNvPr id="77" name=""/>
            <p:cNvSpPr/>
            <p:nvPr/>
          </p:nvSpPr>
          <p:spPr>
            <a:xfrm>
              <a:off x="1168560" y="3124080"/>
              <a:ext cx="15238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berflächenalbedo</a:t>
              </a:r>
              <a:endParaRPr b="0" lang="en-US" sz="1200" spc="-1" strike="noStrike">
                <a:solidFill>
                  <a:srgbClr val="000000"/>
                </a:solidFill>
                <a:latin typeface="Times New Roman"/>
              </a:endParaRPr>
            </a:p>
          </p:txBody>
        </p:sp>
        <p:sp>
          <p:nvSpPr>
            <p:cNvPr id="78" name=""/>
            <p:cNvSpPr/>
            <p:nvPr/>
          </p:nvSpPr>
          <p:spPr>
            <a:xfrm>
              <a:off x="939960" y="3733560"/>
              <a:ext cx="838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erosole gesamt</a:t>
              </a:r>
              <a:endParaRPr b="0" lang="en-US" sz="1200" spc="-1" strike="noStrike">
                <a:solidFill>
                  <a:srgbClr val="000000"/>
                </a:solidFill>
                <a:latin typeface="Times New Roman"/>
              </a:endParaRPr>
            </a:p>
          </p:txBody>
        </p:sp>
        <p:sp>
          <p:nvSpPr>
            <p:cNvPr id="79" name=""/>
            <p:cNvSpPr/>
            <p:nvPr/>
          </p:nvSpPr>
          <p:spPr>
            <a:xfrm>
              <a:off x="1168560" y="4952880"/>
              <a:ext cx="14475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nnenstrahlung</a:t>
              </a:r>
              <a:endParaRPr b="0" lang="en-US" sz="1200" spc="-1" strike="noStrike">
                <a:solidFill>
                  <a:srgbClr val="000000"/>
                </a:solidFill>
                <a:latin typeface="Times New Roman"/>
              </a:endParaRPr>
            </a:p>
          </p:txBody>
        </p:sp>
        <p:sp>
          <p:nvSpPr>
            <p:cNvPr id="80" name=""/>
            <p:cNvSpPr/>
            <p:nvPr/>
          </p:nvSpPr>
          <p:spPr>
            <a:xfrm>
              <a:off x="1168560" y="5410080"/>
              <a:ext cx="14475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ttobeitrag des Menschen</a:t>
              </a:r>
              <a:endParaRPr b="0" lang="en-US" sz="1200" spc="-1" strike="noStrike">
                <a:solidFill>
                  <a:srgbClr val="000000"/>
                </a:solidFill>
                <a:latin typeface="Times New Roman"/>
              </a:endParaRPr>
            </a:p>
          </p:txBody>
        </p:sp>
        <p:sp>
          <p:nvSpPr>
            <p:cNvPr id="81" name=""/>
            <p:cNvSpPr/>
            <p:nvPr/>
          </p:nvSpPr>
          <p:spPr>
            <a:xfrm>
              <a:off x="1930320" y="3429000"/>
              <a:ext cx="7621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rekter Effekt</a:t>
              </a:r>
              <a:endParaRPr b="0" lang="en-US" sz="1200" spc="-1" strike="noStrike">
                <a:solidFill>
                  <a:srgbClr val="000000"/>
                </a:solidFill>
                <a:latin typeface="Times New Roman"/>
              </a:endParaRPr>
            </a:p>
          </p:txBody>
        </p:sp>
        <p:sp>
          <p:nvSpPr>
            <p:cNvPr id="82" name=""/>
            <p:cNvSpPr/>
            <p:nvPr/>
          </p:nvSpPr>
          <p:spPr>
            <a:xfrm>
              <a:off x="1930320" y="3886200"/>
              <a:ext cx="990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lkenal-bedo-Effekt</a:t>
              </a:r>
              <a:endParaRPr b="0" lang="en-US" sz="1200" spc="-1" strike="noStrike">
                <a:solidFill>
                  <a:srgbClr val="000000"/>
                </a:solidFill>
                <a:latin typeface="Times New Roman"/>
              </a:endParaRPr>
            </a:p>
          </p:txBody>
        </p:sp>
        <p:sp>
          <p:nvSpPr>
            <p:cNvPr id="83" name=""/>
            <p:cNvSpPr/>
            <p:nvPr/>
          </p:nvSpPr>
          <p:spPr>
            <a:xfrm>
              <a:off x="1015920" y="4647960"/>
              <a:ext cx="2286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015920" y="2286000"/>
              <a:ext cx="2286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4720" y="2971800"/>
              <a:ext cx="10670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ndnutzung</a:t>
              </a:r>
              <a:endParaRPr b="0" lang="en-US" sz="1200" spc="-1" strike="noStrike">
                <a:solidFill>
                  <a:srgbClr val="000000"/>
                </a:solidFill>
                <a:latin typeface="Times New Roman"/>
              </a:endParaRPr>
            </a:p>
          </p:txBody>
        </p:sp>
        <p:sp>
          <p:nvSpPr>
            <p:cNvPr id="86" name=""/>
            <p:cNvSpPr/>
            <p:nvPr/>
          </p:nvSpPr>
          <p:spPr>
            <a:xfrm>
              <a:off x="2768760" y="2133360"/>
              <a:ext cx="1295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ratosphärisch</a:t>
              </a:r>
              <a:endParaRPr b="0" lang="en-US" sz="1200" spc="-1" strike="noStrike">
                <a:solidFill>
                  <a:srgbClr val="000000"/>
                </a:solidFill>
                <a:latin typeface="Times New Roman"/>
              </a:endParaRPr>
            </a:p>
          </p:txBody>
        </p:sp>
        <p:sp>
          <p:nvSpPr>
            <p:cNvPr id="87" name=""/>
            <p:cNvSpPr/>
            <p:nvPr/>
          </p:nvSpPr>
          <p:spPr>
            <a:xfrm>
              <a:off x="4902120" y="2133360"/>
              <a:ext cx="1295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oposphärisch</a:t>
              </a:r>
              <a:endParaRPr b="0" lang="en-US" sz="1200" spc="-1" strike="noStrike">
                <a:solidFill>
                  <a:srgbClr val="000000"/>
                </a:solidFill>
                <a:latin typeface="Times New Roman"/>
              </a:endParaRPr>
            </a:p>
          </p:txBody>
        </p:sp>
        <p:sp>
          <p:nvSpPr>
            <p:cNvPr id="88" name=""/>
            <p:cNvSpPr/>
            <p:nvPr/>
          </p:nvSpPr>
          <p:spPr>
            <a:xfrm>
              <a:off x="4521240" y="3047760"/>
              <a:ext cx="13716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hlestaub auf Schnee</a:t>
              </a:r>
              <a:endParaRPr b="0" lang="en-US" sz="1200" spc="-1" strike="noStrike">
                <a:solidFill>
                  <a:srgbClr val="000000"/>
                </a:solidFill>
                <a:latin typeface="Times New Roman"/>
              </a:endParaRPr>
            </a:p>
          </p:txBody>
        </p:sp>
        <p:sp>
          <p:nvSpPr>
            <p:cNvPr id="89" name=""/>
            <p:cNvSpPr/>
            <p:nvPr/>
          </p:nvSpPr>
          <p:spPr>
            <a:xfrm>
              <a:off x="5130720" y="1600200"/>
              <a:ext cx="1524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hlenwasserstoffe</a:t>
              </a:r>
              <a:endParaRPr b="0" lang="en-US" sz="1200" spc="-1" strike="noStrike">
                <a:solidFill>
                  <a:srgbClr val="000000"/>
                </a:solidFill>
                <a:latin typeface="Times New Roman"/>
              </a:endParaRPr>
            </a:p>
          </p:txBody>
        </p:sp>
        <p:sp>
          <p:nvSpPr>
            <p:cNvPr id="90" name=""/>
            <p:cNvSpPr/>
            <p:nvPr/>
          </p:nvSpPr>
          <p:spPr>
            <a:xfrm>
              <a:off x="1244520" y="4449600"/>
              <a:ext cx="1371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ndensstreifen</a:t>
              </a:r>
              <a:endParaRPr b="0" lang="en-US" sz="1200" spc="-1" strike="noStrike">
                <a:solidFill>
                  <a:srgbClr val="000000"/>
                </a:solidFill>
                <a:latin typeface="Times New Roman"/>
              </a:endParaRPr>
            </a:p>
          </p:txBody>
        </p:sp>
        <p:sp>
          <p:nvSpPr>
            <p:cNvPr id="91" name=""/>
            <p:cNvSpPr/>
            <p:nvPr/>
          </p:nvSpPr>
          <p:spPr>
            <a:xfrm>
              <a:off x="6730920" y="502920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rahlungsantrieb in Watt pro m</a:t>
              </a:r>
              <a:r>
                <a:rPr b="0" lang="de-DE" sz="1600" spc="-1" strike="noStrike" baseline="30000">
                  <a:solidFill>
                    <a:srgbClr val="000000"/>
                  </a:solidFill>
                  <a:latin typeface="Arial"/>
                </a:rPr>
                <a:t>2</a:t>
              </a:r>
              <a:endParaRPr b="0" lang="en-US" sz="1600" spc="-1" strike="noStrike">
                <a:solidFill>
                  <a:srgbClr val="000000"/>
                </a:solidFill>
                <a:latin typeface="Times New Roman"/>
              </a:endParaRPr>
            </a:p>
          </p:txBody>
        </p:sp>
        <p:sp>
          <p:nvSpPr>
            <p:cNvPr id="92" name=""/>
            <p:cNvSpPr/>
            <p:nvPr/>
          </p:nvSpPr>
          <p:spPr>
            <a:xfrm>
              <a:off x="4140360" y="685800"/>
              <a:ext cx="1752480" cy="990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987720" y="5029200"/>
              <a:ext cx="1752840" cy="990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5587920" y="3123720"/>
              <a:ext cx="1524240" cy="21337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816520" y="1371600"/>
              <a:ext cx="1295640" cy="175248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502320" y="2361960"/>
              <a:ext cx="2133720" cy="105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Anthropogenes CO</a:t>
              </a:r>
              <a:r>
                <a:rPr b="0" lang="de-DE" sz="2000" spc="-1" strike="noStrike" baseline="-25000">
                  <a:solidFill>
                    <a:srgbClr val="ff0000"/>
                  </a:solidFill>
                  <a:latin typeface="Arial"/>
                </a:rPr>
                <a:t>2</a:t>
              </a:r>
              <a:r>
                <a:rPr b="0" lang="de-DE" sz="2000" spc="-1" strike="noStrike">
                  <a:solidFill>
                    <a:srgbClr val="ff0000"/>
                  </a:solidFill>
                  <a:latin typeface="Arial"/>
                </a:rPr>
                <a:t> als Hauptfakto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520" y="2143080"/>
            <a:ext cx="289548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2. Verwirklichung der allgemeinen Primärschulbildung</a:t>
            </a:r>
            <a:endParaRPr b="0" lang="en-US" sz="1400" spc="-1" strike="noStrike">
              <a:solidFill>
                <a:srgbClr val="000000"/>
              </a:solidFill>
              <a:latin typeface="Times New Roman"/>
            </a:endParaRPr>
          </a:p>
        </p:txBody>
      </p:sp>
      <p:sp>
        <p:nvSpPr>
          <p:cNvPr id="98" name=""/>
          <p:cNvSpPr/>
          <p:nvPr/>
        </p:nvSpPr>
        <p:spPr>
          <a:xfrm>
            <a:off x="533520" y="828720"/>
            <a:ext cx="2895480" cy="459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DGs</a:t>
            </a:r>
            <a:endParaRPr b="0" lang="en-US" sz="2400" spc="-1" strike="noStrike">
              <a:solidFill>
                <a:srgbClr val="000000"/>
              </a:solidFill>
              <a:latin typeface="Times New Roman"/>
            </a:endParaRPr>
          </a:p>
        </p:txBody>
      </p:sp>
      <p:sp>
        <p:nvSpPr>
          <p:cNvPr id="99" name=""/>
          <p:cNvSpPr/>
          <p:nvPr/>
        </p:nvSpPr>
        <p:spPr>
          <a:xfrm>
            <a:off x="533520" y="2676600"/>
            <a:ext cx="2895480" cy="7333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3. Förderung der Gleichheit der Geschlechter und Stärkung der Rolle der Frauen</a:t>
            </a:r>
            <a:endParaRPr b="0" lang="en-US" sz="1400" spc="-1" strike="noStrike">
              <a:solidFill>
                <a:srgbClr val="000000"/>
              </a:solidFill>
              <a:latin typeface="Times New Roman"/>
            </a:endParaRPr>
          </a:p>
        </p:txBody>
      </p:sp>
      <p:sp>
        <p:nvSpPr>
          <p:cNvPr id="100" name=""/>
          <p:cNvSpPr/>
          <p:nvPr/>
        </p:nvSpPr>
        <p:spPr>
          <a:xfrm>
            <a:off x="533520" y="1600200"/>
            <a:ext cx="2895480" cy="52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1. Bekämpfung der extremen Armut und des Hungers</a:t>
            </a:r>
            <a:endParaRPr b="0" lang="en-US" sz="1400" spc="-1" strike="noStrike">
              <a:solidFill>
                <a:srgbClr val="000000"/>
              </a:solidFill>
              <a:latin typeface="Times New Roman"/>
            </a:endParaRPr>
          </a:p>
        </p:txBody>
      </p:sp>
      <p:sp>
        <p:nvSpPr>
          <p:cNvPr id="101" name=""/>
          <p:cNvSpPr/>
          <p:nvPr/>
        </p:nvSpPr>
        <p:spPr>
          <a:xfrm>
            <a:off x="533520" y="3438360"/>
            <a:ext cx="2895480" cy="15951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4. Senkung der Kindersterblichkei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5. Verbesserung der Gesundheit von Mütter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6. Bekämpfung von HIV/AIDS, Malaria und anderen Krankheiten</a:t>
            </a:r>
            <a:endParaRPr b="0" lang="en-US" sz="1400" spc="-1" strike="noStrike">
              <a:solidFill>
                <a:srgbClr val="000000"/>
              </a:solidFill>
              <a:latin typeface="Times New Roman"/>
            </a:endParaRPr>
          </a:p>
        </p:txBody>
      </p:sp>
      <p:sp>
        <p:nvSpPr>
          <p:cNvPr id="102" name=""/>
          <p:cNvSpPr/>
          <p:nvPr/>
        </p:nvSpPr>
        <p:spPr>
          <a:xfrm>
            <a:off x="533520" y="4809960"/>
            <a:ext cx="2895480" cy="520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7. Sicherung der ökologischen Nachhaltigkeit</a:t>
            </a:r>
            <a:endParaRPr b="0" lang="en-US" sz="1400" spc="-1" strike="noStrike">
              <a:solidFill>
                <a:srgbClr val="000000"/>
              </a:solidFill>
              <a:latin typeface="Times New Roman"/>
            </a:endParaRPr>
          </a:p>
        </p:txBody>
      </p:sp>
      <p:sp>
        <p:nvSpPr>
          <p:cNvPr id="103" name=""/>
          <p:cNvSpPr/>
          <p:nvPr/>
        </p:nvSpPr>
        <p:spPr>
          <a:xfrm>
            <a:off x="533520" y="5343480"/>
            <a:ext cx="2895480" cy="520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8. Aufbau einer weltweit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Entwicklungspartnerschaft</a:t>
            </a:r>
            <a:endParaRPr b="0" lang="en-US" sz="1400" spc="-1" strike="noStrike">
              <a:solidFill>
                <a:srgbClr val="000000"/>
              </a:solidFill>
              <a:latin typeface="Times New Roman"/>
            </a:endParaRPr>
          </a:p>
        </p:txBody>
      </p:sp>
      <p:sp>
        <p:nvSpPr>
          <p:cNvPr id="104" name=""/>
          <p:cNvSpPr/>
          <p:nvPr/>
        </p:nvSpPr>
        <p:spPr>
          <a:xfrm>
            <a:off x="3733920" y="1752480"/>
            <a:ext cx="533160" cy="0"/>
          </a:xfrm>
          <a:prstGeom prst="line">
            <a:avLst/>
          </a:prstGeom>
          <a:ln w="5724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733920" y="2362320"/>
            <a:ext cx="609480" cy="0"/>
          </a:xfrm>
          <a:prstGeom prst="line">
            <a:avLst/>
          </a:prstGeom>
          <a:ln w="5724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572000" y="2033640"/>
            <a:ext cx="426708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Verringerung der Möglichkeiten des Schulbesuch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infolge der Zerstörung wichtiger Infrastruktur (Schulgebäude etc.) durch Extremereignis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durch den Zwang zur Migration infolge von Konflikten um knapper werdende Ressourcen (Wasser, Nahrung etc.)</a:t>
            </a:r>
            <a:endParaRPr b="0" lang="en-US" sz="1200" spc="-1" strike="noStrike">
              <a:solidFill>
                <a:srgbClr val="000000"/>
              </a:solidFill>
              <a:latin typeface="Times New Roman"/>
            </a:endParaRPr>
          </a:p>
        </p:txBody>
      </p:sp>
      <p:sp>
        <p:nvSpPr>
          <p:cNvPr id="107" name=""/>
          <p:cNvSpPr/>
          <p:nvPr/>
        </p:nvSpPr>
        <p:spPr>
          <a:xfrm>
            <a:off x="4572000" y="3024360"/>
            <a:ext cx="4267080" cy="11890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70% der extrem Armen sind Frauen und diese damit auch besonders gefährdet durch den Klimawande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durch Klimawandel verschärfte Ressourcenknappheit (Wasser, Nahrung) führt zu höheren Belastungen für die für den Haushalt verantwortlichen Frauen</a:t>
            </a:r>
            <a:endParaRPr b="0" lang="en-US" sz="1200" spc="-1" strike="noStrike">
              <a:solidFill>
                <a:srgbClr val="000000"/>
              </a:solidFill>
              <a:latin typeface="Times New Roman"/>
            </a:endParaRPr>
          </a:p>
        </p:txBody>
      </p:sp>
      <p:sp>
        <p:nvSpPr>
          <p:cNvPr id="108" name=""/>
          <p:cNvSpPr/>
          <p:nvPr/>
        </p:nvSpPr>
        <p:spPr>
          <a:xfrm>
            <a:off x="4572000" y="1407960"/>
            <a:ext cx="4267080" cy="6415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Zerstörung von Ernten, Gefährdung des Wirtschaftswachstums, Verlust von Infrastruktur und Besitz durch extreme Wetterereignisse</a:t>
            </a:r>
            <a:endParaRPr b="0" lang="en-US" sz="1200" spc="-1" strike="noStrike">
              <a:solidFill>
                <a:srgbClr val="000000"/>
              </a:solidFill>
              <a:latin typeface="Times New Roman"/>
            </a:endParaRPr>
          </a:p>
        </p:txBody>
      </p:sp>
      <p:sp>
        <p:nvSpPr>
          <p:cNvPr id="109" name=""/>
          <p:cNvSpPr/>
          <p:nvPr/>
        </p:nvSpPr>
        <p:spPr>
          <a:xfrm>
            <a:off x="4572000" y="4044960"/>
            <a:ext cx="4267080" cy="824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Erhöhte Ausbreitung vektorbasierter und durch Wasser verbreiteter Krankheiten (z.B. Malari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bnehmende Verfügbarkeit von Trinkwasser, durch Trockenheit, Überschwemmungen</a:t>
            </a:r>
            <a:endParaRPr b="0" lang="en-US" sz="1200" spc="-1" strike="noStrike">
              <a:solidFill>
                <a:srgbClr val="000000"/>
              </a:solidFill>
              <a:latin typeface="Times New Roman"/>
            </a:endParaRPr>
          </a:p>
        </p:txBody>
      </p:sp>
      <p:sp>
        <p:nvSpPr>
          <p:cNvPr id="110" name=""/>
          <p:cNvSpPr/>
          <p:nvPr/>
        </p:nvSpPr>
        <p:spPr>
          <a:xfrm>
            <a:off x="4572000" y="4876920"/>
            <a:ext cx="4267080" cy="459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Gefährdung von Ökosystemen durch steigende Tempe-raturen; Niederschlagsrückgang und Wasserknappheit</a:t>
            </a:r>
            <a:endParaRPr b="0" lang="en-US" sz="1200" spc="-1" strike="noStrike">
              <a:solidFill>
                <a:srgbClr val="000000"/>
              </a:solidFill>
              <a:latin typeface="Times New Roman"/>
            </a:endParaRPr>
          </a:p>
        </p:txBody>
      </p:sp>
      <p:sp>
        <p:nvSpPr>
          <p:cNvPr id="111" name=""/>
          <p:cNvSpPr/>
          <p:nvPr/>
        </p:nvSpPr>
        <p:spPr>
          <a:xfrm>
            <a:off x="4572000" y="5334120"/>
            <a:ext cx="4267080" cy="8240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Grundgedanke der gemeinsamen Verantwortung und Solidarität Schlüsselaspekt der internationalen Klimapolitik</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Finanzierungsunterstützung von Anpassungsmaßnahmen durch Industrieländer im Sinne des Verursacherprinzips</a:t>
            </a:r>
            <a:endParaRPr b="0" lang="en-US" sz="1200" spc="-1" strike="noStrike">
              <a:solidFill>
                <a:srgbClr val="000000"/>
              </a:solidFill>
              <a:latin typeface="Times New Roman"/>
            </a:endParaRPr>
          </a:p>
        </p:txBody>
      </p:sp>
      <p:sp>
        <p:nvSpPr>
          <p:cNvPr id="112" name=""/>
          <p:cNvSpPr/>
          <p:nvPr/>
        </p:nvSpPr>
        <p:spPr>
          <a:xfrm>
            <a:off x="3733920" y="3200400"/>
            <a:ext cx="609480" cy="0"/>
          </a:xfrm>
          <a:prstGeom prst="line">
            <a:avLst/>
          </a:prstGeom>
          <a:ln w="5724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733920" y="4343400"/>
            <a:ext cx="609480" cy="0"/>
          </a:xfrm>
          <a:prstGeom prst="line">
            <a:avLst/>
          </a:prstGeom>
          <a:ln w="5724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733920" y="5105520"/>
            <a:ext cx="609480" cy="0"/>
          </a:xfrm>
          <a:prstGeom prst="line">
            <a:avLst/>
          </a:prstGeom>
          <a:ln w="5724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733920" y="5715000"/>
            <a:ext cx="609480" cy="0"/>
          </a:xfrm>
          <a:prstGeom prst="line">
            <a:avLst/>
          </a:prstGeom>
          <a:ln w="5724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505320" y="828720"/>
            <a:ext cx="5333760" cy="398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wirkungen des Klimawandels (Beispiele) </a:t>
            </a:r>
            <a:endParaRPr b="0" lang="en-US" sz="2000" spc="-1" strike="noStrike">
              <a:solidFill>
                <a:srgbClr val="000000"/>
              </a:solidFill>
              <a:latin typeface="Times New Roman"/>
            </a:endParaRPr>
          </a:p>
        </p:txBody>
      </p:sp>
      <p:sp>
        <p:nvSpPr>
          <p:cNvPr id="117" name=""/>
          <p:cNvSpPr/>
          <p:nvPr/>
        </p:nvSpPr>
        <p:spPr>
          <a:xfrm>
            <a:off x="457200" y="266760"/>
            <a:ext cx="77724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uswirkungen des Klimawandels auf die MD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Extreme Wetterereignisse und die MDGs</a:t>
            </a:r>
            <a:endParaRPr b="0" lang="en-US" sz="1600" spc="-1" strike="noStrike">
              <a:solidFill>
                <a:srgbClr val="000000"/>
              </a:solidFill>
              <a:latin typeface="Arial"/>
            </a:endParaRPr>
          </a:p>
        </p:txBody>
      </p:sp>
      <p:sp>
        <p:nvSpPr>
          <p:cNvPr id="119" name="PlaceHolder 2"/>
          <p:cNvSpPr>
            <a:spLocks noGrp="1"/>
          </p:cNvSpPr>
          <p:nvPr>
            <p:ph/>
          </p:nvPr>
        </p:nvSpPr>
        <p:spPr>
          <a:xfrm>
            <a:off x="380880" y="990720"/>
            <a:ext cx="7925040" cy="441936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Times New Roman"/>
              </a:rPr>
              <a:t>Beispiele für Auswirkungen von extremen Wetterereignissen (Stürme, Überschwemmungen, Dürren) auf die MDG-Bereiche:</a:t>
            </a:r>
            <a:endParaRPr b="0" lang="en-US" sz="20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ea typeface="Times New Roman"/>
              </a:rPr>
              <a:t>Wetterextreme können enorme wirtschaftliche Schäden verursachen: </a:t>
            </a:r>
            <a:r>
              <a:rPr b="0" lang="de-DE" sz="1800" spc="-1" strike="noStrike">
                <a:solidFill>
                  <a:srgbClr val="000000"/>
                </a:solidFill>
                <a:latin typeface="Arial"/>
                <a:ea typeface="Times New Roman"/>
              </a:rPr>
              <a:t>Im Jahr 2004 auf den Seychellen oder in Somalia mehr als das Doppelte der jährlichen Wirtschaftsleistung. </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ea typeface="Times New Roman"/>
              </a:rPr>
              <a:t>Wetterextreme gefährden Menschenleben:</a:t>
            </a:r>
            <a:r>
              <a:rPr b="0" lang="de-DE" sz="1800" spc="-1" strike="noStrike">
                <a:solidFill>
                  <a:srgbClr val="000000"/>
                </a:solidFill>
                <a:latin typeface="Arial"/>
                <a:ea typeface="Times New Roman"/>
              </a:rPr>
              <a:t> Durch Stürme und Überschwemmungen starben 2004 mehr als 3000 Menschen auf Haiti. </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ea typeface="Times New Roman"/>
              </a:rPr>
              <a:t>Überschwemmungen befördern Krankheiten:</a:t>
            </a:r>
            <a:r>
              <a:rPr b="0" lang="de-DE" sz="1800" spc="-1" strike="noStrike">
                <a:solidFill>
                  <a:srgbClr val="000000"/>
                </a:solidFill>
                <a:latin typeface="Arial"/>
                <a:ea typeface="Times New Roman"/>
              </a:rPr>
              <a:t> Überflutungen durch Hurrikan Mitch führten 1999 zu einem sechsfachen Anstieg der Cholera-Fäll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Mehr als 103.000 ha </a:t>
            </a:r>
            <a:r>
              <a:rPr b="0" i="1" lang="de-DE" sz="1800" spc="-1" strike="noStrike">
                <a:solidFill>
                  <a:srgbClr val="000000"/>
                </a:solidFill>
                <a:latin typeface="Arial"/>
                <a:ea typeface="Times New Roman"/>
              </a:rPr>
              <a:t>landwirtschaftlicher Nutzfläche</a:t>
            </a:r>
            <a:r>
              <a:rPr b="0" lang="de-DE" sz="1800" spc="-1" strike="noStrike">
                <a:solidFill>
                  <a:srgbClr val="000000"/>
                </a:solidFill>
                <a:latin typeface="Arial"/>
                <a:ea typeface="Times New Roman"/>
              </a:rPr>
              <a:t> wurden in Bolivien im Frühjahr 2006 infolge von Überschwemmungen beschädigt: 64.000 ha Mais, Soja, Sorghum und Reis; 30.000 ha Weideland; 3.000 ha anderer Nutzpflanze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80880" y="5410080"/>
            <a:ext cx="8229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Der Klimawandel erhöht tendenziell die Eintrittswahrscheinlichkeit und di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Intensität von extremen Wetterereignissen wie Stürmen oder Überschwemmung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39528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Umkipp-Punkte („Tipping Points“): Großrisiken für Mensch und Natur</a:t>
            </a:r>
            <a:r>
              <a:rPr b="0"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122" name=""/>
          <p:cNvSpPr/>
          <p:nvPr/>
        </p:nvSpPr>
        <p:spPr>
          <a:xfrm>
            <a:off x="228600" y="643104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verändert nach Schellnhuber/Jäger 2006: </a:t>
            </a:r>
            <a:r>
              <a:rPr b="0" lang="de-DE" sz="1200" spc="-1" strike="noStrike">
                <a:solidFill>
                  <a:srgbClr val="000000"/>
                </a:solidFill>
                <a:latin typeface="Arial"/>
                <a:ea typeface="Times New Roman"/>
              </a:rPr>
              <a:t>Gefährlichen Klimawandel abwenden.</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pic>
        <p:nvPicPr>
          <p:cNvPr id="123" name="" descr=""/>
          <p:cNvPicPr/>
          <p:nvPr/>
        </p:nvPicPr>
        <p:blipFill>
          <a:blip r:embed="rId1"/>
          <a:stretch/>
        </p:blipFill>
        <p:spPr>
          <a:xfrm>
            <a:off x="762120" y="838080"/>
            <a:ext cx="7315200" cy="523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380880"/>
            <a:ext cx="8458200" cy="76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Erwartete Auswirkungen des Klimawandel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nach dem neuen IPCC-Bericht (I)</a:t>
            </a:r>
            <a:r>
              <a:rPr b="0" lang="de-DE" sz="2000" spc="-1" strike="noStrike">
                <a:solidFill>
                  <a:srgbClr val="000000"/>
                </a:solidFill>
                <a:latin typeface="Arial"/>
              </a:rPr>
              <a:t> </a:t>
            </a:r>
            <a:endParaRPr b="0" lang="en-US" sz="2000" spc="-1" strike="noStrike">
              <a:solidFill>
                <a:srgbClr val="000000"/>
              </a:solidFill>
              <a:latin typeface="Times New Roman"/>
            </a:endParaRPr>
          </a:p>
        </p:txBody>
      </p:sp>
      <p:sp>
        <p:nvSpPr>
          <p:cNvPr id="125" name=""/>
          <p:cNvSpPr/>
          <p:nvPr/>
        </p:nvSpPr>
        <p:spPr>
          <a:xfrm>
            <a:off x="5181480" y="1523880"/>
            <a:ext cx="3581640" cy="158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Erhöhte Versalzung und Wüstenbildung in Trockengebieten durch steigende Temperaturen</a:t>
            </a:r>
            <a:endParaRPr b="0" lang="en-US" sz="1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die Produktivität wichtiger Anbaupflanzen wird wahrscheinlich zurückgehen, mit negativen Folgen für die Ernährungssicherheit</a:t>
            </a:r>
            <a:endParaRPr b="0" lang="en-US" sz="1400" spc="-1" strike="noStrike">
              <a:solidFill>
                <a:srgbClr val="000000"/>
              </a:solidFill>
              <a:latin typeface="Times New Roman"/>
            </a:endParaRPr>
          </a:p>
        </p:txBody>
      </p:sp>
      <p:sp>
        <p:nvSpPr>
          <p:cNvPr id="126" name=""/>
          <p:cNvSpPr/>
          <p:nvPr/>
        </p:nvSpPr>
        <p:spPr>
          <a:xfrm>
            <a:off x="5181480" y="3124080"/>
            <a:ext cx="3581640" cy="2225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Verlust tropischer Regenwälder im östlichen Amazonien bis zur Mitte des Jahrhunderts, die zu Savannen werden</a:t>
            </a:r>
            <a:endParaRPr b="0" lang="en-US" sz="1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Das Aussterben zahlreicher Tier- und Pflanzenarten ist wahrscheinlich. </a:t>
            </a:r>
            <a:endParaRPr b="0" lang="en-US" sz="1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Veränderungen der Niederschläge und Gletscherschmelze werden die Wasserverfügbarkeit für den menschlichen Bedarf, Landwirtschaft und Energieversorgung drastisch beeinflussen</a:t>
            </a:r>
            <a:endParaRPr b="0" lang="en-US" sz="1400" spc="-1" strike="noStrike">
              <a:solidFill>
                <a:srgbClr val="000000"/>
              </a:solidFill>
              <a:latin typeface="Times New Roman"/>
            </a:endParaRPr>
          </a:p>
        </p:txBody>
      </p:sp>
      <p:sp>
        <p:nvSpPr>
          <p:cNvPr id="127" name=""/>
          <p:cNvSpPr/>
          <p:nvPr/>
        </p:nvSpPr>
        <p:spPr>
          <a:xfrm>
            <a:off x="5181480" y="1219320"/>
            <a:ext cx="1676520" cy="307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LATEINAMERIKA</a:t>
            </a:r>
            <a:endParaRPr b="0" lang="en-US" sz="1400" spc="-1" strike="noStrike">
              <a:solidFill>
                <a:srgbClr val="000000"/>
              </a:solidFill>
              <a:latin typeface="Times New Roman"/>
            </a:endParaRPr>
          </a:p>
        </p:txBody>
      </p:sp>
      <p:sp>
        <p:nvSpPr>
          <p:cNvPr id="128" name=""/>
          <p:cNvSpPr/>
          <p:nvPr/>
        </p:nvSpPr>
        <p:spPr>
          <a:xfrm>
            <a:off x="304920" y="1558800"/>
            <a:ext cx="4647960" cy="499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insbesondere die Gesellschaften, Siedlungen und Industrien in flachen Küsten- und Flussbereichen sind verletzlich gegenüber den Folgen des Klimawande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kleine Inselstaaten sind durch den Meeresspiegelanstieg langfristig in ihrer Existenz bedroh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Arme Gemeinschaften sind besonders gefährdet, vor allem in den Hochrisikogebieten des Klimawande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viele Millionen Menschen mehr als heute werden in den 2080ern durch Überflutungen (Meeresspiegelanstieg, Stürme) betroffen sei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Rückgang der Wasserverfügbarkeit um 10-30% in den trockenen Trope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Starke Niederschlagsereignisse werden wahrscheinlich zunehmen und das Überschwemmungsrisiko erhöhe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Von Dürre bedrohte Flächen werden sich wahrscheinlich ausbreite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20-30% aller erfassten Arten sehen sich einem erhöhten Aussterberisiko gegenüber, wenn die Temperaturen um mehr als 1,5-2,5° C ansteige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Rückgang der Gletscher in Hochgebirgen verringert die Wasserverfügbarkeit in vielen Regionen</a:t>
            </a:r>
            <a:endParaRPr b="0" lang="en-US" sz="1400" spc="-1" strike="noStrike">
              <a:solidFill>
                <a:srgbClr val="000000"/>
              </a:solidFill>
              <a:latin typeface="Times New Roman"/>
            </a:endParaRPr>
          </a:p>
        </p:txBody>
      </p:sp>
      <p:sp>
        <p:nvSpPr>
          <p:cNvPr id="129" name=""/>
          <p:cNvSpPr/>
          <p:nvPr/>
        </p:nvSpPr>
        <p:spPr>
          <a:xfrm>
            <a:off x="304920" y="1219320"/>
            <a:ext cx="3809880" cy="307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AUSWIRKUNGEN AUF GLOBALER EBENE</a:t>
            </a:r>
            <a:endParaRPr b="0" lang="en-US" sz="1400" spc="-1" strike="noStrike">
              <a:solidFill>
                <a:srgbClr val="000000"/>
              </a:solidFill>
              <a:latin typeface="Times New Roman"/>
            </a:endParaRPr>
          </a:p>
        </p:txBody>
      </p:sp>
      <p:sp>
        <p:nvSpPr>
          <p:cNvPr id="130" name=""/>
          <p:cNvSpPr/>
          <p:nvPr/>
        </p:nvSpPr>
        <p:spPr>
          <a:xfrm>
            <a:off x="5181480" y="5486400"/>
            <a:ext cx="3733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IPCC (2007): Climate Change 2007: Climate Change Impacts, Adaptation and Vulnerability. Summary for Policymakers. www.ipcc.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04920" y="623880"/>
            <a:ext cx="876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Erwartete Auswirkungen des Klimawandels nach dem neuen IPCC-Bericht</a:t>
            </a:r>
            <a:r>
              <a:rPr b="0" lang="de-DE" sz="1800" spc="-1" strike="noStrike">
                <a:solidFill>
                  <a:srgbClr val="000000"/>
                </a:solidFill>
                <a:latin typeface="Arial"/>
              </a:rPr>
              <a:t> (II)</a:t>
            </a:r>
            <a:endParaRPr b="0" lang="en-US" sz="1800" spc="-1" strike="noStrike">
              <a:solidFill>
                <a:srgbClr val="000000"/>
              </a:solidFill>
              <a:latin typeface="Times New Roman"/>
            </a:endParaRPr>
          </a:p>
        </p:txBody>
      </p:sp>
      <p:sp>
        <p:nvSpPr>
          <p:cNvPr id="132" name=""/>
          <p:cNvSpPr/>
          <p:nvPr/>
        </p:nvSpPr>
        <p:spPr>
          <a:xfrm>
            <a:off x="380880" y="1309680"/>
            <a:ext cx="3886200" cy="158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Verringerung der landwirtschaftlich nutzbaren Fläche</a:t>
            </a:r>
            <a:endParaRPr b="0" lang="en-US" sz="1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Rückgang der auf Regen basierenden Erträge um bis zu 50% bis 2020 in manchen Regionen</a:t>
            </a:r>
            <a:endParaRPr b="0" lang="en-US" sz="1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Abnehmende Fischvorkommen in großen Seen durch steigende Temperaturen</a:t>
            </a:r>
            <a:endParaRPr b="0" lang="en-US" sz="1400" spc="-1" strike="noStrike">
              <a:solidFill>
                <a:srgbClr val="000000"/>
              </a:solidFill>
              <a:latin typeface="Times New Roman"/>
            </a:endParaRPr>
          </a:p>
        </p:txBody>
      </p:sp>
      <p:sp>
        <p:nvSpPr>
          <p:cNvPr id="133" name=""/>
          <p:cNvSpPr/>
          <p:nvPr/>
        </p:nvSpPr>
        <p:spPr>
          <a:xfrm>
            <a:off x="380880" y="3672000"/>
            <a:ext cx="3886200" cy="15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bis 2020 könnten 75 bis 250 Millionen Menschen allein durch den Klimawandel unter Trinkwassermangel leiden</a:t>
            </a:r>
            <a:endParaRPr b="0" lang="en-US" sz="1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Zerstörung von Mangrovengürteln und Korallenriffen wird sowohl für die Fischerei als auch für den Fremdenverkehr negative Folgen haben</a:t>
            </a:r>
            <a:endParaRPr b="0" lang="en-US" sz="1400" spc="-1" strike="noStrike">
              <a:solidFill>
                <a:srgbClr val="000000"/>
              </a:solidFill>
              <a:latin typeface="Times New Roman"/>
            </a:endParaRPr>
          </a:p>
        </p:txBody>
      </p:sp>
      <p:sp>
        <p:nvSpPr>
          <p:cNvPr id="134" name=""/>
          <p:cNvSpPr/>
          <p:nvPr/>
        </p:nvSpPr>
        <p:spPr>
          <a:xfrm>
            <a:off x="380880" y="1004760"/>
            <a:ext cx="914400" cy="307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AFRIKA</a:t>
            </a:r>
            <a:endParaRPr b="0" lang="en-US" sz="1400" spc="-1" strike="noStrike">
              <a:solidFill>
                <a:srgbClr val="000000"/>
              </a:solidFill>
              <a:latin typeface="Times New Roman"/>
            </a:endParaRPr>
          </a:p>
        </p:txBody>
      </p:sp>
      <p:sp>
        <p:nvSpPr>
          <p:cNvPr id="135" name=""/>
          <p:cNvSpPr/>
          <p:nvPr/>
        </p:nvSpPr>
        <p:spPr>
          <a:xfrm>
            <a:off x="5029200" y="1309680"/>
            <a:ext cx="3581280" cy="946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möglicher Anstieg der Erträge um 20% in Ost- und Südostasien und Rückgang um 30% in Zentral- und Südasien bis zur Mitte des 21. Jahrhunderts</a:t>
            </a:r>
            <a:endParaRPr b="0" lang="en-US" sz="1400" spc="-1" strike="noStrike">
              <a:solidFill>
                <a:srgbClr val="000000"/>
              </a:solidFill>
              <a:latin typeface="Times New Roman"/>
            </a:endParaRPr>
          </a:p>
        </p:txBody>
      </p:sp>
      <p:sp>
        <p:nvSpPr>
          <p:cNvPr id="136" name=""/>
          <p:cNvSpPr/>
          <p:nvPr/>
        </p:nvSpPr>
        <p:spPr>
          <a:xfrm>
            <a:off x="5029200" y="3548160"/>
            <a:ext cx="3581280" cy="15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Gletscherschmelze im Himalaya-Gebiet führt zu Überschwemmungen und Bergstürzen</a:t>
            </a:r>
            <a:endParaRPr b="0" lang="en-US" sz="1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Bis 2050 könnten mehr als eine Milliarde Menschen in den großen Flussdeltas Probleme mit der Süßwasserversorgung bekommen</a:t>
            </a:r>
            <a:endParaRPr b="0" lang="en-US" sz="1400" spc="-1" strike="noStrike">
              <a:solidFill>
                <a:srgbClr val="000000"/>
              </a:solidFill>
              <a:latin typeface="Times New Roman"/>
            </a:endParaRPr>
          </a:p>
        </p:txBody>
      </p:sp>
      <p:sp>
        <p:nvSpPr>
          <p:cNvPr id="137" name=""/>
          <p:cNvSpPr/>
          <p:nvPr/>
        </p:nvSpPr>
        <p:spPr>
          <a:xfrm>
            <a:off x="5029200" y="1004760"/>
            <a:ext cx="914400" cy="307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ASIEN</a:t>
            </a:r>
            <a:endParaRPr b="0" lang="en-US" sz="1400" spc="-1" strike="noStrike">
              <a:solidFill>
                <a:srgbClr val="000000"/>
              </a:solidFill>
              <a:latin typeface="Times New Roman"/>
            </a:endParaRPr>
          </a:p>
        </p:txBody>
      </p:sp>
      <p:sp>
        <p:nvSpPr>
          <p:cNvPr id="138" name=""/>
          <p:cNvSpPr/>
          <p:nvPr/>
        </p:nvSpPr>
        <p:spPr>
          <a:xfrm>
            <a:off x="5029200" y="2300400"/>
            <a:ext cx="3581280" cy="1270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Zunahme von Krankheits- und Todesfällen durch Überschwemmungen</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Zunahme der Probleme mit Cholera in Südasien durch steigende Wassertemperaturen im Küstenbereich</a:t>
            </a:r>
            <a:endParaRPr b="0" lang="en-US" sz="1400" spc="-1" strike="noStrike">
              <a:solidFill>
                <a:srgbClr val="000000"/>
              </a:solidFill>
              <a:latin typeface="Times New Roman"/>
            </a:endParaRPr>
          </a:p>
        </p:txBody>
      </p:sp>
      <p:sp>
        <p:nvSpPr>
          <p:cNvPr id="139" name=""/>
          <p:cNvSpPr/>
          <p:nvPr/>
        </p:nvSpPr>
        <p:spPr>
          <a:xfrm>
            <a:off x="380880" y="2909880"/>
            <a:ext cx="3886200" cy="733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in manchen Regionen (z.B. in Gebirgen) erhöhte, in anderen Regionen verringerte Ausbreitungsrate von Malaria</a:t>
            </a:r>
            <a:endParaRPr b="0" lang="en-US" sz="1400" spc="-1" strike="noStrike">
              <a:solidFill>
                <a:srgbClr val="000000"/>
              </a:solidFill>
              <a:latin typeface="Times New Roman"/>
            </a:endParaRPr>
          </a:p>
        </p:txBody>
      </p:sp>
      <p:sp>
        <p:nvSpPr>
          <p:cNvPr id="140" name=""/>
          <p:cNvSpPr/>
          <p:nvPr/>
        </p:nvSpPr>
        <p:spPr>
          <a:xfrm>
            <a:off x="380880" y="5272200"/>
            <a:ext cx="388620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Meeresspiegelanstieg und intensivere Stürme bedrohen Millionen mehr Menschen durch Überflutungen, insbesondere in den dicht besiedelten Flussdeltas</a:t>
            </a:r>
            <a:endParaRPr b="0" lang="en-US" sz="1400" spc="-1" strike="noStrike">
              <a:solidFill>
                <a:srgbClr val="000000"/>
              </a:solidFill>
              <a:latin typeface="Times New Roman"/>
            </a:endParaRPr>
          </a:p>
        </p:txBody>
      </p:sp>
      <p:sp>
        <p:nvSpPr>
          <p:cNvPr id="141" name=""/>
          <p:cNvSpPr/>
          <p:nvPr/>
        </p:nvSpPr>
        <p:spPr>
          <a:xfrm>
            <a:off x="5029200" y="5159520"/>
            <a:ext cx="35812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Meeresspiegelanstieg und intensivere Stürme bedrohen Millionen mehr Menschen durch Überflutungen, insbesondere in den dicht besiedelten Flussdeltas</a:t>
            </a:r>
            <a:endParaRPr b="0" lang="en-US" sz="1400" spc="-1" strike="noStrike">
              <a:solidFill>
                <a:srgbClr val="000000"/>
              </a:solidFill>
              <a:latin typeface="Times New Roman"/>
            </a:endParaRPr>
          </a:p>
        </p:txBody>
      </p:sp>
      <p:sp>
        <p:nvSpPr>
          <p:cNvPr id="142" name=""/>
          <p:cNvSpPr/>
          <p:nvPr/>
        </p:nvSpPr>
        <p:spPr>
          <a:xfrm>
            <a:off x="152280" y="6597720"/>
            <a:ext cx="899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uelle: IPCC (2007): Climate Change 2007: Climate Change Impacts, Adaptation and Vulnerability. Summary for Policymakers. www.ipcc.ch</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1T07:07:18Z</dcterms:created>
  <dc:creator/>
  <dc:description/>
  <dc:language>en-US</dc:language>
  <cp:lastModifiedBy>Gerold Kier</cp:lastModifiedBy>
  <cp:lastPrinted>2007-02-06T12:16:00Z</cp:lastPrinted>
  <dcterms:modified xsi:type="dcterms:W3CDTF">2009-06-10T11:26:48Z</dcterms:modified>
  <cp:revision>45</cp:revision>
  <dc:subject/>
  <dc:title>Die Millenniums-Entwicklungsziele und der globale Klimawandel</dc:title>
</cp:coreProperties>
</file>