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38AF-9F64-4A38-ADED-3301A356C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5948-045A-4EA9-B65D-4FB9B0182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8E83-2FC2-48BF-8DE3-517B69FC0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EFB6-2805-4456-A56F-312BF946BE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9A2B-DAAB-4712-B793-DEBE3B9FA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7E94-3E8D-4B1D-B374-08E4A158E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D958-CB59-4987-91FD-0583EBAF5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BCF0-6A4A-4133-8FA0-E2C3BC027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3EEE-E45D-4059-A8BD-AA37E6174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B37F-EC41-42AE-B425-49F2E17EE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9332-A759-446E-B286-BA4F5D5E4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48CB-2A11-455C-824A-A342B83AD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51920" y="6521040"/>
            <a:ext cx="295596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129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1297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516880" y="6521040"/>
            <a:ext cx="5508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12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2645-58A8-4A20-9D0E-13A0B8C8D6B6}" type="slidenum">
              <a:rPr b="0" lang="en-US" sz="1300" spc="-1" strike="noStrike">
                <a:solidFill>
                  <a:srgbClr val="5129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10160"/>
            <a:ext cx="6380280" cy="66960"/>
          </a:xfrm>
          <a:custGeom>
            <a:avLst/>
            <a:gdLst/>
            <a:ahLst/>
            <a:rect l="l" t="t" r="r" b="b"/>
            <a:pathLst>
              <a:path w="12473" h="132">
                <a:moveTo>
                  <a:pt x="12473" y="67"/>
                </a:moveTo>
                <a:lnTo>
                  <a:pt x="12473" y="0"/>
                </a:lnTo>
                <a:lnTo>
                  <a:pt x="0" y="0"/>
                </a:lnTo>
                <a:lnTo>
                  <a:pt x="0" y="132"/>
                </a:lnTo>
                <a:lnTo>
                  <a:pt x="12473" y="132"/>
                </a:lnTo>
                <a:lnTo>
                  <a:pt x="12473" y="67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99440" y="6410160"/>
            <a:ext cx="671400" cy="66960"/>
          </a:xfrm>
          <a:custGeom>
            <a:avLst/>
            <a:gdLst/>
            <a:ahLst/>
            <a:rect l="l" t="t" r="r" b="b"/>
            <a:pathLst>
              <a:path w="1314" h="132">
                <a:moveTo>
                  <a:pt x="1314" y="67"/>
                </a:moveTo>
                <a:lnTo>
                  <a:pt x="1314" y="0"/>
                </a:lnTo>
                <a:lnTo>
                  <a:pt x="0" y="0"/>
                </a:lnTo>
                <a:lnTo>
                  <a:pt x="0" y="132"/>
                </a:lnTo>
                <a:lnTo>
                  <a:pt x="1314" y="132"/>
                </a:lnTo>
                <a:lnTo>
                  <a:pt x="1314" y="67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4600" y="228600"/>
            <a:ext cx="8817120" cy="658800"/>
          </a:xfrm>
          <a:custGeom>
            <a:avLst/>
            <a:gdLst/>
            <a:ahLst/>
            <a:rect l="l" t="t" r="r" b="b"/>
            <a:pathLst>
              <a:path w="17237" h="1295">
                <a:moveTo>
                  <a:pt x="17237" y="1295"/>
                </a:moveTo>
                <a:lnTo>
                  <a:pt x="17094" y="1210"/>
                </a:lnTo>
                <a:lnTo>
                  <a:pt x="16938" y="1127"/>
                </a:lnTo>
                <a:lnTo>
                  <a:pt x="16766" y="1049"/>
                </a:lnTo>
                <a:lnTo>
                  <a:pt x="16580" y="975"/>
                </a:lnTo>
                <a:lnTo>
                  <a:pt x="16383" y="904"/>
                </a:lnTo>
                <a:lnTo>
                  <a:pt x="16172" y="837"/>
                </a:lnTo>
                <a:lnTo>
                  <a:pt x="15951" y="773"/>
                </a:lnTo>
                <a:lnTo>
                  <a:pt x="15717" y="714"/>
                </a:lnTo>
                <a:lnTo>
                  <a:pt x="15476" y="657"/>
                </a:lnTo>
                <a:lnTo>
                  <a:pt x="15223" y="605"/>
                </a:lnTo>
                <a:lnTo>
                  <a:pt x="14963" y="556"/>
                </a:lnTo>
                <a:lnTo>
                  <a:pt x="14694" y="509"/>
                </a:lnTo>
                <a:lnTo>
                  <a:pt x="14418" y="466"/>
                </a:lnTo>
                <a:lnTo>
                  <a:pt x="14136" y="426"/>
                </a:lnTo>
                <a:lnTo>
                  <a:pt x="13848" y="388"/>
                </a:lnTo>
                <a:lnTo>
                  <a:pt x="13554" y="354"/>
                </a:lnTo>
                <a:lnTo>
                  <a:pt x="13257" y="323"/>
                </a:lnTo>
                <a:lnTo>
                  <a:pt x="12956" y="294"/>
                </a:lnTo>
                <a:lnTo>
                  <a:pt x="12651" y="268"/>
                </a:lnTo>
                <a:lnTo>
                  <a:pt x="12345" y="244"/>
                </a:lnTo>
                <a:lnTo>
                  <a:pt x="12037" y="222"/>
                </a:lnTo>
                <a:lnTo>
                  <a:pt x="11728" y="204"/>
                </a:lnTo>
                <a:lnTo>
                  <a:pt x="11419" y="187"/>
                </a:lnTo>
                <a:lnTo>
                  <a:pt x="11110" y="173"/>
                </a:lnTo>
                <a:lnTo>
                  <a:pt x="10803" y="160"/>
                </a:lnTo>
                <a:lnTo>
                  <a:pt x="10498" y="150"/>
                </a:lnTo>
                <a:lnTo>
                  <a:pt x="10195" y="141"/>
                </a:lnTo>
                <a:lnTo>
                  <a:pt x="9897" y="134"/>
                </a:lnTo>
                <a:lnTo>
                  <a:pt x="9602" y="129"/>
                </a:lnTo>
                <a:lnTo>
                  <a:pt x="9312" y="126"/>
                </a:lnTo>
                <a:lnTo>
                  <a:pt x="9028" y="125"/>
                </a:lnTo>
                <a:lnTo>
                  <a:pt x="8749" y="124"/>
                </a:lnTo>
                <a:lnTo>
                  <a:pt x="0" y="124"/>
                </a:lnTo>
                <a:lnTo>
                  <a:pt x="0" y="0"/>
                </a:lnTo>
                <a:lnTo>
                  <a:pt x="17236" y="0"/>
                </a:lnTo>
                <a:lnTo>
                  <a:pt x="17237" y="1295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03920" y="6130800"/>
            <a:ext cx="138276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0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bc93c9"/>
                </a:solidFill>
                <a:latin typeface="Arial"/>
              </a:rPr>
              <a:t>CCS beim </a:t>
            </a:r>
            <a:br>
              <a:rPr sz="5400"/>
            </a:br>
            <a:r>
              <a:rPr b="0" lang="de-DE" sz="5400" spc="-1" strike="noStrike">
                <a:solidFill>
                  <a:srgbClr val="bc93c9"/>
                </a:solidFill>
                <a:latin typeface="Arial"/>
              </a:rPr>
              <a:t>UN-Klimagipfel in Cancún </a:t>
            </a:r>
            <a:br>
              <a:rPr sz="5400"/>
            </a:br>
            <a:r>
              <a:rPr b="0" lang="de-DE" sz="5400" spc="-1" strike="noStrike">
                <a:solidFill>
                  <a:srgbClr val="bc93c9"/>
                </a:solidFill>
                <a:latin typeface="Arial"/>
              </a:rPr>
              <a:t>im Dezember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liensatz zum Hintergrundpapier "Bewegung in der CCS-Debatt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CCS im Rahmen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strienahe norwegische NRO Bellona* führt side event 'Biomasse-CCS mit negativen CO2-Emissionen’ durc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maßstäbliche Nutzung von Biomasse in Verbindung mit         C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ion von Biomasse möglicherweise durch Algen oder ‚Sahara Forest Project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trag zur Zementherstell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inpressen von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in Zement zur Stabil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erausforderung, die Zementindustrie, welche seit 150 Jahren nichts verändert hat, zum Wandel zu be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* Bellona ist für den Einbezug von CCS in C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SBSTA-Finale am Ende </a:t>
            </a:r>
            <a:br>
              <a:rPr sz="4000"/>
            </a:b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der ersten Woc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 Jahre nach Beginn der Verhandlungen liegt nun ein 6-seitige draft-CMP-decision mit zwei Optionen v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CCS kommt als Technologie für den CDM in Frage, wenn die Punkte des Paragraph 29 des Beschlusses 2/CMP.5 von Kopenhagen erfüll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CCS kommt als Technologie für den CDM nicht in Frage, solange nicht die in 2/CMP.5, Paragraph 29 aufgeführten Punkte zufrieden stellend gelöst s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nahme der Vorlage durch SBSTA, Vorschlag zur Entscheidung bei der Vertragsstaatenkonferenz des Kyoto-Protokolls (COP/M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Entscheidende Plenarsitzung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der CMP/MOP (letzte Nac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kanntgabe, dass zugunsten der 1.Option (s. o.), den Einbezug von CCS in CDM, entschieden wu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stralien, Saudi-Arabien und Kuwait begüßen den Beschl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asilien, generell nicht gegen CCS, jedoch gegen dessen Einbezug in den CDM, bekundet aber, sich nicht gegen die Annahme dieser Entscheidung zu 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025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itere Informationen im Hintergrundpapier "Bewegung in der CCS-Debatte. Eine Bewertung der Entscheidungen beim Klimagipfel in Cancún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.germanwatch.org/klima/cancun-cc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Impress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ausgeber: Germanwatch e.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nsatz erstellt von Anna-Sahar Syawash und Dr. Manfred Tre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 Basis des Hintergrundpapiers von Dr. Manfred Treber, Juni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es Projekt wird gefördert v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4653000"/>
            <a:ext cx="1800000" cy="94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340000" y="4724280"/>
            <a:ext cx="865080" cy="822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5516640"/>
            <a:ext cx="583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Verantwortung für den Inhalt dieser Veröffentlichung liegt bei den Auto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CO</a:t>
            </a:r>
            <a:r>
              <a:rPr b="0" lang="de-DE" sz="4000" spc="-1" strike="noStrike" baseline="-25000">
                <a:solidFill>
                  <a:srgbClr val="bc93c9"/>
                </a:solidFill>
                <a:latin typeface="Arial"/>
              </a:rPr>
              <a:t>2</a:t>
            </a: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 Capture and Storage (CC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trennung vo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Kraftwerk oder Industrieanlage, dessen Transport und Speicherung an einem geologisch sicheren Ort unterhalb von 800m Tie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S-Technologie ist teuer, sehr energieaufwändig und ggf. ökologisch problematis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Clean Development </a:t>
            </a:r>
            <a:br>
              <a:rPr sz="4000"/>
            </a:b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Mechanism (CD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m Austausch für Emissionsgutschriften finanzieren Industriestaaten und Unternehmen über CDM Klimaschutz-projekte in Entwicklungsländ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hmenbedingung für CDM-Projekte ist deren Zusätzlichkeit, d.h. ihre wirt-schaftliche Tragfähigkeit ist nur durch die Emissionsgutschriften geg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Bedingungen für den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Einbezug von CCS in CD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re Kriterien für die Zusätzlichkeit des Projekte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 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Enhanced Oil Recovery fra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en eines geologischen Dienstes zur Überwachung und Nachsorge der Speicherstä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ckagerate unter 0,01 % pro Ja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cherstellung, dass durch C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Verpressen frei gewordenes Salzwasser nicht ins Grundwasser eintri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256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Bedingungen für den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Einbezug von CCS in CD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estlegung der Laufzeit eines CCS-Projektes - möglicherweise bis zur Übergabe der Verantwortung an den 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ärung der Haftungsfrage durch Festlegen der finanziellen Ressourcen des Projektverantwortlichen vor Projektstart oder alternativ durch eine Bonds-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Cancún: CCS-Verhandlungen bei  UNFCCC im SB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BSTA: Wissenschaftlich-technisch orientiertes Nebenor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'Subsidiary Body for Scientific and Technological Advice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S-Befürworter und Gegner in der deutschen Zivilgesellschaft sind sich einig darüber, dass CDM nicht das geeignete Instrument zur Förderung von CCS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Befürworter von CCS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innerhalb des SB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orwegen, Australien, Saudi-Arabi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ter strengen Auswahlkriterien sollen Länder ihre Technologien selbst auswählen können, sie sprechen sich für den Einbezug von CCS in den CDM 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dien, Papua-Neuguinea, Mexi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S als technische Option ist nicht auszuschließen, ein Einbezug in den CDM jedoch noch unk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Gegner von CCS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innerhalb des SB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asili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S ist nicht CDM-tauglich und soll deshalb in diesen nicht einbezogen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CCS im Rahmen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de event der 'Carbon Capture and Storage Association' (CCS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 Sicht der Int. Energieagentur (IEA) muss in Bezug auf CCS angegangen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sseres Verständnis der Spe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lares Verständnis einer vollständigen Regul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ständnis &amp; Kommunikation über CCS in der Öffentlich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inanz- und Wissensaustau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FCCC ist der zentrale Ort für das Beschließen von Anreizmechanis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2:16:06Z</dcterms:created>
  <dc:creator>Germanwatch e.V.</dc:creator>
  <dc:description/>
  <dc:language>en-US</dc:language>
  <cp:lastModifiedBy>Katrin Fillies</cp:lastModifiedBy>
  <dcterms:modified xsi:type="dcterms:W3CDTF">2011-06-30T15:55:30Z</dcterms:modified>
  <cp:revision>49</cp:revision>
  <dc:subject/>
  <dc:title>CCS beim Klimagipfel in Cancún (Dez. 2010)</dc:title>
</cp:coreProperties>
</file>