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70F15-EAF9-4095-9C51-0D3FD36DB7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79E5D-584B-4B4A-9D7E-C1E8BF6A7B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4404C-8901-4AF2-A2EA-17C745FF9D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BA37F-7F7A-4590-88CF-D91F198174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E2156-4F10-46F6-AE2D-2339A06EA0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5A582-6229-4749-85CF-C2C3097CF3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45DED-CBC2-406C-9E69-3B9D783142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E30AA-9A84-495A-B6ED-4D045C8B62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60255-C845-408E-8C2F-297A25845A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5FACB-2637-4A50-87EC-FC3C1A2D9F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029E1-EAD4-48CB-A4EF-FF2AD92019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4FABD-8054-4160-9ECE-64ED051C1A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51920" y="6521040"/>
            <a:ext cx="2955960" cy="26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51297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1297f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8516880" y="6521040"/>
            <a:ext cx="550800" cy="26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5129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DADA-F2FC-47D4-A76E-80016023F43A}" type="slidenum">
              <a:rPr b="0" lang="en-US" sz="1300" spc="-1" strike="noStrike">
                <a:solidFill>
                  <a:srgbClr val="51297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6410160"/>
            <a:ext cx="6380280" cy="66960"/>
          </a:xfrm>
          <a:custGeom>
            <a:avLst/>
            <a:gdLst/>
            <a:ahLst/>
            <a:rect l="l" t="t" r="r" b="b"/>
            <a:pathLst>
              <a:path w="12473" h="132">
                <a:moveTo>
                  <a:pt x="12473" y="67"/>
                </a:moveTo>
                <a:lnTo>
                  <a:pt x="12473" y="0"/>
                </a:lnTo>
                <a:lnTo>
                  <a:pt x="0" y="0"/>
                </a:lnTo>
                <a:lnTo>
                  <a:pt x="0" y="132"/>
                </a:lnTo>
                <a:lnTo>
                  <a:pt x="12473" y="132"/>
                </a:lnTo>
                <a:lnTo>
                  <a:pt x="12473" y="67"/>
                </a:lnTo>
                <a:close/>
              </a:path>
            </a:pathLst>
          </a:custGeom>
          <a:solidFill>
            <a:srgbClr val="662b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299440" y="6410160"/>
            <a:ext cx="671400" cy="66960"/>
          </a:xfrm>
          <a:custGeom>
            <a:avLst/>
            <a:gdLst/>
            <a:ahLst/>
            <a:rect l="l" t="t" r="r" b="b"/>
            <a:pathLst>
              <a:path w="1314" h="132">
                <a:moveTo>
                  <a:pt x="1314" y="67"/>
                </a:moveTo>
                <a:lnTo>
                  <a:pt x="1314" y="0"/>
                </a:lnTo>
                <a:lnTo>
                  <a:pt x="0" y="0"/>
                </a:lnTo>
                <a:lnTo>
                  <a:pt x="0" y="132"/>
                </a:lnTo>
                <a:lnTo>
                  <a:pt x="1314" y="132"/>
                </a:lnTo>
                <a:lnTo>
                  <a:pt x="1314" y="67"/>
                </a:lnTo>
                <a:close/>
              </a:path>
            </a:pathLst>
          </a:custGeom>
          <a:solidFill>
            <a:srgbClr val="662b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74600" y="228600"/>
            <a:ext cx="8817120" cy="658800"/>
          </a:xfrm>
          <a:custGeom>
            <a:avLst/>
            <a:gdLst/>
            <a:ahLst/>
            <a:rect l="l" t="t" r="r" b="b"/>
            <a:pathLst>
              <a:path w="17237" h="1295">
                <a:moveTo>
                  <a:pt x="17237" y="1295"/>
                </a:moveTo>
                <a:lnTo>
                  <a:pt x="17094" y="1210"/>
                </a:lnTo>
                <a:lnTo>
                  <a:pt x="16938" y="1127"/>
                </a:lnTo>
                <a:lnTo>
                  <a:pt x="16766" y="1049"/>
                </a:lnTo>
                <a:lnTo>
                  <a:pt x="16580" y="975"/>
                </a:lnTo>
                <a:lnTo>
                  <a:pt x="16383" y="904"/>
                </a:lnTo>
                <a:lnTo>
                  <a:pt x="16172" y="837"/>
                </a:lnTo>
                <a:lnTo>
                  <a:pt x="15951" y="773"/>
                </a:lnTo>
                <a:lnTo>
                  <a:pt x="15717" y="714"/>
                </a:lnTo>
                <a:lnTo>
                  <a:pt x="15476" y="657"/>
                </a:lnTo>
                <a:lnTo>
                  <a:pt x="15223" y="605"/>
                </a:lnTo>
                <a:lnTo>
                  <a:pt x="14963" y="556"/>
                </a:lnTo>
                <a:lnTo>
                  <a:pt x="14694" y="509"/>
                </a:lnTo>
                <a:lnTo>
                  <a:pt x="14418" y="466"/>
                </a:lnTo>
                <a:lnTo>
                  <a:pt x="14136" y="426"/>
                </a:lnTo>
                <a:lnTo>
                  <a:pt x="13848" y="388"/>
                </a:lnTo>
                <a:lnTo>
                  <a:pt x="13554" y="354"/>
                </a:lnTo>
                <a:lnTo>
                  <a:pt x="13257" y="323"/>
                </a:lnTo>
                <a:lnTo>
                  <a:pt x="12956" y="294"/>
                </a:lnTo>
                <a:lnTo>
                  <a:pt x="12651" y="268"/>
                </a:lnTo>
                <a:lnTo>
                  <a:pt x="12345" y="244"/>
                </a:lnTo>
                <a:lnTo>
                  <a:pt x="12037" y="222"/>
                </a:lnTo>
                <a:lnTo>
                  <a:pt x="11728" y="204"/>
                </a:lnTo>
                <a:lnTo>
                  <a:pt x="11419" y="187"/>
                </a:lnTo>
                <a:lnTo>
                  <a:pt x="11110" y="173"/>
                </a:lnTo>
                <a:lnTo>
                  <a:pt x="10803" y="160"/>
                </a:lnTo>
                <a:lnTo>
                  <a:pt x="10498" y="150"/>
                </a:lnTo>
                <a:lnTo>
                  <a:pt x="10195" y="141"/>
                </a:lnTo>
                <a:lnTo>
                  <a:pt x="9897" y="134"/>
                </a:lnTo>
                <a:lnTo>
                  <a:pt x="9602" y="129"/>
                </a:lnTo>
                <a:lnTo>
                  <a:pt x="9312" y="126"/>
                </a:lnTo>
                <a:lnTo>
                  <a:pt x="9028" y="125"/>
                </a:lnTo>
                <a:lnTo>
                  <a:pt x="8749" y="124"/>
                </a:lnTo>
                <a:lnTo>
                  <a:pt x="0" y="124"/>
                </a:lnTo>
                <a:lnTo>
                  <a:pt x="0" y="0"/>
                </a:lnTo>
                <a:lnTo>
                  <a:pt x="17236" y="0"/>
                </a:lnTo>
                <a:lnTo>
                  <a:pt x="17237" y="1295"/>
                </a:lnTo>
                <a:close/>
              </a:path>
            </a:pathLst>
          </a:custGeom>
          <a:solidFill>
            <a:srgbClr val="662b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6703920" y="6130800"/>
            <a:ext cx="1382760" cy="51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82072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bc93c9"/>
                </a:solidFill>
                <a:latin typeface="Arial"/>
              </a:rPr>
              <a:t>CCS beim </a:t>
            </a:r>
            <a:br>
              <a:rPr sz="5400"/>
            </a:br>
            <a:r>
              <a:rPr b="0" lang="de-DE" sz="5400" spc="-1" strike="noStrike">
                <a:solidFill>
                  <a:srgbClr val="bc93c9"/>
                </a:solidFill>
                <a:latin typeface="Arial"/>
              </a:rPr>
              <a:t>UN-Klimagipfel in Cancún </a:t>
            </a:r>
            <a:br>
              <a:rPr sz="5400"/>
            </a:br>
            <a:r>
              <a:rPr b="0" lang="de-DE" sz="5400" spc="-1" strike="noStrike">
                <a:solidFill>
                  <a:srgbClr val="bc93c9"/>
                </a:solidFill>
                <a:latin typeface="Arial"/>
              </a:rPr>
              <a:t>im Dezember 20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32000" y="486864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liensatz zum Hintergrundpapier "Bewegung in der CCS-Debatt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c93c9"/>
                </a:solidFill>
                <a:latin typeface="Arial"/>
              </a:rPr>
              <a:t>CCS im Rahmenprogram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dustrienahe norwegische NRO Bellona* führt side event 'Biomasse-CCS mit negativen CO2-Emissionen’ durch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  →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oßmaßstäbliche Nutzung von Biomasse in Verbindung mit         C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  →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duktion von Biomasse möglicherweise durch Algen oder ‚Sahara Forest Project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ortrag zur Zementherstellu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  →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Einpressen von CO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in Zement zur Stabilis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erausforderung, die Zementindustrie, welche seit 150 Jahren nichts verändert hat, zum Wandel zu bew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* Bellona ist für den Einbezug von CCS in CD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bc93c9"/>
                </a:solidFill>
                <a:latin typeface="Arial"/>
              </a:rPr>
              <a:t>SBSTA-Finale am Ende </a:t>
            </a:r>
            <a:br>
              <a:rPr sz="4000"/>
            </a:br>
            <a:r>
              <a:rPr b="0" lang="de-DE" sz="4000" spc="-1" strike="noStrike">
                <a:solidFill>
                  <a:srgbClr val="bc93c9"/>
                </a:solidFill>
                <a:latin typeface="Arial"/>
              </a:rPr>
              <a:t>der ersten Woch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3 Jahre nach Beginn der Verhandlungen liegt nun ein 6-seitige draft-CMP-decision mit zwei Optionen v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. CCS kommt als Technologie für den CDM in Frage, wenn die Punkte des Paragraph 29 des Beschlusses 2/CMP.5 von Kopenhagen erfüll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 CCS kommt als Technologie für den CDM nicht in Frage, solange nicht die in 2/CMP.5, Paragraph 29 aufgeführten Punkte zufrieden stellend gelöst si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nahme der Vorlage durch SBSTA, Vorschlag zur Entscheidung bei der Vertragsstaatenkonferenz des Kyoto-Protokolls (COP/MO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c93c9"/>
                </a:solidFill>
                <a:latin typeface="Arial"/>
              </a:rPr>
              <a:t>Entscheidende Plenarsitzung </a:t>
            </a:r>
            <a:br>
              <a:rPr sz="4000"/>
            </a:br>
            <a:r>
              <a:rPr b="0" lang="en-US" sz="4000" spc="-1" strike="noStrike">
                <a:solidFill>
                  <a:srgbClr val="bc93c9"/>
                </a:solidFill>
                <a:latin typeface="Arial"/>
              </a:rPr>
              <a:t>der CMP/MOP (letzte Nach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kanntgabe, dass zugunsten der 1.Option (s. o.), den Einbezug von CCS in CDM, entschieden wu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ustralien, Saudi-Arabien und Kuwait begüßen den Beschlu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rasilien, generell nicht gegen CCS, jedoch gegen dessen Einbezug in den CDM, bekundet aber, sich nicht gegen die Annahme dieser Entscheidung zu st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0256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itere Informationen im Hintergrundpapier "Bewegung in der CCS-Debatte. Eine Bewertung der Entscheidungen beim Klimagipfel in Cancún"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ww.germanwatch.org/klima/cancun-ccs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Impressu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ausgeber: Germanwatch e.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liensatz erstellt von Anna-Sahar Syawash und Dr. Manfred Tre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f Basis des Hintergrundpapiers von Dr. Manfred Treber, Juni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ses Projekt wird gefördert v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11280" y="4653000"/>
            <a:ext cx="1800000" cy="949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340000" y="4724280"/>
            <a:ext cx="865080" cy="822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39640" y="5516640"/>
            <a:ext cx="5832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 Verantwortung für den Inhalt dieser Veröffentlichung liegt bei den Auto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bc93c9"/>
                </a:solidFill>
                <a:latin typeface="Arial"/>
              </a:rPr>
              <a:t>CO</a:t>
            </a:r>
            <a:r>
              <a:rPr b="0" lang="de-DE" sz="4000" spc="-1" strike="noStrike" baseline="-25000">
                <a:solidFill>
                  <a:srgbClr val="bc93c9"/>
                </a:solidFill>
                <a:latin typeface="Arial"/>
              </a:rPr>
              <a:t>2</a:t>
            </a:r>
            <a:r>
              <a:rPr b="0" lang="de-DE" sz="4000" spc="-1" strike="noStrike">
                <a:solidFill>
                  <a:srgbClr val="bc93c9"/>
                </a:solidFill>
                <a:latin typeface="Arial"/>
              </a:rPr>
              <a:t> Capture and Storage (CC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trennung von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Kraftwerk oder Industrieanlage, dessen Transport und Speicherung an einem geologisch sicheren Ort unterhalb von 800m Tie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CS-Technologie ist teuer, sehr energieaufwändig und ggf. ökologisch problematis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bc93c9"/>
                </a:solidFill>
                <a:latin typeface="Arial"/>
              </a:rPr>
              <a:t>Clean Development </a:t>
            </a:r>
            <a:br>
              <a:rPr sz="4000"/>
            </a:br>
            <a:r>
              <a:rPr b="0" lang="de-DE" sz="4000" spc="-1" strike="noStrike">
                <a:solidFill>
                  <a:srgbClr val="bc93c9"/>
                </a:solidFill>
                <a:latin typeface="Arial"/>
              </a:rPr>
              <a:t>Mechanism (CD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m Austausch für Emissionsgutschriften finanzieren Industriestaaten und Unternehmen über CDM Klimaschutz-projekte in Entwicklungsländ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ahmenbedingung für CDM-Projekte ist deren Zusätzlichkeit, d.h. ihre wirt-schaftliche Tragfähigkeit ist nur durch die Emissionsgutschriften gege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c93c9"/>
                </a:solidFill>
                <a:latin typeface="Arial"/>
              </a:rPr>
              <a:t>Bedingungen für den </a:t>
            </a:r>
            <a:br>
              <a:rPr sz="4000"/>
            </a:br>
            <a:r>
              <a:rPr b="0" lang="en-US" sz="4000" spc="-1" strike="noStrike">
                <a:solidFill>
                  <a:srgbClr val="bc93c9"/>
                </a:solidFill>
                <a:latin typeface="Arial"/>
              </a:rPr>
              <a:t>Einbezug von CCS in CD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lare Kriterien für die Zusätzlichkeit des Projektes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- &gt;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 Enhanced Oil Recovery fragl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stehen eines geologischen Dienstes zur Überwachung und Nachsorge der Speicherstä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eckagerate unter 0,01 % pro Ja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icherstellung, dass durch CO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-Verpressen frei gewordenes Salzwasser nicht ins Grundwasser eintri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87640" y="2565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c93c9"/>
                </a:solidFill>
                <a:latin typeface="Arial"/>
              </a:rPr>
              <a:t>Bedingungen für den </a:t>
            </a:r>
            <a:br>
              <a:rPr sz="4000"/>
            </a:br>
            <a:r>
              <a:rPr b="0" lang="en-US" sz="4000" spc="-1" strike="noStrike">
                <a:solidFill>
                  <a:srgbClr val="bc93c9"/>
                </a:solidFill>
                <a:latin typeface="Arial"/>
              </a:rPr>
              <a:t>Einbezug von CCS in CD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estlegung der Laufzeit eines CCS-Projektes - möglicherweise bis zur Übergabe der Verantwortung an den 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lärung der Haftungsfrage durch Festlegen der finanziellen Ressourcen des Projektverantwortlichen vor Projektstart oder alternativ durch eine Bonds-Lös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bc93c9"/>
                </a:solidFill>
                <a:latin typeface="Arial"/>
              </a:rPr>
              <a:t>Cancún: CCS-Verhandlungen bei  UNFCCC im SBS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BSTA: Wissenschaftlich-technisch orientiertes Nebenorg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'Subsidiary Body for Scientific and Technological Advice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CS-Befürworter und Gegner in der deutschen Zivilgesellschaft sind sich einig darüber, dass CDM nicht das geeignete Instrument zur Förderung von CCS 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c93c9"/>
                </a:solidFill>
                <a:latin typeface="Arial"/>
              </a:rPr>
              <a:t>Befürworter von CCS </a:t>
            </a:r>
            <a:br>
              <a:rPr sz="4000"/>
            </a:br>
            <a:r>
              <a:rPr b="0" lang="en-US" sz="4000" spc="-1" strike="noStrike">
                <a:solidFill>
                  <a:srgbClr val="bc93c9"/>
                </a:solidFill>
                <a:latin typeface="Arial"/>
              </a:rPr>
              <a:t>innerhalb des SBS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orwegen, Australien, Saudi-Arabi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nter strengen Auswahlkriterien sollen Länder ihre Technologien selbst auswählen können, sie sprechen sich für den Einbezug von CCS in den CDM a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dien, Papua-Neuguinea, Mexik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CS als technische Option ist nicht auszuschließen, ein Einbezug in den CDM jedoch noch unk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c93c9"/>
                </a:solidFill>
                <a:latin typeface="Arial"/>
              </a:rPr>
              <a:t>Gegner von CCS </a:t>
            </a:r>
            <a:br>
              <a:rPr sz="4000"/>
            </a:br>
            <a:r>
              <a:rPr b="0" lang="en-US" sz="4000" spc="-1" strike="noStrike">
                <a:solidFill>
                  <a:srgbClr val="bc93c9"/>
                </a:solidFill>
                <a:latin typeface="Arial"/>
              </a:rPr>
              <a:t>innerhalb des SBS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rasilie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CS ist nicht CDM-tauglich und soll deshalb in diesen nicht einbezogen we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c93c9"/>
                </a:solidFill>
                <a:latin typeface="Arial"/>
              </a:rPr>
              <a:t>CCS im Rahmenprogram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ide event der 'Carbon Capture and Storage Association' (CCSA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s Sicht der Int. Energieagentur (IEA) muss in Bezug auf CCS angegangen we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→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sseres Verständnis der Speich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→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Klares Verständnis einer vollständigen Regul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→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Verständnis &amp; Kommunikation über CCS in der Öffentlichk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→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Finanz- und Wissensaustau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FCCC ist der zentrale Ort für das Beschließen von Anreizmechanis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6T12:16:06Z</dcterms:created>
  <dc:creator>Germanwatch e.V.</dc:creator>
  <dc:description/>
  <dc:language>en-US</dc:language>
  <cp:lastModifiedBy>Katrin Fillies</cp:lastModifiedBy>
  <dcterms:modified xsi:type="dcterms:W3CDTF">2011-06-30T15:55:30Z</dcterms:modified>
  <cp:revision>49</cp:revision>
  <dc:subject/>
  <dc:title>CCS beim Klimagipfel in Cancún (Dez. 2010)</dc:title>
</cp:coreProperties>
</file>