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1.jpeg" ContentType="image/jpeg"/>
  <Override PartName="/ppt/media/image2.wmf" ContentType="image/x-wmf"/>
  <Override PartName="/ppt/media/image4.png" ContentType="image/png"/>
  <Override PartName="/ppt/media/image13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948FC-42DD-4809-A7A5-37EBF8213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E6FE2-00C1-4F6F-99D6-1FCB55EBF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DEF1B-93AB-4FB9-B74A-8F9BD0BEC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5D41E-501F-4DEC-B8CF-40F92D45CF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F017-C7BA-45EE-9F00-7D5442EEDF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E58FF-C927-4D40-959C-B33BEACF8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1C03C-8468-46DA-8049-D5AA50E5E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7DC82-384D-4243-AE1A-344D27795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04029-9792-4ED1-87C6-14976F46C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8DB69-37BF-47D2-89DF-D906E2FE7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C302-34E0-44A2-AC1C-4EB3C0777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339B-F06A-48D2-819A-A403CCAB2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51920" y="6521040"/>
            <a:ext cx="2955960" cy="2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51297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1297f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516880" y="6521040"/>
            <a:ext cx="550800" cy="2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51297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FE3D-114B-447E-B807-8478E67FAEAC}" type="slidenum">
              <a:rPr b="0" lang="en-US" sz="1300" spc="-1" strike="noStrike">
                <a:solidFill>
                  <a:srgbClr val="5129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6410160"/>
            <a:ext cx="6380280" cy="66960"/>
          </a:xfrm>
          <a:custGeom>
            <a:avLst/>
            <a:gdLst/>
            <a:ahLst/>
            <a:rect l="l" t="t" r="r" b="b"/>
            <a:pathLst>
              <a:path w="12473" h="132">
                <a:moveTo>
                  <a:pt x="12473" y="67"/>
                </a:moveTo>
                <a:lnTo>
                  <a:pt x="12473" y="0"/>
                </a:lnTo>
                <a:lnTo>
                  <a:pt x="0" y="0"/>
                </a:lnTo>
                <a:lnTo>
                  <a:pt x="0" y="132"/>
                </a:lnTo>
                <a:lnTo>
                  <a:pt x="12473" y="132"/>
                </a:lnTo>
                <a:lnTo>
                  <a:pt x="12473" y="67"/>
                </a:lnTo>
                <a:close/>
              </a:path>
            </a:pathLst>
          </a:custGeom>
          <a:solidFill>
            <a:srgbClr val="66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99440" y="6410160"/>
            <a:ext cx="671400" cy="66960"/>
          </a:xfrm>
          <a:custGeom>
            <a:avLst/>
            <a:gdLst/>
            <a:ahLst/>
            <a:rect l="l" t="t" r="r" b="b"/>
            <a:pathLst>
              <a:path w="1314" h="132">
                <a:moveTo>
                  <a:pt x="1314" y="67"/>
                </a:moveTo>
                <a:lnTo>
                  <a:pt x="1314" y="0"/>
                </a:lnTo>
                <a:lnTo>
                  <a:pt x="0" y="0"/>
                </a:lnTo>
                <a:lnTo>
                  <a:pt x="0" y="132"/>
                </a:lnTo>
                <a:lnTo>
                  <a:pt x="1314" y="132"/>
                </a:lnTo>
                <a:lnTo>
                  <a:pt x="1314" y="67"/>
                </a:lnTo>
                <a:close/>
              </a:path>
            </a:pathLst>
          </a:custGeom>
          <a:solidFill>
            <a:srgbClr val="66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4600" y="228600"/>
            <a:ext cx="8817120" cy="658800"/>
          </a:xfrm>
          <a:custGeom>
            <a:avLst/>
            <a:gdLst/>
            <a:ahLst/>
            <a:rect l="l" t="t" r="r" b="b"/>
            <a:pathLst>
              <a:path w="17237" h="1295">
                <a:moveTo>
                  <a:pt x="17237" y="1295"/>
                </a:moveTo>
                <a:lnTo>
                  <a:pt x="17094" y="1210"/>
                </a:lnTo>
                <a:lnTo>
                  <a:pt x="16938" y="1127"/>
                </a:lnTo>
                <a:lnTo>
                  <a:pt x="16766" y="1049"/>
                </a:lnTo>
                <a:lnTo>
                  <a:pt x="16580" y="975"/>
                </a:lnTo>
                <a:lnTo>
                  <a:pt x="16383" y="904"/>
                </a:lnTo>
                <a:lnTo>
                  <a:pt x="16172" y="837"/>
                </a:lnTo>
                <a:lnTo>
                  <a:pt x="15951" y="773"/>
                </a:lnTo>
                <a:lnTo>
                  <a:pt x="15717" y="714"/>
                </a:lnTo>
                <a:lnTo>
                  <a:pt x="15476" y="657"/>
                </a:lnTo>
                <a:lnTo>
                  <a:pt x="15223" y="605"/>
                </a:lnTo>
                <a:lnTo>
                  <a:pt x="14963" y="556"/>
                </a:lnTo>
                <a:lnTo>
                  <a:pt x="14694" y="509"/>
                </a:lnTo>
                <a:lnTo>
                  <a:pt x="14418" y="466"/>
                </a:lnTo>
                <a:lnTo>
                  <a:pt x="14136" y="426"/>
                </a:lnTo>
                <a:lnTo>
                  <a:pt x="13848" y="388"/>
                </a:lnTo>
                <a:lnTo>
                  <a:pt x="13554" y="354"/>
                </a:lnTo>
                <a:lnTo>
                  <a:pt x="13257" y="323"/>
                </a:lnTo>
                <a:lnTo>
                  <a:pt x="12956" y="294"/>
                </a:lnTo>
                <a:lnTo>
                  <a:pt x="12651" y="268"/>
                </a:lnTo>
                <a:lnTo>
                  <a:pt x="12345" y="244"/>
                </a:lnTo>
                <a:lnTo>
                  <a:pt x="12037" y="222"/>
                </a:lnTo>
                <a:lnTo>
                  <a:pt x="11728" y="204"/>
                </a:lnTo>
                <a:lnTo>
                  <a:pt x="11419" y="187"/>
                </a:lnTo>
                <a:lnTo>
                  <a:pt x="11110" y="173"/>
                </a:lnTo>
                <a:lnTo>
                  <a:pt x="10803" y="160"/>
                </a:lnTo>
                <a:lnTo>
                  <a:pt x="10498" y="150"/>
                </a:lnTo>
                <a:lnTo>
                  <a:pt x="10195" y="141"/>
                </a:lnTo>
                <a:lnTo>
                  <a:pt x="9897" y="134"/>
                </a:lnTo>
                <a:lnTo>
                  <a:pt x="9602" y="129"/>
                </a:lnTo>
                <a:lnTo>
                  <a:pt x="9312" y="126"/>
                </a:lnTo>
                <a:lnTo>
                  <a:pt x="9028" y="125"/>
                </a:lnTo>
                <a:lnTo>
                  <a:pt x="8749" y="124"/>
                </a:lnTo>
                <a:lnTo>
                  <a:pt x="0" y="124"/>
                </a:lnTo>
                <a:lnTo>
                  <a:pt x="0" y="0"/>
                </a:lnTo>
                <a:lnTo>
                  <a:pt x="17236" y="0"/>
                </a:lnTo>
                <a:lnTo>
                  <a:pt x="17237" y="1295"/>
                </a:lnTo>
                <a:close/>
              </a:path>
            </a:pathLst>
          </a:custGeom>
          <a:solidFill>
            <a:srgbClr val="66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703920" y="6130800"/>
            <a:ext cx="1382760" cy="5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rneuerbare Energien</a:t>
            </a:r>
            <a:br>
              <a:rPr sz="2800"/>
            </a:br>
            <a:br>
              <a:rPr sz="14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m Stand der Vorbereitungen des IPCC-Sonderberichts über Erneuerbare Energien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leitender Foliensatz zum gleichnamigen Hintergrundpap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ltweit installierte Windkraft-Kapazitä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1536840"/>
            <a:ext cx="8351640" cy="3557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8200" y="5241960"/>
            <a:ext cx="73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112. Nach GW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731520"/>
            <a:ext cx="820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zehn Länder mit den größten Windkapazitäten Ende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1527120"/>
            <a:ext cx="8569080" cy="391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8200" y="5805360"/>
            <a:ext cx="756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112. Nach GW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zahl an Sonnenstunden pro Tag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am für die Umwandlung ungeeignetsten Zeitpunkt des Jah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6553080" cy="3706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5708520"/>
            <a:ext cx="626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34. Nach: www.howto.altenergystor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609480"/>
            <a:ext cx="849636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stallierte Kapazitäten zur Stromerzeugung aus Geothermie in verschiedenen Ländern im Jahr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6408720" cy="4157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11280" y="5950080"/>
            <a:ext cx="626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60. Nach Bertani 2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idenhub in Mete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6120" y="1058760"/>
            <a:ext cx="7626240" cy="4025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6033960"/>
            <a:ext cx="71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15772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ausreichender Tidenhub ist Voraussetzung für die Nutzung von Ozean-Energie durch Gezeitenkraftwerk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zept eines transkontinentalen "Super Grid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4360" y="1527120"/>
            <a:ext cx="6335640" cy="4071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54200" y="5805360"/>
            <a:ext cx="63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131. Nach Trieb et al. 2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missionsminderungspotentiale und Kos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151000"/>
            <a:ext cx="8856720" cy="1709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2560" y="128736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tentielle Reduktion von Treibhausgasemissionen und Kosten für den Ersatz fossiler Energieträger durch Windkraft bis 203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4005360"/>
            <a:ext cx="63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140. Nach: 4. IPCC-Sachstandsbericht, 2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missionsminderungspotentiale und Ko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128736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fische Kostenbereiche relevanter Emissionsminderungsmaßnahmen [in US$ pro Tonne CO2-eq. im Jahr 2030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6192720" cy="3500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5661000"/>
            <a:ext cx="63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140. Nach: 4. IPCC-Sachstandsbericht, 2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lobale Neuinvestitionen in nachhaltige Energieträg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7272360" cy="3568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4000" y="5661000"/>
            <a:ext cx="63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153. Nach: New Energy Fin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907920"/>
            <a:ext cx="8534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Weitere Informationen im Hintergrundpapie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7720" y="2133720"/>
            <a:ext cx="81327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ww.germanwatch.org/klima/ee0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2924280"/>
            <a:ext cx="800100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Impressu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ausgeber: Germanwatch e.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daktion: Dr. Gerold Kier, Dr. Manfred Tre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s Projekt wird gefördert v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41440" y="4422600"/>
            <a:ext cx="1800000" cy="949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340000" y="4508640"/>
            <a:ext cx="865080" cy="822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5445000"/>
            <a:ext cx="58323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Verantwortung für den Inhalt dieser Veröffentlichung liegt bei den Auto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: April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635280" y="4622760"/>
            <a:ext cx="129708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09480"/>
            <a:ext cx="8278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fahren der Sonderberichterstel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ril 2008: IPCC beschließt Erstellung eines Sonderberichts zu Erneuerbaren Energien (nach einem ersten Beschluss im April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anuar 2008: Orientierungs-Tagung ("Scoping Meeting") des IPCC in Lübeck mit 200 Exp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s 14. Dez. 2009: erster Entwurf des Sonderberic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s 8. Feb. 2010: 1. Begutachtungsphase (Exper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s 3. Mai 2010: zweiter Entwu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s 28. Juni 2010: 2. Begutachtungsphase (Experten + Regierun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s 20. Sept. 2010: Fertigstellung des Sonderberic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s 15. Nov. 2010: Verteilung des Berichts an Regi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z. 2010: Annahme des Sonderberichts und der Zusammenfassung für Entscheidungsträger auf Sitzung der IPCC-Arbeitsgruppe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lle der Erneuerbaren für den Klimaschut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neuerbare können neben Energieeffizienz den höchsten Beitrag zum Klimaschutz le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2124000"/>
            <a:ext cx="6913800" cy="3265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55640" y="5445000"/>
            <a:ext cx="712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rafik: kumulierte Emissionsminderungen, die in verschiedenen Bereichen (jeweils in 4 verschiedenen Szenarien) bis 2030 und 2100 erwartet werden.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elle: IPCC 2007 (AR4, WG3, Abb. SPM9, S.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iele des geplanten IPCC-Sonderberic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Verständnis in folgenden Bereichen beitra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n unterschiedlichen Regionen vorliegende Potentiale und Auswirkungen der Klimaänderung auf diese Potential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missionsminderungspotential der Erneuerbaren Energi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zwischen Wachstum der Erneuerbaren und weiteren Vorteilen für Nachhaltige Entwickl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wirkungen auf weltweite, regionale und lokale Energiesicherhei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 der Technologie und Marktsituation, weitere Entwicklungen und projizierte Umsetzungsrat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chiedene Möglichkeiten und Beschränkungen der Integration (etwa des Stroms aus Windkraft) in das Energiesystem; dabei sind zusätzlich Energiespeicherungsoptionen einzubezieh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tschaftliche Kosten und jene für die Umwelt; Vorteile, Risiken und Auswirkungen der Umsetz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bau von Wissenskapazität, Technologietransfer und Finanzierung in verschiedenen Region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litische Optionen und Voraussetzungen für wirksame Maßnahm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alisierung eines beschleunigten Einsatzes der Erneuerbaren Energ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PCC-Workshop vom Januar 2008: Zusammenfassende Bewertung aus Sicht von Germanw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15920"/>
            <a:ext cx="81342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Tagungsband*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ibt teilweise guten Überblick über Sachstand zu Erneuerbaren Energ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äumt der Relevanz der Erneuerbaren für Armutsbekämpfung und nachhaltige Entwicklung in Entwicklungsländern zu wenig Raum 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handelt zu wenig die Risiken mancher Erneuerbarer Energiequellen (u.a. Biomasse und große Wasserkraftwerke) und der Atome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der jetzt zu erstellende Sonderbericht soll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züglich obiger Punkte nachbess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 strukturiert werden, dass er möglichst gut anschlussfähig an das Klimaregime für die Zeit nach 2012 (Kopenhagen-Abkommen)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2200" y="5742000"/>
            <a:ext cx="712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 Intergovernmental Panel on Climate Change Working Group III (2008): IPCC Scoping Meeting on Renewable Energy Sources. Proceedings. Lübeck, Germany, 20-25 January 2008. Edited by Olav Hohmeyer, Tom Trittin. www.ipcc.ch/pdf/supporting-material/proc-renewables-lubeck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3020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teressante Tabellen und Abbildungen aus dem IPCC-Tagungsband zu Erneuerbaren Energ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ährliche Flüsse und Gesamtreserven erneuerbarer und nichterneuerbarer Energiequelle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5759280" cy="4159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6560" y="5877000"/>
            <a:ext cx="626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6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orld Energy Assessment, 2000 and 2004, ***IEA, 2006, **OGJ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rom aus Erneuerbaren Energien im Jahr 20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229360"/>
            <a:ext cx="71294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6. Zusammengestellt aus Tabellen des "Survey of Energy Sources" (WEC 200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Die Kapazität an Biomasse wird im "Survey of Energy Sources" nur im Text mit "mehr als 40 GW" angegeben. Der Leistungsbeitrag ist daher unsic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* Gewichtetes Mitt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52560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listische Entwicklung der Wasserkraft in der Zukun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5400720" cy="456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12000" y="1557360"/>
            <a:ext cx="28796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=&gt; mögliche Kapazitäten in Europa, Nord- und Mittelamerika sowie in Australien werden bereits überwiegend genutz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=&gt; in anderen Weltregionen noch großes Ausbaupotenz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12000" y="5199120"/>
            <a:ext cx="230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CC (2008): IPCC Scoping Meeting on Renewable Energy Sources. Proceedings, S. 84. Nach IHA 2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3:19:33Z</dcterms:created>
  <dc:creator/>
  <dc:description/>
  <dc:language>en-US</dc:language>
  <cp:lastModifiedBy>Gerold Kier</cp:lastModifiedBy>
  <cp:lastPrinted>2002-12-09T16:42:57Z</cp:lastPrinted>
  <dcterms:modified xsi:type="dcterms:W3CDTF">2009-06-10T11:26:04Z</dcterms:modified>
  <cp:revision>40</cp:revision>
  <dc:subject/>
  <dc:title>Erneuerbare Energien</dc:title>
</cp:coreProperties>
</file>