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544E-3EE2-43D0-9E11-D87DE2374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FA89-BDE0-43C4-A0F2-05813E7E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893F-2F92-408E-B6E3-505B1AEBD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B6BB-9B4B-4CDC-8389-EAADA9244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A278-6DAD-4EE1-B0BB-359A606190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D3DA-7B30-4286-B05C-D81424091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2958-C8D9-4EF3-B4AE-1EB5F5B45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AD86-7F0D-4C33-AA7D-3ED386AB1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E8FE-B7DD-4ABB-BAF5-C4C3D12B2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1689-2531-4129-888B-E54A1B424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C8EC-C1C7-4AEC-B46E-00ADD9322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46F3-9DFC-4734-B768-CE7A54C6A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51920" y="6521040"/>
            <a:ext cx="295596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1297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16880" y="6521040"/>
            <a:ext cx="5508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4A7C-EBEC-41BA-ACDF-A0638304E638}" type="slidenum">
              <a:rPr b="0" lang="en-US" sz="1300" spc="-1" strike="noStrike">
                <a:solidFill>
                  <a:srgbClr val="5129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10160"/>
            <a:ext cx="6380280" cy="66960"/>
          </a:xfrm>
          <a:custGeom>
            <a:avLst/>
            <a:gdLst/>
            <a:ahLst/>
            <a:rect l="l" t="t" r="r" b="b"/>
            <a:pathLst>
              <a:path w="12473" h="132">
                <a:moveTo>
                  <a:pt x="12473" y="67"/>
                </a:moveTo>
                <a:lnTo>
                  <a:pt x="12473" y="0"/>
                </a:lnTo>
                <a:lnTo>
                  <a:pt x="0" y="0"/>
                </a:lnTo>
                <a:lnTo>
                  <a:pt x="0" y="132"/>
                </a:lnTo>
                <a:lnTo>
                  <a:pt x="12473" y="132"/>
                </a:lnTo>
                <a:lnTo>
                  <a:pt x="12473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99440" y="6410160"/>
            <a:ext cx="671400" cy="66960"/>
          </a:xfrm>
          <a:custGeom>
            <a:avLst/>
            <a:gdLst/>
            <a:ahLst/>
            <a:rect l="l" t="t" r="r" b="b"/>
            <a:pathLst>
              <a:path w="1314" h="132">
                <a:moveTo>
                  <a:pt x="1314" y="67"/>
                </a:moveTo>
                <a:lnTo>
                  <a:pt x="1314" y="0"/>
                </a:lnTo>
                <a:lnTo>
                  <a:pt x="0" y="0"/>
                </a:lnTo>
                <a:lnTo>
                  <a:pt x="0" y="132"/>
                </a:lnTo>
                <a:lnTo>
                  <a:pt x="1314" y="132"/>
                </a:lnTo>
                <a:lnTo>
                  <a:pt x="1314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4600" y="228600"/>
            <a:ext cx="8817120" cy="658800"/>
          </a:xfrm>
          <a:custGeom>
            <a:avLst/>
            <a:gdLst/>
            <a:ahLst/>
            <a:rect l="l" t="t" r="r" b="b"/>
            <a:pathLst>
              <a:path w="17237" h="1295">
                <a:moveTo>
                  <a:pt x="17237" y="1295"/>
                </a:moveTo>
                <a:lnTo>
                  <a:pt x="17094" y="1210"/>
                </a:lnTo>
                <a:lnTo>
                  <a:pt x="16938" y="1127"/>
                </a:lnTo>
                <a:lnTo>
                  <a:pt x="16766" y="1049"/>
                </a:lnTo>
                <a:lnTo>
                  <a:pt x="16580" y="975"/>
                </a:lnTo>
                <a:lnTo>
                  <a:pt x="16383" y="904"/>
                </a:lnTo>
                <a:lnTo>
                  <a:pt x="16172" y="837"/>
                </a:lnTo>
                <a:lnTo>
                  <a:pt x="15951" y="773"/>
                </a:lnTo>
                <a:lnTo>
                  <a:pt x="15717" y="714"/>
                </a:lnTo>
                <a:lnTo>
                  <a:pt x="15476" y="657"/>
                </a:lnTo>
                <a:lnTo>
                  <a:pt x="15223" y="605"/>
                </a:lnTo>
                <a:lnTo>
                  <a:pt x="14963" y="556"/>
                </a:lnTo>
                <a:lnTo>
                  <a:pt x="14694" y="509"/>
                </a:lnTo>
                <a:lnTo>
                  <a:pt x="14418" y="466"/>
                </a:lnTo>
                <a:lnTo>
                  <a:pt x="14136" y="426"/>
                </a:lnTo>
                <a:lnTo>
                  <a:pt x="13848" y="388"/>
                </a:lnTo>
                <a:lnTo>
                  <a:pt x="13554" y="354"/>
                </a:lnTo>
                <a:lnTo>
                  <a:pt x="13257" y="323"/>
                </a:lnTo>
                <a:lnTo>
                  <a:pt x="12956" y="294"/>
                </a:lnTo>
                <a:lnTo>
                  <a:pt x="12651" y="268"/>
                </a:lnTo>
                <a:lnTo>
                  <a:pt x="12345" y="244"/>
                </a:lnTo>
                <a:lnTo>
                  <a:pt x="12037" y="222"/>
                </a:lnTo>
                <a:lnTo>
                  <a:pt x="11728" y="204"/>
                </a:lnTo>
                <a:lnTo>
                  <a:pt x="11419" y="187"/>
                </a:lnTo>
                <a:lnTo>
                  <a:pt x="11110" y="173"/>
                </a:lnTo>
                <a:lnTo>
                  <a:pt x="10803" y="160"/>
                </a:lnTo>
                <a:lnTo>
                  <a:pt x="10498" y="150"/>
                </a:lnTo>
                <a:lnTo>
                  <a:pt x="10195" y="141"/>
                </a:lnTo>
                <a:lnTo>
                  <a:pt x="9897" y="134"/>
                </a:lnTo>
                <a:lnTo>
                  <a:pt x="9602" y="129"/>
                </a:lnTo>
                <a:lnTo>
                  <a:pt x="9312" y="126"/>
                </a:lnTo>
                <a:lnTo>
                  <a:pt x="9028" y="125"/>
                </a:lnTo>
                <a:lnTo>
                  <a:pt x="8749" y="124"/>
                </a:lnTo>
                <a:lnTo>
                  <a:pt x="0" y="124"/>
                </a:lnTo>
                <a:lnTo>
                  <a:pt x="0" y="0"/>
                </a:lnTo>
                <a:lnTo>
                  <a:pt x="17236" y="0"/>
                </a:lnTo>
                <a:lnTo>
                  <a:pt x="17237" y="1295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03920" y="6130800"/>
            <a:ext cx="138276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neuerbare Energien</a:t>
            </a:r>
            <a:br>
              <a:rPr sz="2800"/>
            </a:br>
            <a:br>
              <a:rPr sz="1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m Stand der Vorbereitungen des IPCC-Sonderberichts über Erneuerbare Energi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r Foliensatz zum gleichnamigen Hintergrundpa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tweit installierte Windkraft-Kapazitä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536840"/>
            <a:ext cx="8351640" cy="355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8200" y="5241960"/>
            <a:ext cx="73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12. Nach GW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731520"/>
            <a:ext cx="820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zehn Länder mit den größten Windkapazitäten Ende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527120"/>
            <a:ext cx="8569080" cy="391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8200" y="5805360"/>
            <a:ext cx="756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12. Nach GW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zahl an Sonnenstunden pro Ta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m für die Umwandlung ungeeignetsten Zeitpunkt des Jah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553080" cy="370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5708520"/>
            <a:ext cx="626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34. Nach: www.howto.altenergysto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49636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allierte Kapazitäten zur Stromerzeugung aus Geothermie in verschiedenen Ländern im Jahr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408720" cy="415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5950080"/>
            <a:ext cx="626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60. Nach Bertani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idenhub in Me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1058760"/>
            <a:ext cx="7626240" cy="402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033960"/>
            <a:ext cx="71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157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usreichender Tidenhub ist Voraussetzung für die Nutzung von Ozean-Energie durch Gezeitenkraft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 eines transkontinentalen "Super Grid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1527120"/>
            <a:ext cx="6335640" cy="4071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4200" y="580536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31. Nach Trieb et al.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issionsminderungspotentiale und Kos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151000"/>
            <a:ext cx="8856720" cy="170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2560" y="1287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entielle Reduktion von Treibhausgasemissionen und Kosten für den Ersatz fossiler Energieträger durch Windkraft bis 20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00536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40. Nach: 4. IPCC-Sachstandsbericht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issionsminderungspotentiale und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2873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e Kostenbereiche relevanter Emissionsminderungsmaßnahmen [in US$ pro Tonne CO2-eq. im Jahr 2030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6192720" cy="350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566100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40. Nach: 4. IPCC-Sachstandsbericht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e Neuinvestitionen in nachhaltige Energieträ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7272360" cy="3568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566100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53. Nach: New Energy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90792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Weitere Informationen im Hintergrundpapi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7720" y="2133720"/>
            <a:ext cx="81327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ww.germanwatch.org/klima/ee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924280"/>
            <a:ext cx="80010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Impres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ausgeber: Germanwatch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aktion: Dr. Gerold Kier, Dr. Manfred Tre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s Projekt wird gefördert v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440" y="4422600"/>
            <a:ext cx="1800000" cy="94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865080" cy="822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445000"/>
            <a:ext cx="5832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Verantwortung für den Inhalt dieser Veröffentlichung liegt bei den Aut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: Apri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635280" y="4622760"/>
            <a:ext cx="12970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8278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ahren der Sonderberichterstel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ril 2008: IPCC beschließt Erstellung eines Sonderberichts zu Erneuerbaren Energien (nach einem ersten Beschluss im April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nuar 2008: Orientierungs-Tagung ("Scoping Meeting") des IPCC in Lübeck mit 200 Exp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14. Dez. 2009: erster Entwurf des Sonderberic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8. Feb. 2010: 1. Begutachtungsphase (Exper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3. Mai 2010: zweiter 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28. Juni 2010: 2. Begutachtungsphase (Experten + Regier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20. Sept. 2010: Fertigstellung des Sonderberic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15. Nov. 2010: Verteilung des Berichts an Regi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z. 2010: Annahme des Sonderberichts und der Zusammenfassung für Entscheidungsträger auf Sitzung der IPCC-Arbeitsgrupp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 der Erneuerbaren für den Klimaschut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neuerbare können neben Energieeffizienz den höchsten Beitrag zum Klimaschutz l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2124000"/>
            <a:ext cx="6913800" cy="326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544500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afik: kumulierte Emissionsminderungen, die in verschiedenen Bereichen (jeweils in 4 verschiedenen Szenarien) bis 2030 und 2100 erwartet werden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elle: IPCC 2007 (AR4, WG3, Abb. SPM9, S.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des geplanten IPCC-Sonderberic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Verständnis in folgenden Bereichen beit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n unterschiedlichen Regionen vorliegende Potentiale und Auswirkungen der Klimaänderung auf diese Potentia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issionsminderungspotential der Erneuerbaren Energi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zwischen Wachstum der Erneuerbaren und weiteren Vorteilen für Nachhaltige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irkungen auf weltweite, regionale und lokale Energiesicherhe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 der Technologie und Marktsituation, weitere Entwicklungen und projizierte Umsetzungsr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dene Möglichkeiten und Beschränkungen der Integration (etwa des Stroms aus Windkraft) in das Energiesystem; dabei sind zusätzlich Energiespeicherungsoptionen einzubezieh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tschaftliche Kosten und jene für die Umwelt; Vorteile, Risiken und Auswirkungen der Umsetz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Wissenskapazität, Technologietransfer und Finanzierung in verschiedenen Region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litische Optionen und Voraussetzungen für wirksame Maßnahm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alisierung eines beschleunigten Einsatzes der Erneuerbaren Ener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CC-Workshop vom Januar 2008: Zusammenfassende Bewertung aus Sicht von German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15920"/>
            <a:ext cx="81342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Tagungsband*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ibt teilweise guten Überblick über Sachstand zu Erneuerbaren Energ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äumt der Relevanz der Erneuerbaren für Armutsbekämpfung und nachhaltige Entwicklung in Entwicklungsländern zu wenig Raum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andelt zu wenig die Risiken mancher Erneuerbarer Energiequellen (u.a. Biomasse und große Wasserkraftwerke) und der Atom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er jetzt zu erstellende Sonderbericht soll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üglich obiger Punkte nachbess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 strukturiert werden, dass er möglichst gut anschlussfähig an das Klimaregime für die Zeit nach 2012 (Kopenhagen-Abkommen)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2200" y="5742000"/>
            <a:ext cx="712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Intergovernmental Panel on Climate Change Working Group III (2008): IPCC Scoping Meeting on Renewable Energy Sources. Proceedings. Lübeck, Germany, 20-25 January 2008. Edited by Olav Hohmeyer, Tom Trittin. www.ipcc.ch/pdf/supporting-material/proc-renewables-lubeck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3020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teressante Tabellen und Abbildungen aus dem IPCC-Tagungsband zu Erneuerbaren Energ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ährliche Flüsse und Gesamtreserven erneuerbarer und nichterneuerbarer Energiequell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759280" cy="41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6560" y="5877000"/>
            <a:ext cx="626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6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orld Energy Assessment, 2000 and 2004, ***IEA, 2006, **OGJ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om aus Erneuerbaren Energien im Jahr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229360"/>
            <a:ext cx="71294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6. Zusammengestellt aus Tabellen des "Survey of Energy Sources" (WEC 200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Die Kapazität an Biomasse wird im "Survey of Energy Sources" nur im Text mit "mehr als 40 GW" angegeben. Der Leistungsbeitrag ist daher unsic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* Gewichtetes Mit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5256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istische Entwicklung der Wasserkraft in der Zukun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400720" cy="456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12000" y="1557360"/>
            <a:ext cx="2879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&gt; mögliche Kapazitäten in Europa, Nord- und Mittelamerika sowie in Australien werden bereits überwiegend genutz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&gt; in anderen Weltregionen noch großes Ausbaupotenz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19912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84. Nach IHA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19:33Z</dcterms:created>
  <dc:creator/>
  <dc:description/>
  <dc:language>en-US</dc:language>
  <cp:lastModifiedBy>Gerold Kier</cp:lastModifiedBy>
  <cp:lastPrinted>2002-12-09T16:42:57Z</cp:lastPrinted>
  <dcterms:modified xsi:type="dcterms:W3CDTF">2009-06-10T11:26:04Z</dcterms:modified>
  <cp:revision>40</cp:revision>
  <dc:subject/>
  <dc:title>Erneuerbare Energien</dc:title>
</cp:coreProperties>
</file>